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820A-8156-4343-A633-3092D07C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2600"/>
            <a:ext cx="822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6C54-BA9E-4AAC-8272-8902E69A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016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260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260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687-8E70-481F-83B7-A12CDB22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264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0160"/>
            <a:ext cx="264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0160"/>
            <a:ext cx="264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2600"/>
            <a:ext cx="264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2600"/>
            <a:ext cx="264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2600"/>
            <a:ext cx="264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8CA-A3CF-4840-9D10-F2815EC6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DFC5-7522-4B30-B793-D781B17C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701-CE15-48D9-BD31-B46BB38D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40158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0160"/>
            <a:ext cx="40158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D284-4CCE-4B28-AD0E-B5684BCC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5062-DC60-433E-99C4-B66F0C0F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03F2-50AA-4B33-8E00-332CDC7F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0160"/>
            <a:ext cx="40158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260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14D-F6E0-446C-B9A8-6F19629D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40158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016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260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F94D-6C3D-4650-9D9C-9944FDF8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016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2600"/>
            <a:ext cx="822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555-2E08-40B1-9B87-DF780F3C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A3C1-88A1-4CC5-9AA3-A07D0945F1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/22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7280" y="655272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F42D-4BA3-4C91-8C13-C244AA316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627280" y="65530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AMP Working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 Berger &lt;lberger@labn.ne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orah Brungard &lt;db3546@att.com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270-ED0D-42BA-922C-201A2C44BE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2627280" y="65530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unications Sent/Recei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4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U-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eived four Liaisons from October’s mee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mbda Switch Capable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ents on WSON Impairment Work in C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G15 OTNT Standardization Work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ments to the O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orted communications in both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yndon wi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iz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F and 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to send informal communications on Etherne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ki: http://trac.tools.ietf.org/wg/ccamp/trac/wiki/CommsLia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ckets: http://trac.tools.ietf.org/wg/ccamp/trac/repor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in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ease review the incoming documents and comment on ccamp@ietf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3D53-6857-464A-B6E7-80E1E1B7D9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2627280" y="65530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PLS-TP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PLS-TP work conti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in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PLS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WE3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CAMP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2VPN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SA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int meetings to discuss MPLS-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ear as “MPLS” and, if needed, PWE3 on the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vers all I-Ds for all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D3A4-4788-4194-B56E-3F441EA5B5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4"/>
          <p:cNvSpPr/>
          <p:nvPr/>
        </p:nvSpPr>
        <p:spPr>
          <a:xfrm>
            <a:off x="2627280" y="65530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ter updated per las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ed las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rr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C3471 – broken sectio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M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ions raised 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irs suggested offering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E83-0C17-4E4F-8D32-9F0B6DEC6E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oter Placeholder 4"/>
          <p:cNvSpPr/>
          <p:nvPr/>
        </p:nvSpPr>
        <p:spPr>
          <a:xfrm>
            <a:off x="2627280" y="65530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ing AD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 Stewart Bry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Ross for your many years of suppo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26AD-D102-47B8-9476-64B50512E6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4"/>
          <p:cNvSpPr/>
          <p:nvPr/>
        </p:nvSpPr>
        <p:spPr>
          <a:xfrm>
            <a:off x="2627280" y="65530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G Process Updates - Remi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s/Secretary moving to IETF tools (Trac) site for WG proces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al information (including list of Communications and Liaisons) moved to wik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rac.tools.ietf.org/wg/ccamp/trac/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status being tracked via Trac ticke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when document enters last call (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rac.tools.ietf.org/wg/ccamp/trac/repor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 will be assigned as owners when there are open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 and Liaisons also being tracked via ti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incoming for n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process (think wikipe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ne can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ged-in users can modify wiki and ti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 new wiki content be coordinated with chairs/secretary or via WG mail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ill become required if open modify policy is ab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80D6-0BA0-487B-B4F5-FB9CE8B282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4"/>
          <p:cNvSpPr/>
          <p:nvPr/>
        </p:nvSpPr>
        <p:spPr>
          <a:xfrm>
            <a:off x="2627280" y="65530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cum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document status is always available from http://tools.ietf.org/wg/ccamp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0018-4972-4A3A-9CAD-F0A75A7EC8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2627280" y="65530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cument Status –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FC Editor’s Que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C5787: draft-ietf-ccamp-gmpls-ason-routing-ospf (Experime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confirm-data-channel-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C5814: draft-ietf-ccamp-lsp-dp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C5817: draft-ietf-ccamp-mpls-graceful-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pc-spc-rsvpte-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gmpls-mln-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C5828: draft-ietf-ccamp-gmpls-ethernet-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gmpls-dcsc-channel-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A91E-BA8C-4B0F-8A8E-DA05E1B7E1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2627280" y="65530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cument Status-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ESG Proces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ft-ietf-ccamp-ethernet-traffic-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ft-ietf-ccamp-gmpls-ether-sv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ft-ietf-ccamp-gmpls-mef-u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ft-ietf-ccamp-lsp-hierarchy-b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AA69-A40F-4F14-BE2B-0300214EE3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2627280" y="65530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cument Status –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t WG Last C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iting on Proto write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BB-TE protocol Extensions (draft-ietf-ccamp-gmpls-ethernet-pbb-te) (needs to be refresh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through last call 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ietf-ccamp-gmpls-vcat-l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ing for update post Expert Re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ffic Engineering Database MIB (draft-ietf-ccamp-gmpls-ted-mi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0AC-4CA3-45C6-AF59-9E393DDA66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4"/>
          <p:cNvSpPr/>
          <p:nvPr/>
        </p:nvSpPr>
        <p:spPr>
          <a:xfrm>
            <a:off x="2627280" y="65530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Drafts Not on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gmpls-g-694-lambda-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more update planned, then ready to last cal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wson-impair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based on SG15 Liaison. Stat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mpls-tp-control-plane-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 be discussed in MPLS-TP session (refer to MPLS WG Ag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really joint work with PW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hernet Provider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ccamp-ethernet-gmpls-provider-reqs-02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author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ropose that document be abando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56F-DCBB-454F-8E83-045F907BEC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2627280" y="65530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th IETF Anaheim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Drafts on the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the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rwa-wson-framework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rwa-info-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rwa-wson-encode-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general-constraint-en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wson-signal-compatibility-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oam-configuration-fwk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rsvp-te-eth-oam-ext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rsvp-te-mpls-tp-oam-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424-8C65-4DE9-A700-89F5F6179F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07:15:36Z</dcterms:created>
  <dc:creator>deborah</dc:creator>
  <dc:description/>
  <dc:language>en-US</dc:language>
  <cp:lastModifiedBy>Lou Berger</cp:lastModifiedBy>
  <dcterms:modified xsi:type="dcterms:W3CDTF">2010-03-19T19:32:35Z</dcterms:modified>
  <cp:revision>200</cp:revision>
  <dc:subject/>
  <dc:title>ccamp template</dc:title>
</cp:coreProperties>
</file>