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F2453-7B2B-47F2-891C-E093013BD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21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0160"/>
            <a:ext cx="8229600" cy="245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62600"/>
            <a:ext cx="8229600" cy="245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1F0EB-63FB-4A33-9B5E-A8DC82BC1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21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0160"/>
            <a:ext cx="4015800" cy="245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0160"/>
            <a:ext cx="4015800" cy="245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62600"/>
            <a:ext cx="4015800" cy="245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62600"/>
            <a:ext cx="4015800" cy="245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E3156-2995-416A-86D2-9256B8093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21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0160"/>
            <a:ext cx="2649600" cy="245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0160"/>
            <a:ext cx="2649600" cy="245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0160"/>
            <a:ext cx="2649600" cy="245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62600"/>
            <a:ext cx="2649600" cy="245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62600"/>
            <a:ext cx="2649600" cy="245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62600"/>
            <a:ext cx="2649600" cy="245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AE558-47CC-4EFC-A132-39C4AF5B9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21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0160"/>
            <a:ext cx="8229600" cy="515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356F7-7B4F-4A07-B680-BD08AE5A0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21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0160"/>
            <a:ext cx="8229600" cy="51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88B9C-4017-446F-AB40-B3F2C7193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21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0160"/>
            <a:ext cx="4015800" cy="51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0160"/>
            <a:ext cx="4015800" cy="51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C1CCD-B853-4DCD-9438-25E5AA6E7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21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1E505-A247-4F75-8EE2-0F587488F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4392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4D81A-3454-4B6C-9FB6-F172D2516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21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0160"/>
            <a:ext cx="4015800" cy="245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0160"/>
            <a:ext cx="4015800" cy="51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62600"/>
            <a:ext cx="4015800" cy="245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ADF7A-D412-45CE-9E7D-81CCB1B2F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21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0160"/>
            <a:ext cx="4015800" cy="51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0160"/>
            <a:ext cx="4015800" cy="245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62600"/>
            <a:ext cx="4015800" cy="245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A8539-9B3A-4378-B4DD-08E1326CF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21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0160"/>
            <a:ext cx="4015800" cy="245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0160"/>
            <a:ext cx="4015800" cy="245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62600"/>
            <a:ext cx="8229600" cy="245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EB9C5-AE83-4ECA-AB6E-5594B8FB1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21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0160"/>
            <a:ext cx="8229600" cy="51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527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E1C7D-463C-4B4F-A4EE-60DD90E8510B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/22/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27280" y="6552720"/>
            <a:ext cx="3889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77th IETF Anaheim, March 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5527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5ADA2-C148-410E-987B-BE8EA7306E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2627280" y="6553080"/>
            <a:ext cx="3889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77th IETF Anaheim, March 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CAMP Working Group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ir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u Berger &lt;lberger@labn.net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borah Brungard &lt;db3546@att.com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53CE3-5B12-4469-82AD-8A9CBFD9FA3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Footer Placeholder 4"/>
          <p:cNvSpPr/>
          <p:nvPr/>
        </p:nvSpPr>
        <p:spPr>
          <a:xfrm>
            <a:off x="2627280" y="6553080"/>
            <a:ext cx="3889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77th IETF Anaheim, March 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21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ommunications Sent/Receiv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507520" cy="548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TU-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ceived four Liaisons from October’s meeti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ambda Switch Capable Equi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mments on WSON Impairment Work in CCAM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G15 OTNT Standardization Work P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nhancements to the OT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I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orted communications in both dir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yndon will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mmariz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la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EF and IE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eed to send informal communications on Ethernet docu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nk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iki: http://trac.tools.ietf.org/wg/ccamp/trac/wiki/CommsLias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ickets: http://trac.tools.ietf.org/wg/ccamp/trac/report/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mind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lease review the incoming documents and comment on ccamp@ietf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D3EBC-7A90-4CA3-BE58-5B377770240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Footer Placeholder 4"/>
          <p:cNvSpPr/>
          <p:nvPr/>
        </p:nvSpPr>
        <p:spPr>
          <a:xfrm>
            <a:off x="2627280" y="6553080"/>
            <a:ext cx="3889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77th IETF Anaheim, March 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21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MPLS-TP Mee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370160"/>
            <a:ext cx="8229600" cy="51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PLS-TP work contin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Joint 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PLS W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WE3 W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CAMP W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2VPN W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PSA W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Joint meetings to discuss MPLS-T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ppear as “MPLS” and, if needed, PWE3 on the agen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vers all I-Ds for all working grou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46480-7B1C-4F66-9E70-33B9EB79EE7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Footer Placeholder 4"/>
          <p:cNvSpPr/>
          <p:nvPr/>
        </p:nvSpPr>
        <p:spPr>
          <a:xfrm>
            <a:off x="2627280" y="6553080"/>
            <a:ext cx="3889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77th IETF Anaheim, March 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21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Other I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70160"/>
            <a:ext cx="8229600" cy="51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harter updated per last mee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osted last we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rr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FC3471 – broken section ref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MP Ques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Questions raised on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hairs suggested offering dra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10B03-0946-4224-9B33-AAF537D9856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Footer Placeholder 4"/>
          <p:cNvSpPr/>
          <p:nvPr/>
        </p:nvSpPr>
        <p:spPr>
          <a:xfrm>
            <a:off x="2627280" y="6553080"/>
            <a:ext cx="3889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77th IETF Anaheim, March 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21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outing AD Upd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370160"/>
            <a:ext cx="8229600" cy="51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lcome Stewart Bryan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anks Ross for your many years of suppor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CE549-D7EA-47AE-89D7-7D63646883D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Footer Placeholder 4"/>
          <p:cNvSpPr/>
          <p:nvPr/>
        </p:nvSpPr>
        <p:spPr>
          <a:xfrm>
            <a:off x="2627280" y="6553080"/>
            <a:ext cx="3889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77th IETF Anaheim, March 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21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G Process Updates - Remind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79280" y="1125000"/>
            <a:ext cx="878544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irs/Secretary moving to IETF tools (Trac) site for WG process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lemental information (including list of Communications and Liaisons) moved to wik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trac.tools.ietf.org/wg/ccamp/trac/wik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cument status being tracked via Trac ticket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rting when document enters last call (so fa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trac.tools.ietf.org/wg/ccamp/trac/report/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hors will be assigned as owners when there are open a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ions and Liaisons also being tracked via tick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ust incoming for now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process (think wikipedi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y one can re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ged-in users can modify wiki and tick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ggest new wiki content be coordinated with chairs/secretary or via WG mail 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ill become required if open modify policy is abu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7133F-F86B-4055-8B30-B65C52AD50E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ooter Placeholder 4"/>
          <p:cNvSpPr/>
          <p:nvPr/>
        </p:nvSpPr>
        <p:spPr>
          <a:xfrm>
            <a:off x="2627280" y="6553080"/>
            <a:ext cx="3889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77th IETF Anaheim, March 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21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Document Stat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370160"/>
            <a:ext cx="8229600" cy="51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G document status is always available from http://tools.ietf.org/wg/ccamp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9B703-ED06-4D3D-AF26-E374521E00C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Footer Placeholder 4"/>
          <p:cNvSpPr/>
          <p:nvPr/>
        </p:nvSpPr>
        <p:spPr>
          <a:xfrm>
            <a:off x="2627280" y="6553080"/>
            <a:ext cx="3889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77th IETF Anaheim, March 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21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Document Status – 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RFC Editor’s Queu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370160"/>
            <a:ext cx="8229600" cy="51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FC5787: draft-ietf-ccamp-gmpls-ason-routing-ospf (Experimen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raft-ietf-ccamp-confirm-data-channel-stat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FC5814: draft-ietf-ccamp-lsp-dp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FC5817: draft-ietf-ccamp-mpls-graceful-shutd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raft-ietf-ccamp-pc-spc-rsvpte-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raft-ietf-ccamp-gmpls-mln-exten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FC5828: draft-ietf-ccamp-gmpls-ethernet-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raft-ietf-ccamp-gmpls-dcsc-channel-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C238E-A4B0-4172-A541-8CEA31D2F77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Footer Placeholder 4"/>
          <p:cNvSpPr/>
          <p:nvPr/>
        </p:nvSpPr>
        <p:spPr>
          <a:xfrm>
            <a:off x="2627280" y="6553080"/>
            <a:ext cx="3889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77th IETF Anaheim, March 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21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Document Status-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IESG Process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370160"/>
            <a:ext cx="8229600" cy="51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raft-ietf-ccamp-ethernet-traffic-parame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raft-ietf-ccamp-gmpls-ether-sv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raft-ietf-ccamp-gmpls-mef-un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raft-ietf-ccamp-lsp-hierarchy-b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ECC0F-E6D8-49A4-A0E8-291FB1F30CA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Footer Placeholder 4"/>
          <p:cNvSpPr/>
          <p:nvPr/>
        </p:nvSpPr>
        <p:spPr>
          <a:xfrm>
            <a:off x="2627280" y="6553080"/>
            <a:ext cx="3889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77th IETF Anaheim, March 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21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Document Status – 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Post WG Last C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370160"/>
            <a:ext cx="8229600" cy="51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aiting on Proto writeup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BB-TE protocol Extensions (draft-ietf-ccamp-gmpls-ethernet-pbb-te) (needs to be refresh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ing through last call commen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ft-ietf-ccamp-gmpls-vcat-l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iting for update post Expert Review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raffic Engineering Database MIB (draft-ietf-ccamp-gmpls-ted-mi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tatu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5D250-E169-40D5-B75A-FE9D961A759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Footer Placeholder 4"/>
          <p:cNvSpPr/>
          <p:nvPr/>
        </p:nvSpPr>
        <p:spPr>
          <a:xfrm>
            <a:off x="2627280" y="6553080"/>
            <a:ext cx="3889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77th IETF Anaheim, March 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21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G Drafts Not on Agen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370160"/>
            <a:ext cx="8229600" cy="51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raft-ietf-ccamp-gmpls-g-694-lambda-lab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ne more update planned, then ready to last call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s week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raft-ietf-ccamp-wson-impair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based on SG15 Liaison. Statu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raft-ietf-ccamp-mpls-tp-control-plane-frame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ill be discussed in MPLS-TP session (refer to MPLS WG Agend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s really joint work with PWE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thernet Provider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raft-ietf-ccamp-ethernet-gmpls-provider-reqs-02.t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 authors </a:t>
            </a:r>
            <a:r>
              <a:rPr b="0" lang="en-GB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propose that document be abandon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C421E-F8D8-4D0E-8522-294352E5D75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Footer Placeholder 4"/>
          <p:cNvSpPr/>
          <p:nvPr/>
        </p:nvSpPr>
        <p:spPr>
          <a:xfrm>
            <a:off x="2627280" y="6553080"/>
            <a:ext cx="3889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77th IETF Anaheim, March 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21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G Drafts on the Agen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370160"/>
            <a:ext cx="8229600" cy="51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n the agen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raft-ietf-ccamp-rwa-wson-framework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raft-ietf-ccamp-rwa-info-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raft-ietf-ccamp-rwa-wson-encode-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raft-ietf-ccamp-general-constraint-en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raft-ietf-ccamp-wson-signal-compatibility-osp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raft-ietf-ccamp-oam-configuration-fwk-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raft-ietf-ccamp-rsvp-te-eth-oam-ext-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raft-ietf-ccamp-rsvp-te-mpls-tp-oam-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BC18B-D1A4-42EC-91B8-A6DFB5D7439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15T07:15:36Z</dcterms:created>
  <dc:creator>deborah</dc:creator>
  <dc:description/>
  <dc:language>en-US</dc:language>
  <cp:lastModifiedBy>Lou Berger</cp:lastModifiedBy>
  <dcterms:modified xsi:type="dcterms:W3CDTF">2010-03-19T19:32:35Z</dcterms:modified>
  <cp:revision>200</cp:revision>
  <dc:subject/>
  <dc:title>ccamp template</dc:title>
</cp:coreProperties>
</file>