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F3577-03D2-4AAD-A631-0470B687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78BAC-7954-4F08-9B68-065A5E6F1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59369-72C9-4C8E-BCE4-CB9CF822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D59D2-B469-428E-BF32-E5748803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234-CC7E-4226-BE87-DAC3E22D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06B-ED4A-4004-A19A-8D76B9FE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D2CD7-A5E5-468E-8D94-E90DA6D9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55F57-46A1-4748-A9E5-BE423A18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59CE5-BFA6-4E1D-B6C0-48F35F4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C3146-711C-45E2-ABB3-E7713B06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4942C-F253-4DB1-9BF1-CF02448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E1309-07BB-48FE-8FB5-36341CD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54326-A871-4BD3-B76C-6900BD7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9163E-EFB0-4EB8-BD4C-DD86644D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87856-214B-4057-9F58-266CBB3A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BAD79-EBD9-4A0C-B20E-19AFD25D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723-262A-45B3-903A-1C851912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1F0FA-8974-4BD6-AC67-D6634C03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F7CD8-F64D-4D8A-B799-2FD5DA82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20418-1301-46A6-8C7A-5418E279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A4677-5C7E-4CBA-9E92-97F1CD1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8027A-17BE-491A-90D5-6ADE04A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CF060-E598-41C2-8556-619F60D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DF225-083C-4A75-B980-AFD5630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78729-7543-4FE5-8A84-36093FC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9A17D-866E-4869-9BAA-C1322E6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EBBA3-403E-48E5-9604-A518C077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ECE-5ABA-4DB9-9CEF-574F3D96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06178-6291-41AE-A31B-FA80ADB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777BD-3976-4AC4-BB82-A29BAB4B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16AD2-783B-4A06-B1E1-596F9933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8F804-E28C-4449-9702-47C1CC57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ED41-8B56-4AB0-BB89-07F8DA6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FBB1E-EEB7-4C1C-9B56-75A4902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ACF66-37F4-4EFC-BE40-DEA3E10B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D23C8-EF92-468D-9667-D0707895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7D929-D046-48A1-A031-EEEF6BD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63D10-8F6F-4ED4-ADD9-0C918EA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F7F1-0636-4BFE-AAAC-71F8696D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AFE59-4936-4C86-8C61-9FAE2469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E197E-802F-4C67-AD13-C602EF24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1C911-932B-45A7-9184-B1036025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FB8C9-B41B-4F8E-9C47-3C3C9211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06C76-DB91-4E91-9F44-E4481432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5FA9C-9B70-4CC2-9450-D347C07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F848D-9A63-4428-A6C8-ABA83E0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6BF59-4AC0-4B02-8B60-61F84076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8A0C7-3055-4F72-9B39-0CC728B4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DC343-D6AD-4A20-8B37-B8D539B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7A71-9213-4BC9-8A67-B7482BFA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1AC3F-EBDD-449B-A26A-B009035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F0909-365D-48D1-BC33-6308E98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5624F-10E1-454E-AECA-A793D82E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A6CDC-A8AC-458E-8B89-960AD633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C07C2-0785-4FA1-874D-FABD472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E4AF-8EAC-4C5D-810E-5C4D86A3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7F07-9FB6-4E19-8D22-EA212278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F59F-1577-4E1B-8DBE-47C9621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C6B0-F6F9-48FB-B42A-22F2121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5D94-CFE2-44F3-B6ED-00E30F8C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26C-083C-41EC-A1C0-1ED60905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0D33-025C-47F8-AB50-1EBF0F30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6383-488A-485F-B1DE-4D2EE56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E4BF-A91D-49B1-974C-4BEB4083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9A74-F02D-4686-B9DC-2610EB8F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615B-EBF7-4079-8F4D-28D3BB22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3109-137B-48D0-9CFB-D9A22483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7B53-E35F-4B9B-B7FD-17EBA4F1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5908-3B77-4611-9DC1-BF8A4D63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4E6D-6475-4CE4-9A34-4ECEE295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0895-418F-4663-B4EA-206D8EF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068-3917-4E19-8999-EE6141FA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440D-0042-4F00-8DE6-B2DE8B9A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6E33-0DFB-4264-A7F7-4DFBDD3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E6CE-3718-4220-AED5-9CECBF7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4E00-FF74-48CD-8D9A-AD29E50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E078-F158-4829-AC3E-59EAC8FD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BE6C-000E-40E6-AF3E-03B47E07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2B44-5D1F-400F-8FEC-F06AFD55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6372-3EFC-4718-8FDC-77DE0DA3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824D-5651-48AF-901D-178A014C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9E22-A180-43D3-B7DD-045DF2E0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743-0E0C-41F7-864F-6E552791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1A45-EA3F-4A36-9BC2-28C98FA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33FD-DD50-4B52-971B-B2EDE21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46B4-42C1-4C3E-A01E-79E8CF6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5005-213C-4E86-A816-A12DF63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171C-C786-4A8E-9D94-4DC6151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62F7-0B63-4F06-BA70-F130F420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A7FA-63A3-480F-ACA8-4C999902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EFA3-F367-41F8-AF2C-2A848841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030B6-7FB9-4257-BA58-4D5B18B3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C1D0-8B10-46A5-B6D0-165EFEB5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98C-782F-4158-B418-2866A35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8394-8C0A-4AAC-962A-A23D9AE9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E634-1371-42DF-A388-50E437CB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6466-AF1B-4D0C-9717-4DF3F497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CED50-F449-4231-B926-911BEA50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81F5-195B-4B47-9B9C-5631624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1057-0899-4C89-A07A-EF3A45B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47D5A-402F-46FD-BF0A-144471E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ABC1-4DBE-4796-8064-F874D159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76D6B-4019-4EAA-B4D2-7BE8F3A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DC90-299A-4FD2-8654-EDA1E147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52B-9247-4577-8234-51E6C2A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655F-3B4B-41F6-953E-C962FEEA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08B6C-0350-432E-B2F6-129A9877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6AFA-D2D5-40BD-9A5A-1A9E1FD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D7094-C663-4A77-AC01-7E27A9FA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0B70B-6A42-49F6-995D-0363CE8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A7DC-9A82-4B14-980D-6B24D41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0286F-FF6D-4750-8E76-B7D1C2BE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A865-BB6E-442C-AFC9-1B94DAA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E737-6285-4244-8E7A-58995D63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8D669-8EFA-4976-A4F2-79CC004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3D6-9952-49DC-AC99-C6358D5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4747-F90B-4A1C-A7A3-73CBB60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4ECA-B688-41B8-A8A5-7AC7C708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ABBC-A4BA-4DB9-AD03-823B68D2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C7D6B-E414-46A9-8675-1DC67FDC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1FE48-D1B8-4D52-91C9-8E55457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4CEF4-5F5C-4D81-8C04-DB3A2E1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F0AE1-85D6-44BF-BF57-472CCFE7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64A2-ACAF-49F6-A068-7693C0F8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4661-E858-4A7F-9588-0B40656D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CA382-B320-494F-8BE0-EC9D0B85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45A-1075-42AD-811B-59EAE8E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C58A-684F-49B5-97A5-AB39D10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BFF82-303C-43EE-9A7F-5F5D6C53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687C-8CEE-4C49-B0D2-AFC53D10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C589-A658-422F-A01E-06854426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651BD-F647-46B0-A8CF-F89A2064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DE96E-6797-4EDE-A74E-3A6294E7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04026-658E-4DB7-BCED-C0EFD1E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EF275-49D0-4AEE-A9E3-9A26F1E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506B8-980E-4FD1-83AC-7175D36E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0733D-5558-40E6-BF56-63C671E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2A3-6FE8-46AD-A5DE-F3B089A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B515-FCBC-4518-B4D8-5E8408A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F14F9-4314-4234-8B75-D76AA00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D91A9-D7B9-4579-9FF5-885288F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EF85-1253-4573-8427-78B25126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D849E-4703-4243-9E4B-F9EBE99E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6874-9285-4FF8-B9B9-488B91D7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6E1E2-742D-4489-A34A-50B85587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5107A-FC30-4DD7-803A-2B06E99E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179F-24ED-43E1-A31C-47B46882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B05CA-8523-431C-9130-E3D36736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1-27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FT 77 -  Anahe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E3A6F-D6B3-4F98-9EF7-D90016B8C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C96B9-DCB0-4226-B375-C1649C70F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F3EEB-AF53-40CA-965E-83038C0EC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6E4EB-7D04-4798-B8B4-E0B377461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7DD52-8FD3-4A70-AAD6-B010C06E0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1-27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77 - Anahe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. </a:t>
            </a:r>
            <a:fld id="{6E53FC37-68F8-44F7-8F76-EABAEF63B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E10E5-7DDF-40EA-A6DD-ED2E7E021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CBD6D-2067-4048-8535-EF3C37AD4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DACAE-A439-4572-B6F1-16C11EC07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5ABFE-ADAE-47D0-8ADA-B398A5770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1-27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77 Anahe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B806E-0A98-4DA5-B297-7836D845C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2B007-0183-4A19-9BAE-731FD5B2D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Link Information Model for WSON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schroetter-wson-ospf-link-info-0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k Schroetter @ Cisco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ovanni Martinelli @ Cisco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FT 77 - Anaheim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Sublink Administrative Gro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16080" y="4389480"/>
            <a:ext cx="9069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 an Administrative Group with a sub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format as RFC3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1646280"/>
            <a:ext cx="10080720" cy="18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Sublink ID  |                 Reserved  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   Administrative Group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70920" cy="129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5724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more granular approach compared to what currently available in WSON routing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rtition the link in wavelength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to RWA algorithm to associate wavelength to a certain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some typical WSON Use-Case scenarios to we are trying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s in addition to current WSON propo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29920" y="120240"/>
            <a:ext cx="90709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1: Requires specific wavelengths on a given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15720" y="18745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gnals that require specific wavelengths on a given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0" y="2941560"/>
            <a:ext cx="1008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  | WL 1 |                    L   |  | WL 1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     | WL 2 |                    I   |  | WL 2 |   Sublink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 for 10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| WL 3 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N   |  | WL 4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      | WL 4 |                    K  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| WL 3 |  Sublink 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 for 40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2: Wavelengths reserved for specific 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20280" y="1539720"/>
            <a:ext cx="9069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Administrativ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G=3 Only for backup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0" y="2917800"/>
            <a:ext cx="1008072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  | WL 1 |                    L   |  | WL 1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Sublink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for 10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with AG=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     | WL 2 |                    I   |  | WL 2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    | WL 3 |                    N   |  | WL 3 |  Sublink 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for 40G AG=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K      | WL 4 |                    K   |  | WL 4 |  Sublink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                       |  +------+  for AG=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3: Wavelength Availability based on adjacent channel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02920" y="1767960"/>
            <a:ext cx="9069480" cy="13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assignment may depend on client signals already in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96960" y="3627360"/>
            <a:ext cx="1143000" cy="259092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107040" y="3627360"/>
            <a:ext cx="1143000" cy="259092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Straight Connector 7"/>
          <p:cNvSpPr/>
          <p:nvPr/>
        </p:nvSpPr>
        <p:spPr>
          <a:xfrm>
            <a:off x="1839960" y="385596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Straight Connector 9"/>
          <p:cNvSpPr/>
          <p:nvPr/>
        </p:nvSpPr>
        <p:spPr>
          <a:xfrm>
            <a:off x="1839960" y="4160880"/>
            <a:ext cx="4267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Straight Connector 10"/>
          <p:cNvSpPr/>
          <p:nvPr/>
        </p:nvSpPr>
        <p:spPr>
          <a:xfrm>
            <a:off x="1839960" y="537840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Straight Connector 11"/>
          <p:cNvSpPr/>
          <p:nvPr/>
        </p:nvSpPr>
        <p:spPr>
          <a:xfrm>
            <a:off x="1839960" y="560700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Straight Connector 12"/>
          <p:cNvSpPr/>
          <p:nvPr/>
        </p:nvSpPr>
        <p:spPr>
          <a:xfrm>
            <a:off x="1839960" y="583560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Straight Connector 13"/>
          <p:cNvSpPr/>
          <p:nvPr/>
        </p:nvSpPr>
        <p:spPr>
          <a:xfrm>
            <a:off x="1839960" y="6066000"/>
            <a:ext cx="4267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Straight Connector 15"/>
          <p:cNvSpPr/>
          <p:nvPr/>
        </p:nvSpPr>
        <p:spPr>
          <a:xfrm>
            <a:off x="1839960" y="4692600"/>
            <a:ext cx="4267080" cy="180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Arc 17"/>
          <p:cNvSpPr/>
          <p:nvPr/>
        </p:nvSpPr>
        <p:spPr>
          <a:xfrm flipV="1" rot="5400000">
            <a:off x="3668760" y="5456160"/>
            <a:ext cx="137160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Arc 18"/>
          <p:cNvSpPr/>
          <p:nvPr/>
        </p:nvSpPr>
        <p:spPr>
          <a:xfrm flipV="1" rot="5400000">
            <a:off x="4240080" y="3741840"/>
            <a:ext cx="99072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Box 19"/>
          <p:cNvSpPr/>
          <p:nvPr/>
        </p:nvSpPr>
        <p:spPr>
          <a:xfrm>
            <a:off x="3980160" y="3246480"/>
            <a:ext cx="1521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SET 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TextBox 20"/>
          <p:cNvSpPr/>
          <p:nvPr/>
        </p:nvSpPr>
        <p:spPr>
          <a:xfrm>
            <a:off x="3827520" y="6504120"/>
            <a:ext cx="1521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SET 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TextBox 21"/>
          <p:cNvSpPr/>
          <p:nvPr/>
        </p:nvSpPr>
        <p:spPr>
          <a:xfrm>
            <a:off x="7554960" y="3551400"/>
            <a:ext cx="220968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w Link Installed with spectrum constrain  (e.g. 40g vs 10g channels)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sub-TLVs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propose several sub-TLVs for the Link TL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blink Wavelength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blink Modulation Format Compatibility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gnal Dependency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ublink Administr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ublink wavelength s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2920" y="4312800"/>
            <a:ext cx="906948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wavelenth set must be defined for a sub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allow using label set or bitmap as defined for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2103480"/>
            <a:ext cx="10080720" cy="18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Sublink ID  |    Encoding   |          Reserved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                 Wavelength Descriptor                      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Modulation Format Compatibility S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02920" y="4694400"/>
            <a:ext cx="906948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ssociate different modulation formats to a sub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0" y="1798560"/>
            <a:ext cx="1008072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Sublink ID   |     Encoding  |          Reserved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     Modulation Type 1 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                      Modulation Type N                     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ignal dependency S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2920" y="3855600"/>
            <a:ext cx="906948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wavelength blocking within a sub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1417680"/>
            <a:ext cx="10080720" cy="21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   Modulation Type     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Grid |  C.S  |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Lower Excurs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Grid |  C.S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| Upper Excurs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7:02:20Z</dcterms:created>
  <dc:creator/>
  <dc:description/>
  <dc:language>en-US</dc:language>
  <cp:lastModifiedBy>Giovanni Martinelli</cp:lastModifiedBy>
  <dcterms:modified xsi:type="dcterms:W3CDTF">2010-03-20T12:44:13Z</dcterms:modified>
  <cp:revision>31</cp:revision>
  <dc:subject/>
  <dc:title>Slide 1</dc:title>
</cp:coreProperties>
</file>