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dt" idx="37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8F6DE-CBB9-4E3C-81D0-D06AC00F8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493FA-BC0A-4CC3-AD41-2259A16F7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B9996-92F6-42BA-8494-BE79D79DA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CA44D-7016-4CCE-9FC8-48EEA26A3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F0F-FEC5-4FCD-8B33-D0425A90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8FC-C907-4F92-A2A4-F659E0DF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1FD7C-03EB-424D-9374-F4E77536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CCABB-1488-4F2E-BA64-A19F6C9C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D2E2F-3595-405B-B54D-20D2E7EF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FBBB8-4DBB-4127-AE13-F482F3B6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96BBD-CBDC-4F52-8B39-87AF35F3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14D9B-924B-4082-8EFD-D9D8F904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714FB-EBF8-4474-8620-C4A37460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80FD1-8E01-4009-A176-0F004F4C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D6033-4C17-4327-AC8E-2EBF75A9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E348F-EE2F-4957-A04F-FA5DFA32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63B0-1E70-416B-B81D-836B29E5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16E23-A487-41BA-BD0B-3C359B5A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8316A-6C8D-418E-9BC3-48DB1FA4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04DBB-16C0-4F6A-AA80-B86095BA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39588-85D8-4EC1-B977-EFB56903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1808E-31C2-4F11-A237-62FD8206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FCC25-759E-4DCB-89B6-896454EE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774DC-46B8-4349-A43B-BC68C5C5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AFA60-2BEC-4BCA-BCEC-1EC4F726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A1A60-B681-4BCF-9292-02FDBD90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87B69-BB8F-40B6-AA3E-603351F1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432-0FBF-4B31-98D0-FB713EB3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FC331-5B00-4B45-B169-99BB5AA6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D50B5-CF53-4CCD-A999-7DDA58FA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0FEB7-CF7D-4FBF-9E26-B78FB1C7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774B5-3B42-4F53-954D-A0944374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E2373-5139-4AD7-98CB-DA5BE0D1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6B7CC-381D-4412-A12F-A2FE45C3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FB0B6-4666-494A-97B2-C2CBFF7F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55AB0-57DD-41C5-B542-9A127E91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7F98B-882F-4A36-B20C-170570E9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5AF7C-0D3A-462F-AF03-14F2E5CD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DBC1-6ADC-4082-A6BB-838C9F70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3A05E-693B-42E3-B651-543A784F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ADCFB-A0EF-4292-ACD5-EBB3BB08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A3970-8536-4503-B87D-88FC776D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9FE1A-EEAB-4647-A01E-77DA9695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D4371-FD86-4521-ABA9-6B0B22DA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E7C2E-91FF-4369-9F04-5DFFA278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64AFE-F5B0-4BBA-9146-6C256A93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60056-161B-48A4-8CE4-89A3E85F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03F8D-0836-4AA1-BF33-E12E3A13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CD0F9-66A0-48F1-9BCB-A75314BB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D66D-2EEC-4731-BCF8-AC9E2312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F858F-3F8A-4A0B-82BB-88361186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97A67-AAC9-46BF-88DA-9B0E6028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60A25-B90F-498F-A387-6021091E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26A38-3B4E-4FFB-9765-57309D8C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403D2-1E7D-4F73-9C48-F4572E25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0AC0-1A73-484F-B4CE-89EF0B50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176D-BA2F-47BD-A73D-A1C55EBF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399A-3E4C-4DE8-9A2E-7D141E24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D228-BB06-4C52-8B90-BFDFAF18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14D7-DC6D-4997-AF25-3996FAE4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429-EB68-46AC-942A-CDC7CECB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A4BA-BDDC-47D2-B07E-B86B75B7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1347-A411-45A3-AEC3-5DAEA3B9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957F-991E-4098-AA99-71104772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F247-0210-47D9-AB77-5D784007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9A8C-AADC-4E72-B1AA-1BCA68C5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BD6D2-946C-437F-8D56-F1CD7120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518B3-B185-4936-B3BE-F1D16FDC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180CF-75AF-4D39-9DE5-D17484A8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4C88E-EEDF-4C86-9FC2-545B94CC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448AB-836E-484D-BFA7-3E6731F0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3A6-3B51-4074-80B0-9F0F127A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7D014-D18A-4ED5-91AB-2551C7D9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6480F-FB56-494B-B3A4-8AFF50DA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5C984-F9BA-409C-9A50-5908B73D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F4581-F055-4FD8-B9D0-1FB38EC9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5A847-3AA7-424E-9082-796646DE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8ADA1-D0D3-4BB6-A6CD-6124E526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CF076-CB0C-407F-AEF5-8D62DBE2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A9933-BD0C-4CBE-A92C-9317A546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E5931-9140-444A-B0D1-496A0F12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42773-A975-43BA-8083-350A3441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AB2-37A1-4424-9188-AC0154BA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BB612-695C-4F54-B228-02E1CE13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9EC8C-B04D-4BE5-B926-69D82205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87456-4738-4B97-88F9-9174557D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C9BA5-447B-4D2A-9E21-B42A69B0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ECC09-4346-459A-9226-CD4784FA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FE118-1AAE-44DE-92AE-9320B311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958EE-D4A5-4D74-9D25-2B9468E7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B209C-479E-4605-B928-B15153DE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EF746-D370-463A-AE35-704974B4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76B40-84A9-4E43-B022-DD3AA890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EBE-6286-4506-AD54-6032F782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B63BE-9D23-4E37-9DB2-EE65D0FA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0DC31-27F6-49C3-9460-569C2887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4DB7B-7235-4692-85C8-FBCD0F37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CF7E8-F9B9-4CFA-B7C1-08437927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10390-8322-4D61-877F-BDB88CB9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0B3F6-CE4F-45D4-B796-18485E6D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94052-29AF-454B-9CAC-F01017C6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38FE5-4CC7-4A63-95E3-974B1A28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5C47C-E251-45AC-BF28-12B80BB0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EC05A-56F7-407D-AD59-F199E33D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D07-C9A1-464D-9F1A-4F4B9F26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CEA73-0530-48C1-9B6F-F43B5E7A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8175A-21B9-4952-9ED4-EF1BA082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DAC3F-960A-4707-9FEF-00B67D24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47143-024F-4DF4-B215-32351DA4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D28DD-784F-4BF8-9081-B156EF42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BEC9B-47AF-48B1-B40A-8F84E4F6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D253B-82FB-4CEA-9641-A3A400C5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CB8B3-0582-4B13-AF68-2E06396E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B2478-C2CC-4BDF-93AD-0615959F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012B4-33D2-4502-A8F9-24F3C6F3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A64-0729-4A31-ACCB-993E43A2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B2493-BB04-4266-BD56-3A6C359A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1CC4C-5B68-4E40-B37B-4A9CB929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1DC80-E6E6-4B3D-B728-696721BD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259CB-5B55-496B-8A93-C880602D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134C2-8D9F-4106-987D-EF4554EF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42983-B274-4F2E-9582-64B81C4D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CDC7F-5233-4967-8920-42DC4DF5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D7474-17D7-4065-822C-E9EE7647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CC61B-4023-4BED-9AFA-BA441573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2F295-CD46-45A6-9F62-8C360F90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A6B-C100-4DC9-85F4-E7ABA26D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87B41-F337-4C6D-AFD4-46BF7E42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4CBA4-BE06-42F5-8FDC-C8212CCC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FA351-179B-45E1-A3B5-AEAA2C7B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21643-5793-44C9-83CE-C8DFDB90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FE5E7-D494-4AD1-9D39-28C0B0C9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6B497-24D4-4D49-857B-D6DB4974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A1A24-0684-4E5F-BDAA-1BF5EE45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4F851-8E40-4F62-AA02-0DFE98D1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CB553-E660-481E-8287-7863BAE6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188CA-9311-4B53-8C5D-27F9E0DA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5BB-14CD-4DA1-97C4-0F532DC3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E556C-14BB-4347-AB44-CD7C0309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DD05A-D882-4273-B4CF-1D2B65F4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76586-9002-43DA-821C-0C7B3AD8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3359C-E101-4832-9DCF-7E9ADEB4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EC260-6898-4461-A544-A71BF18B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BCC9D-4248-428C-905A-26B892E4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65FD5-49E4-4E96-8051-CD81D574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3EF54-19CB-400A-8103-8A755276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EF842-B8FD-4094-B519-71CD6CD6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0E70D-6936-4DC8-AECA-EA7C43BE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1-27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FT 77 -  Anahe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040BD-C7DB-49CC-9F56-2D18B83AB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EC1B6-DF80-46A3-A337-1784C6EDD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D338C-FFF7-43CD-B8F6-4F34B37DA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C10B5-C4FF-4616-A4E4-DDFBAB9C3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39F0C-8EB9-4609-8F50-9A2391C07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1-27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77 - Anahe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. </a:t>
            </a:r>
            <a:fld id="{7108ED82-617F-426F-A599-A8F3C6ED6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8CB2F-9E79-4C9D-B050-30F6D9E14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DAEDA-9E79-4159-9A12-777C30523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532D9-3EBA-45C8-8523-F32149A52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9C893-2357-4A65-BBC7-ED8B8ED16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1-27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77 Anahe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2961C-CBEA-4E75-A5D7-E36FD3993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906A8-9761-4800-9F45-7810EA239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 Link Information Model for WSON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schroetter-wson-ospf-link-info-00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k Schroetter @ Cisco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ovanni Martinelli @ Cisco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FT 77 - Anaheim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Sublink Administrative Grou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16080" y="4389480"/>
            <a:ext cx="90691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 an Administrative Group with a subl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format as RFC36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1646280"/>
            <a:ext cx="10080720" cy="18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Sublink ID  |                 Reserved                     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                    Administrative Group                   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70920" cy="1298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5724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 a more granular approach compared to what currently available in WSON routing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Partition the link in wavelength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 to RWA algorithm to associate wavelength to a certain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some typical WSON Use-Case scenarios to we are trying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s in addition to current WSON propos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29920" y="120240"/>
            <a:ext cx="907092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 1: Requires specific wavelengths on a given 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15720" y="18745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signals that require specific wavelengths on a given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0" y="2941560"/>
            <a:ext cx="10080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-----------          ------+------------------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      | WL 1 |                    L   |  | WL 1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      | WL 2 |                    I   |  | WL 2 |   Sublink 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   for 10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+------+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|  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| WL 3 |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N   |  | WL 4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+------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|  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------------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      | WL 4 |                    K  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| WL 3 |  Sublink 2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+------+  for 40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-----------          ------+------------------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 2: Wavelengths reserved for specific u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20280" y="1539720"/>
            <a:ext cx="9069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1000"/>
          </a:bodyPr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ge Administrativ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G=3 Only for backup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0" y="2917800"/>
            <a:ext cx="1008072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-----------          ------+------------------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      | WL 1 |                    L   |  | WL 1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  Sublink 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         for 10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  with AG=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      | WL 2 |                    I   |  | WL 2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------------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     | WL 3 |                    N   |  | WL 3 |  Sublink 2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+                        |  +------+  for 40G AG=2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-------------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+------+                        |  +-----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K      | WL 4 |                    K   |  | WL 4 |  Sublink 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+------+                        |  +------+  for AG=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-----------          ------+------------------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 3: Wavelength Availability based on adjacent channel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502920" y="1767960"/>
            <a:ext cx="9069480" cy="13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ngth assignment may depend on client signals already in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96960" y="3627360"/>
            <a:ext cx="1143000" cy="2590920"/>
          </a:xfrm>
          <a:prstGeom prst="rect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107040" y="3627360"/>
            <a:ext cx="1143000" cy="2590920"/>
          </a:xfrm>
          <a:prstGeom prst="rect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2" name="Straight Connector 7"/>
          <p:cNvSpPr/>
          <p:nvPr/>
        </p:nvSpPr>
        <p:spPr>
          <a:xfrm>
            <a:off x="1839960" y="3855960"/>
            <a:ext cx="426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3" name="Straight Connector 9"/>
          <p:cNvSpPr/>
          <p:nvPr/>
        </p:nvSpPr>
        <p:spPr>
          <a:xfrm>
            <a:off x="1839960" y="4160880"/>
            <a:ext cx="4267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4" name="Straight Connector 10"/>
          <p:cNvSpPr/>
          <p:nvPr/>
        </p:nvSpPr>
        <p:spPr>
          <a:xfrm>
            <a:off x="1839960" y="5378400"/>
            <a:ext cx="426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5" name="Straight Connector 11"/>
          <p:cNvSpPr/>
          <p:nvPr/>
        </p:nvSpPr>
        <p:spPr>
          <a:xfrm>
            <a:off x="1839960" y="5607000"/>
            <a:ext cx="426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6" name="Straight Connector 12"/>
          <p:cNvSpPr/>
          <p:nvPr/>
        </p:nvSpPr>
        <p:spPr>
          <a:xfrm>
            <a:off x="1839960" y="5835600"/>
            <a:ext cx="426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Straight Connector 13"/>
          <p:cNvSpPr/>
          <p:nvPr/>
        </p:nvSpPr>
        <p:spPr>
          <a:xfrm>
            <a:off x="1839960" y="6066000"/>
            <a:ext cx="4267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Straight Connector 15"/>
          <p:cNvSpPr/>
          <p:nvPr/>
        </p:nvSpPr>
        <p:spPr>
          <a:xfrm>
            <a:off x="1839960" y="4692600"/>
            <a:ext cx="4267080" cy="180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9" name="Arc 17"/>
          <p:cNvSpPr/>
          <p:nvPr/>
        </p:nvSpPr>
        <p:spPr>
          <a:xfrm flipV="1" rot="5400000">
            <a:off x="3668760" y="5456160"/>
            <a:ext cx="137160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0" name="Arc 18"/>
          <p:cNvSpPr/>
          <p:nvPr/>
        </p:nvSpPr>
        <p:spPr>
          <a:xfrm flipV="1" rot="5400000">
            <a:off x="4240080" y="3741840"/>
            <a:ext cx="99072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1" name="TextBox 19"/>
          <p:cNvSpPr/>
          <p:nvPr/>
        </p:nvSpPr>
        <p:spPr>
          <a:xfrm>
            <a:off x="3980160" y="3246480"/>
            <a:ext cx="15217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K SET 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2" name="TextBox 20"/>
          <p:cNvSpPr/>
          <p:nvPr/>
        </p:nvSpPr>
        <p:spPr>
          <a:xfrm>
            <a:off x="3827520" y="6504120"/>
            <a:ext cx="15217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K SET 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3" name="TextBox 21"/>
          <p:cNvSpPr/>
          <p:nvPr/>
        </p:nvSpPr>
        <p:spPr>
          <a:xfrm>
            <a:off x="7554960" y="3551400"/>
            <a:ext cx="220968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ew Link Installed with spectrum constrain  (e.g. 40g vs 10g channels)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 sub-TLVs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propose several sub-TLVs for the Link TL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blink Wavelength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ublink Modulation Format Compatibility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ignal Dependency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ublink Administrativ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ublink wavelength s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02920" y="4312800"/>
            <a:ext cx="906948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one wavelenth set must be defined for a sub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ing allow using label set or bitmap as defined for w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0" y="2103480"/>
            <a:ext cx="10080720" cy="18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Sublink ID  |    Encoding   |          Reserved            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                   Wavelength Descriptor                      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Modulation Format Compatibility S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502920" y="4694400"/>
            <a:ext cx="906948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associate different modulation formats to a sub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0" y="1798560"/>
            <a:ext cx="10080720" cy="26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Sublink ID   |     Encoding  |          Reserved            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                      Modulation Type 1                    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                        Modulation Type N                     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18360" bIns="1836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Signal dependency S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2920" y="3855600"/>
            <a:ext cx="9069480" cy="29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wavelength blocking within a subl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0" y="1417680"/>
            <a:ext cx="10080720" cy="21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                    Modulation Type                        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Grid |  C.S  |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Lower Excurs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Grid |  C.S 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| Upper Excurs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7:02:20Z</dcterms:created>
  <dc:creator/>
  <dc:description/>
  <dc:language>en-US</dc:language>
  <cp:lastModifiedBy>Giovanni Martinelli</cp:lastModifiedBy>
  <dcterms:modified xsi:type="dcterms:W3CDTF">2010-03-20T12:44:13Z</dcterms:modified>
  <cp:revision>31</cp:revision>
  <dc:subject/>
  <dc:title>Slide 1</dc:title>
</cp:coreProperties>
</file>