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FEDB-F2B5-46E8-902C-04B89C852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FCCC-2669-43B6-9FA2-F9449C9BF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FE3-9A5A-4B0E-BE68-3C42E5A7D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6E60-1120-46F7-9A93-2B2C63A98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F409-1B20-4B25-85EA-FF91BEF76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4233-B5A2-43A8-B603-1E2341188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ADB4-68DD-4273-A384-F3D526361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789C-B275-4DA4-B025-181E6A3A5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B744-6A5B-40E0-8073-76ABF62FD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C8DD-7CC3-4075-A2C7-FB96F52B0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BD42-39CB-43AB-A97A-52DAF980F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63C0-D933-4191-9CDD-33D473C69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55680" y="6470640"/>
            <a:ext cx="38116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D55-6F55-4248-A517-6929C3F357A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| OSPF-TE extensions for WSON | IETF 77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84400" y="6450120"/>
            <a:ext cx="3575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61400" y="6515280"/>
            <a:ext cx="272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raft-peloso-ccamp-wson-opsf-oeo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920" y="2463480"/>
            <a:ext cx="62578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169920" indent="0"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09680" algn="ctr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3" marL="1028880" indent="309240" algn="ctr">
              <a:lnSpc>
                <a:spcPts val="13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374840" indent="311040" algn="ctr">
              <a:lnSpc>
                <a:spcPts val="1397"/>
              </a:lnSpc>
              <a:spcAft>
                <a:spcPts val="601"/>
              </a:spcAft>
              <a:buClr>
                <a:srgbClr val="000000"/>
              </a:buClr>
              <a:buFont typeface="Futura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374840" indent="311040">
              <a:spcBef>
                <a:spcPts val="34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374840" indent="311040">
              <a:spcBef>
                <a:spcPts val="34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2498400"/>
            <a:ext cx="85345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626"/>
              </a:spcBef>
              <a:spcAft>
                <a:spcPts val="2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OSPF Extensions in support of O-E-O pools in GMPLS controlled all-optical networks</a:t>
            </a: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333333"/>
                </a:solidFill>
                <a:latin typeface="Trebuchet MS"/>
              </a:rPr>
              <a:t>draft-peloso-ccamp-wson-ospf-oeo-0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3080" y="5001840"/>
            <a:ext cx="8481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indent="0" algn="just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Pierre Peloso, Julien Meuric, Giovanni Martinelli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WDM nod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Trebuchet MS"/>
              </a:rPr>
              <a:t>Node Attribute TLV (top level TLV : type 5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4 (RI-LSA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941400" indent="-16344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Node Local Addres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draft-ietf-ospf-te-node-add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cal IP Address of the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-16344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00"/>
                </a:solidFill>
                <a:latin typeface="Trebuchet MS"/>
              </a:rPr>
              <a:t>Connectivity Matrix</a:t>
            </a:r>
            <a:r>
              <a:rPr b="0" i="1" lang="en-US" sz="1400" spc="-1" strike="noStrike" baseline="30000">
                <a:solidFill>
                  <a:srgbClr val="009900"/>
                </a:solidFill>
                <a:latin typeface="Trebuchet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ption of connectivity constraints of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he node, both spatial and spect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94140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nnectivity matrix shall list interfaces of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98320" indent="-188640">
              <a:lnSpc>
                <a:spcPts val="1998"/>
              </a:lnSpc>
              <a:spcAft>
                <a:spcPts val="799"/>
              </a:spcAft>
              <a:buClr>
                <a:srgbClr val="b2b2b2"/>
              </a:buClr>
              <a:buFont typeface="Arial"/>
              <a:buChar char="•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coming and outgoing WDM link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8320" indent="-188640">
              <a:lnSpc>
                <a:spcPts val="1998"/>
              </a:lnSpc>
              <a:spcAft>
                <a:spcPts val="799"/>
              </a:spcAft>
              <a:buClr>
                <a:srgbClr val="b2b2b2"/>
              </a:buClr>
              <a:buFont typeface="Arial"/>
              <a:buChar char="•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EO po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CFF0-E278-4475-B4A3-BF20563E05B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OEO resourc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371160" indent="-21636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 Link TLV (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top level TLV : type 3R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1 (TE-LSA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Pool ID</a:t>
            </a:r>
            <a:r>
              <a:rPr b="0" i="1" lang="en-US" sz="1400" spc="-1" strike="noStrike" baseline="30000">
                <a:solidFill>
                  <a:srgbClr val="006600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D of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Traffic engineering metric</a:t>
            </a:r>
            <a:r>
              <a:rPr b="0" i="1" lang="en-US" sz="1400" spc="-1" strike="noStrike" baseline="30000">
                <a:solidFill>
                  <a:srgbClr val="0000cc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source class/col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dministrativ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Local/Remote Identifie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8 Byte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wo identifiers identifying interfaces at bo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nds of the link (values local to related nod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rebuchet MS"/>
              </a:rPr>
              <a:t>Ingress Available wavelengt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 to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Egress Available wavelengt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 from the p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rebuchet MS"/>
              </a:rPr>
              <a:t>Ingress Transponder inf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xed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D and features of ingress side of a OEO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Egress Transponder inf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xed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D and features of egress side of an OEO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-14868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Shared Risk Link Groups (SRLGs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Group of common risks (e.g. same shel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5644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7116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Transponder info shall describe the features of OEO devices and there shall be a list of those (as many instances as OEO devices in the pool). It contains a description of the features of a given device: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Local Device ID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Signal compatibility features (modulation format, bit-rate, etc…)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544320" indent="-171360">
              <a:lnSpc>
                <a:spcPct val="100000"/>
              </a:lnSpc>
              <a:spcAft>
                <a:spcPts val="349"/>
              </a:spcAft>
              <a:buClr>
                <a:srgbClr val="333333"/>
              </a:buClr>
              <a:buFont typeface="Wingdings" charset="2"/>
              <a:buChar char=""/>
              <a:tabLst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Arial"/>
              </a:rPr>
              <a:t>Wavelength that can be handled by the devic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37116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439092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</a:rPr>
              <a:t>Need to get a new type of top TLV from IANA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29C4-E5B0-4683-A2F2-6104960DFB97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This draft presents a solution to address the flooding of information through OSPF-TE to provide a graph that can be exploited to compute both the spatial and spectral assignment of a LSP into WSON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Next step: Get a CCAMP feedback on the content of this solution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84FD-8B15-4DD5-906F-180C4B43507A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Questions and discu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59BD-BE3C-4929-9362-D72904313D1F}" type="slidenum">
              <a:t>13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Rationales for this work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just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Target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Flooding of information through OSPF-TE to provide a graph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to compute both spatial and spectral assignment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of a LSP into an all-optical meshed network (WSON).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marL="318960" indent="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rebuchet MS"/>
              </a:rPr>
              <a:t>Issues to solve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Not only flooding of wavelength availability inside links, but also: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1" marL="476640" indent="-318600" algn="just">
              <a:lnSpc>
                <a:spcPct val="100000"/>
              </a:lnSpc>
              <a:spcAft>
                <a:spcPts val="601"/>
              </a:spcAft>
              <a:buClr>
                <a:srgbClr val="333333"/>
              </a:buClr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Switching constraints (spatial and spectral) inside nodes (between links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1" marL="476640" indent="-318600" algn="just">
              <a:lnSpc>
                <a:spcPct val="100000"/>
              </a:lnSpc>
              <a:spcAft>
                <a:spcPts val="601"/>
              </a:spcAft>
              <a:buClr>
                <a:srgbClr val="333333"/>
              </a:buClr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Description of O-E-O resources inside nodes (for regeneration or conversion purposes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availability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featur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  <a:p>
            <a:pPr lvl="2" marL="664200" indent="-282960" algn="just">
              <a:lnSpc>
                <a:spcPct val="100000"/>
              </a:lnSpc>
              <a:spcAft>
                <a:spcPts val="150"/>
              </a:spcAft>
              <a:buClr>
                <a:srgbClr val="333333"/>
              </a:buClr>
              <a:buFont typeface="Wingdings" charset="2"/>
              <a:buChar char="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rebuchet MS"/>
              </a:rPr>
              <a:t>Their accessibility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7BD5-A7B6-4DEB-9CA4-474D5FB67113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ummarizing table of information to be conveyed through IGP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Links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avelength availa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0"/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Node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hysical switching constraints for node bypas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pectral switching constraints for node bypas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availability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ynam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feature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ignal features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Wavelengths that can be handled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-287640">
              <a:lnSpc>
                <a:spcPct val="100000"/>
              </a:lnSpc>
              <a:spcAft>
                <a:spcPts val="224"/>
              </a:spcAft>
              <a:buClr>
                <a:srgbClr val="969696"/>
              </a:buClr>
              <a:buFont typeface="Wingdings" charset="2"/>
              <a:buChar char="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generators/converters accessi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patial 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tatic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99760" indent="-255600">
              <a:lnSpc>
                <a:spcPct val="100000"/>
              </a:lnSpc>
              <a:spcAft>
                <a:spcPts val="201"/>
              </a:spcAft>
              <a:buClr>
                <a:srgbClr val="969696"/>
              </a:buClr>
              <a:buFont typeface="Wingdings" charset="2"/>
              <a:buChar char="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spectral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dynamic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3056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0">
              <a:lnSpc>
                <a:spcPct val="100000"/>
              </a:lnSpc>
              <a:spcAft>
                <a:spcPts val="224"/>
              </a:spcAft>
              <a:buNone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288000" indent="-288000">
              <a:lnSpc>
                <a:spcPct val="100000"/>
              </a:lnSpc>
              <a:spcAft>
                <a:spcPts val="224"/>
              </a:spcAft>
              <a:buClr>
                <a:srgbClr val="ffcc00"/>
              </a:buClr>
              <a:buFont typeface="Futura Md BT"/>
              <a:buChar char=" "/>
              <a:tabLst>
                <a:tab algn="l" pos="812880"/>
                <a:tab algn="r" pos="8077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ext slides provide examples of architectures that illustrate the different node related featur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A759-5A97-415D-B952-A214684B0C7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ully flexible Y-node with 1 tunable and flexible pool of O-E-O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82888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888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888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776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684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684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88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8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9800" y="1676520"/>
            <a:ext cx="23778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9800" y="1676520"/>
            <a:ext cx="23209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49800" y="1590840"/>
            <a:ext cx="23684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9800" y="2133720"/>
            <a:ext cx="23396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49800" y="1676520"/>
            <a:ext cx="2349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49800" y="2152440"/>
            <a:ext cx="23493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52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180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980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840" y="1496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120" y="1947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2480" y="23986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652360" y="19929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580000" y="19414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5652360" y="15357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580000" y="14842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652360" y="24501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580000" y="23986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80000" y="3322800"/>
            <a:ext cx="393840" cy="372960"/>
            <a:chOff x="5580000" y="3322800"/>
            <a:chExt cx="393840" cy="372960"/>
          </a:xfrm>
        </p:grpSpPr>
        <p:sp>
          <p:nvSpPr>
            <p:cNvPr id="120" name=""/>
            <p:cNvSpPr/>
            <p:nvPr/>
          </p:nvSpPr>
          <p:spPr>
            <a:xfrm rot="5400000">
              <a:off x="5652360" y="3374280"/>
              <a:ext cx="372960" cy="270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580000" y="3322800"/>
              <a:ext cx="27792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79080" y="1676520"/>
            <a:ext cx="4970880" cy="2696400"/>
            <a:chOff x="2179080" y="1676520"/>
            <a:chExt cx="4970880" cy="2696400"/>
          </a:xfrm>
        </p:grpSpPr>
        <p:grpSp>
          <p:nvGrpSpPr>
            <p:cNvPr id="123" name=""/>
            <p:cNvGrpSpPr/>
            <p:nvPr/>
          </p:nvGrpSpPr>
          <p:grpSpPr>
            <a:xfrm>
              <a:off x="3349800" y="1676520"/>
              <a:ext cx="2368440" cy="1914480"/>
              <a:chOff x="3349800" y="1676520"/>
              <a:chExt cx="2368440" cy="191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3349800" y="1676520"/>
                <a:ext cx="2368440" cy="17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9800" y="2133720"/>
                <a:ext cx="23493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2590920"/>
                <a:ext cx="236844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349800" y="1752120"/>
                <a:ext cx="234936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349800" y="2228760"/>
                <a:ext cx="236844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49800" y="2704680"/>
                <a:ext cx="236844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179080" y="3057480"/>
              <a:ext cx="4970880" cy="1315440"/>
              <a:chOff x="2179080" y="3057480"/>
              <a:chExt cx="4970880" cy="131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5946840" y="350532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6440" y="350532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1400" y="3505320"/>
                <a:ext cx="2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53840" y="3760920"/>
                <a:ext cx="378360" cy="152280"/>
                <a:chOff x="2553840" y="3760920"/>
                <a:chExt cx="378360" cy="15228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255384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26010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264852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269532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4320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7432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320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743200" y="4178160"/>
                <a:ext cx="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2742840" y="4029120"/>
                <a:ext cx="378360" cy="152280"/>
                <a:chOff x="2742840" y="4029120"/>
                <a:chExt cx="378360" cy="15228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274284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7900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83752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88432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3220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3220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9322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93220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flipV="1">
                <a:off x="2930400" y="391752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12408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6440" y="350532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79080" y="347040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178320" y="305748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dro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6235560" y="3657600"/>
                <a:ext cx="610200" cy="152280"/>
                <a:chOff x="6235560" y="3657600"/>
                <a:chExt cx="610200" cy="152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54084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54084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4084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4048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46416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638820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631188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623556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684540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3556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369480" y="383364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8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56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769440" y="403560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626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008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540480" y="3502080"/>
                <a:ext cx="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956200" y="3882960"/>
                <a:ext cx="1193760" cy="304920"/>
                <a:chOff x="5956200" y="3882960"/>
                <a:chExt cx="1193760" cy="30492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669276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595620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828880" y="3505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87640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01932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149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294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19320" y="4304880"/>
            <a:ext cx="4404960" cy="792360"/>
            <a:chOff x="3019320" y="4304880"/>
            <a:chExt cx="4404960" cy="792360"/>
          </a:xfrm>
        </p:grpSpPr>
        <p:cxnSp>
          <p:nvCxnSpPr>
            <p:cNvPr id="185" name=""/>
            <p:cNvCxnSpPr>
              <a:stCxn id="186" idx="1"/>
              <a:endCxn id="174" idx="0"/>
            </p:cNvCxnSpPr>
            <p:nvPr/>
          </p:nvCxnSpPr>
          <p:spPr>
            <a:xfrm flipV="1">
              <a:off x="4782600" y="4343040"/>
              <a:ext cx="1218600" cy="4485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87" name=""/>
            <p:cNvSpPr/>
            <p:nvPr/>
          </p:nvSpPr>
          <p:spPr>
            <a:xfrm>
              <a:off x="6390720" y="4667400"/>
              <a:ext cx="10335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54" idx="0"/>
              <a:endCxn id="189" idx="0"/>
            </p:cNvCxnSpPr>
            <p:nvPr/>
          </p:nvCxnSpPr>
          <p:spPr>
            <a:xfrm flipH="1" rot="16200000">
              <a:off x="3363480" y="4064400"/>
              <a:ext cx="484920" cy="96588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190" name=""/>
            <p:cNvGrpSpPr/>
            <p:nvPr/>
          </p:nvGrpSpPr>
          <p:grpSpPr>
            <a:xfrm>
              <a:off x="4087080" y="4719600"/>
              <a:ext cx="694440" cy="141120"/>
              <a:chOff x="4087080" y="4719600"/>
              <a:chExt cx="694440" cy="14112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4133520" y="4672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368600" y="4672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6200000">
                <a:off x="4593600" y="4672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stCxn id="181" idx="0"/>
              <a:endCxn id="193" idx="0"/>
            </p:cNvCxnSpPr>
            <p:nvPr/>
          </p:nvCxnSpPr>
          <p:spPr>
            <a:xfrm flipH="1" rot="16200000">
              <a:off x="3193200" y="4131000"/>
              <a:ext cx="721440" cy="106920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94" name=""/>
            <p:cNvCxnSpPr>
              <a:stCxn id="182" idx="0"/>
              <a:endCxn id="195" idx="1"/>
            </p:cNvCxnSpPr>
            <p:nvPr/>
          </p:nvCxnSpPr>
          <p:spPr>
            <a:xfrm rot="5400000">
              <a:off x="5105520" y="4018680"/>
              <a:ext cx="685080" cy="13341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196" name=""/>
            <p:cNvGrpSpPr/>
            <p:nvPr/>
          </p:nvGrpSpPr>
          <p:grpSpPr>
            <a:xfrm>
              <a:off x="4085640" y="4956120"/>
              <a:ext cx="694440" cy="141120"/>
              <a:chOff x="4085640" y="4956120"/>
              <a:chExt cx="694440" cy="141120"/>
            </a:xfrm>
          </p:grpSpPr>
          <p:sp>
            <p:nvSpPr>
              <p:cNvPr id="193" name=""/>
              <p:cNvSpPr/>
              <p:nvPr/>
            </p:nvSpPr>
            <p:spPr>
              <a:xfrm flipH="1" rot="16200000">
                <a:off x="4132080" y="49089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6200000">
                <a:off x="4367160" y="49089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16200000">
                <a:off x="4592160" y="49093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6DFF-2909-4325-858E-27FCD57DBDE9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05080" y="2789280"/>
            <a:ext cx="277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71880" y="2290680"/>
            <a:ext cx="29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artially Fixed ROAD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2284560" y="251136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3280" y="252108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8880" y="21225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5400000">
            <a:off x="2485800" y="2418840"/>
            <a:ext cx="901800" cy="218880"/>
          </a:xfrm>
          <a:custGeom>
            <a:avLst/>
            <a:gdLst>
              <a:gd name="textAreaLeft" fmla="*/ 155520 w 901800"/>
              <a:gd name="textAreaRight" fmla="*/ 746280 w 901800"/>
              <a:gd name="textAreaTop" fmla="*/ 37800 h 218880"/>
              <a:gd name="textAreaBottom" fmla="*/ 18108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34" y="21600"/>
                </a:lnTo>
                <a:lnTo>
                  <a:pt x="3566" y="216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25588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0920" y="21718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5591880" y="2480040"/>
            <a:ext cx="901800" cy="182520"/>
          </a:xfrm>
          <a:custGeom>
            <a:avLst/>
            <a:gdLst>
              <a:gd name="textAreaLeft" fmla="*/ 155520 w 901800"/>
              <a:gd name="textAreaRight" fmla="*/ 746280 w 901800"/>
              <a:gd name="textAreaTop" fmla="*/ 31320 h 182520"/>
              <a:gd name="textAreaBottom" fmla="*/ 15120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34" y="21600"/>
                </a:lnTo>
                <a:lnTo>
                  <a:pt x="3566" y="216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5200" y="25621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754000" y="40356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FuturaA Bk BT"/>
              </a:rPr>
              <a:t>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1440" y="3398760"/>
            <a:ext cx="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100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65440" y="35449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420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38680" y="3852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 rot="10677000">
            <a:off x="2352600" y="2779200"/>
            <a:ext cx="1437840" cy="12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59120" y="4025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FuturaA Bk BT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033880" y="39272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033520" y="3778200"/>
            <a:ext cx="378360" cy="152280"/>
            <a:chOff x="5033520" y="3778200"/>
            <a:chExt cx="378360" cy="152280"/>
          </a:xfrm>
        </p:grpSpPr>
        <p:sp>
          <p:nvSpPr>
            <p:cNvPr id="220" name=""/>
            <p:cNvSpPr/>
            <p:nvPr/>
          </p:nvSpPr>
          <p:spPr>
            <a:xfrm flipH="1">
              <a:off x="5033520" y="377820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080680" y="377820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128200" y="377820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75000" y="377820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22880" y="377820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22880" y="377820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2880" y="377820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22880" y="377820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5221440" y="3398400"/>
            <a:ext cx="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41512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6744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310360" y="39333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10923000">
            <a:off x="5214600" y="2787120"/>
            <a:ext cx="1437120" cy="12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13360" y="2475000"/>
            <a:ext cx="828360" cy="573120"/>
            <a:chOff x="4113360" y="2475000"/>
            <a:chExt cx="828360" cy="573120"/>
          </a:xfrm>
        </p:grpSpPr>
        <p:sp>
          <p:nvSpPr>
            <p:cNvPr id="234" name=""/>
            <p:cNvSpPr/>
            <p:nvPr/>
          </p:nvSpPr>
          <p:spPr>
            <a:xfrm>
              <a:off x="4113360" y="2646360"/>
              <a:ext cx="828360" cy="26820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1760" y="2475000"/>
              <a:ext cx="499680" cy="5731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37" idx="1"/>
            <a:endCxn id="230" idx="0"/>
          </p:cNvCxnSpPr>
          <p:nvPr/>
        </p:nvCxnSpPr>
        <p:spPr>
          <a:xfrm flipV="1">
            <a:off x="4782960" y="4053600"/>
            <a:ext cx="385200" cy="73764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5527080" y="4667400"/>
            <a:ext cx="1033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OEO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15" idx="0"/>
            <a:endCxn id="240" idx="0"/>
          </p:cNvCxnSpPr>
          <p:nvPr/>
        </p:nvCxnSpPr>
        <p:spPr>
          <a:xfrm flipH="1" rot="16200000">
            <a:off x="3571920" y="4272120"/>
            <a:ext cx="784800" cy="25092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241" name=""/>
          <p:cNvGrpSpPr/>
          <p:nvPr/>
        </p:nvGrpSpPr>
        <p:grpSpPr>
          <a:xfrm>
            <a:off x="4087080" y="4719600"/>
            <a:ext cx="694440" cy="141120"/>
            <a:chOff x="4087080" y="4719600"/>
            <a:chExt cx="694440" cy="141120"/>
          </a:xfrm>
        </p:grpSpPr>
        <p:sp>
          <p:nvSpPr>
            <p:cNvPr id="240" name=""/>
            <p:cNvSpPr/>
            <p:nvPr/>
          </p:nvSpPr>
          <p:spPr>
            <a:xfrm flipH="1" rot="16200000">
              <a:off x="4133520" y="4672440"/>
              <a:ext cx="14112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6200000">
              <a:off x="4368600" y="4672440"/>
              <a:ext cx="14112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 rot="16200000">
              <a:off x="4593600" y="4672800"/>
              <a:ext cx="14112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14" idx="0"/>
            <a:endCxn id="244" idx="0"/>
          </p:cNvCxnSpPr>
          <p:nvPr/>
        </p:nvCxnSpPr>
        <p:spPr>
          <a:xfrm flipH="1" rot="16200000">
            <a:off x="3395520" y="4333320"/>
            <a:ext cx="1021320" cy="36432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45" name=""/>
          <p:cNvCxnSpPr>
            <a:stCxn id="231" idx="0"/>
            <a:endCxn id="246" idx="1"/>
          </p:cNvCxnSpPr>
          <p:nvPr/>
        </p:nvCxnSpPr>
        <p:spPr>
          <a:xfrm rot="5400000">
            <a:off x="4558320" y="4276800"/>
            <a:ext cx="974160" cy="529200"/>
          </a:xfrm>
          <a:prstGeom prst="bentConnector2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247" name=""/>
          <p:cNvGrpSpPr/>
          <p:nvPr/>
        </p:nvGrpSpPr>
        <p:grpSpPr>
          <a:xfrm>
            <a:off x="4085640" y="4956120"/>
            <a:ext cx="694440" cy="141120"/>
            <a:chOff x="4085640" y="4956120"/>
            <a:chExt cx="694440" cy="141120"/>
          </a:xfrm>
        </p:grpSpPr>
        <p:sp>
          <p:nvSpPr>
            <p:cNvPr id="244" name=""/>
            <p:cNvSpPr/>
            <p:nvPr/>
          </p:nvSpPr>
          <p:spPr>
            <a:xfrm flipH="1" rot="16200000">
              <a:off x="4132080" y="4908960"/>
              <a:ext cx="14112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6200000">
              <a:off x="4367160" y="4908960"/>
              <a:ext cx="14112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592160" y="4909320"/>
              <a:ext cx="14112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FA7-93F1-413F-A309-AE6DA9EA880F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ully flexible Y node with 4 tunable pools of O-E-O fixed to link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16351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512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3512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512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3512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3512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54240" y="1674720"/>
            <a:ext cx="346248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43080" y="1676520"/>
            <a:ext cx="345456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03560" y="1553760"/>
            <a:ext cx="33796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6840" y="2133720"/>
            <a:ext cx="343692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154240" y="1687320"/>
            <a:ext cx="349560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106720" y="2125800"/>
            <a:ext cx="35542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876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04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04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61680" y="13572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60960" y="1808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79320" y="22590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439960" y="1459080"/>
            <a:ext cx="760680" cy="1287360"/>
            <a:chOff x="5439960" y="1459080"/>
            <a:chExt cx="760680" cy="1287360"/>
          </a:xfrm>
        </p:grpSpPr>
        <p:sp>
          <p:nvSpPr>
            <p:cNvPr id="269" name=""/>
            <p:cNvSpPr/>
            <p:nvPr/>
          </p:nvSpPr>
          <p:spPr>
            <a:xfrm>
              <a:off x="5800680" y="165096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19400" y="21081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19400" y="25653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5524560" y="19677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5439960" y="19162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524560" y="15105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5439960" y="14590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524560" y="24249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5439960" y="23734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084720" y="2103480"/>
            <a:ext cx="284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5760" y="2560680"/>
            <a:ext cx="28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60960" y="16462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70800" y="1688400"/>
            <a:ext cx="5400720" cy="1919520"/>
            <a:chOff x="2170800" y="1688400"/>
            <a:chExt cx="5400720" cy="1919520"/>
          </a:xfrm>
        </p:grpSpPr>
        <p:grpSp>
          <p:nvGrpSpPr>
            <p:cNvPr id="282" name=""/>
            <p:cNvGrpSpPr/>
            <p:nvPr/>
          </p:nvGrpSpPr>
          <p:grpSpPr>
            <a:xfrm>
              <a:off x="2170800" y="2609640"/>
              <a:ext cx="468000" cy="375480"/>
              <a:chOff x="2170800" y="2609640"/>
              <a:chExt cx="468000" cy="375480"/>
            </a:xfrm>
          </p:grpSpPr>
          <p:sp>
            <p:nvSpPr>
              <p:cNvPr id="283" name=""/>
              <p:cNvSpPr/>
              <p:nvPr/>
            </p:nvSpPr>
            <p:spPr>
              <a:xfrm>
                <a:off x="2170800" y="2609640"/>
                <a:ext cx="260280" cy="20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08760" y="2800440"/>
                <a:ext cx="230040" cy="18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V="1">
              <a:off x="5361120" y="3481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361120" y="3332160"/>
              <a:ext cx="377280" cy="152280"/>
              <a:chOff x="5361120" y="3332160"/>
              <a:chExt cx="377280" cy="15228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536112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792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5544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50224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4976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4976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976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4976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 flipV="1">
              <a:off x="5548320" y="3220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74200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9432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63724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43120" y="299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35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717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27120" y="306720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8588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03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35400" y="2990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258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40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19400" y="306396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816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26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260080" y="2131560"/>
              <a:ext cx="1066680" cy="856080"/>
              <a:chOff x="2260080" y="2131560"/>
              <a:chExt cx="1066680" cy="856080"/>
            </a:xfrm>
          </p:grpSpPr>
          <p:sp>
            <p:nvSpPr>
              <p:cNvPr id="312" name=""/>
              <p:cNvSpPr/>
              <p:nvPr/>
            </p:nvSpPr>
            <p:spPr>
              <a:xfrm>
                <a:off x="2260080" y="2131560"/>
                <a:ext cx="592560" cy="47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01880" y="2566440"/>
                <a:ext cx="52488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989520" y="2998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996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178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773520" y="307188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228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64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203560" y="1700280"/>
              <a:ext cx="1784520" cy="1279080"/>
              <a:chOff x="2203560" y="1700280"/>
              <a:chExt cx="1784520" cy="1279080"/>
            </a:xfrm>
          </p:grpSpPr>
          <p:sp>
            <p:nvSpPr>
              <p:cNvPr id="321" name=""/>
              <p:cNvSpPr/>
              <p:nvPr/>
            </p:nvSpPr>
            <p:spPr>
              <a:xfrm>
                <a:off x="2203560" y="1700280"/>
                <a:ext cx="991440" cy="71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10400" y="2350080"/>
                <a:ext cx="877680" cy="62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587200" y="1688400"/>
              <a:ext cx="1818720" cy="1576440"/>
              <a:chOff x="5587200" y="1688400"/>
              <a:chExt cx="1818720" cy="157644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5587200" y="2389320"/>
                <a:ext cx="1010160" cy="87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511320" y="1688400"/>
                <a:ext cx="894600" cy="77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67880" y="2155680"/>
              <a:ext cx="1237320" cy="1072440"/>
              <a:chOff x="6167880" y="2155680"/>
              <a:chExt cx="1237320" cy="107244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6167880" y="2632320"/>
                <a:ext cx="687600" cy="59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96800" y="2155680"/>
                <a:ext cx="60840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834240" y="2667240"/>
              <a:ext cx="737280" cy="639000"/>
              <a:chOff x="6834240" y="2667240"/>
              <a:chExt cx="737280" cy="63900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6834240" y="2951280"/>
                <a:ext cx="409680" cy="35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7209000" y="2667240"/>
                <a:ext cx="36252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5967360" y="34653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967000" y="3316320"/>
              <a:ext cx="378360" cy="152280"/>
              <a:chOff x="5967000" y="3316320"/>
              <a:chExt cx="378360" cy="152280"/>
            </a:xfrm>
          </p:grpSpPr>
          <p:sp>
            <p:nvSpPr>
              <p:cNvPr id="334" name=""/>
              <p:cNvSpPr/>
              <p:nvPr/>
            </p:nvSpPr>
            <p:spPr>
              <a:xfrm flipH="1">
                <a:off x="596700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0141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06168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10848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5636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5636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563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5636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V="1">
              <a:off x="6154560" y="32047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34824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0092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4348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548400" y="34700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548040" y="3321000"/>
              <a:ext cx="378360" cy="152280"/>
              <a:chOff x="6548040" y="3321000"/>
              <a:chExt cx="378360" cy="15228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54804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5952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4272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8952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3740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740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374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3740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6735600" y="32097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92928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8196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82452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046400" y="3531960"/>
            <a:ext cx="4219920" cy="530280"/>
            <a:chOff x="4046400" y="3531960"/>
            <a:chExt cx="4219920" cy="530280"/>
          </a:xfrm>
        </p:grpSpPr>
        <p:sp>
          <p:nvSpPr>
            <p:cNvPr id="361" name=""/>
            <p:cNvSpPr/>
            <p:nvPr/>
          </p:nvSpPr>
          <p:spPr>
            <a:xfrm>
              <a:off x="7084800" y="360684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046400" y="3531960"/>
              <a:ext cx="2054520" cy="530280"/>
              <a:chOff x="4046400" y="3531960"/>
              <a:chExt cx="2054520" cy="530280"/>
            </a:xfrm>
          </p:grpSpPr>
          <p:cxnSp>
            <p:nvCxnSpPr>
              <p:cNvPr id="363" name=""/>
              <p:cNvCxnSpPr>
                <a:stCxn id="364" idx="1"/>
                <a:endCxn id="332" idx="0"/>
              </p:cNvCxnSpPr>
              <p:nvPr/>
            </p:nvCxnSpPr>
            <p:spPr>
              <a:xfrm flipV="1">
                <a:off x="5189040" y="3585600"/>
                <a:ext cx="778680" cy="1702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365" name=""/>
              <p:cNvCxnSpPr>
                <a:stCxn id="315" idx="0"/>
                <a:endCxn id="366" idx="0"/>
              </p:cNvCxnSpPr>
              <p:nvPr/>
            </p:nvCxnSpPr>
            <p:spPr>
              <a:xfrm flipH="1" rot="16200000">
                <a:off x="4225680" y="3485160"/>
                <a:ext cx="222840" cy="31644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367" name=""/>
              <p:cNvGrpSpPr/>
              <p:nvPr/>
            </p:nvGrpSpPr>
            <p:grpSpPr>
              <a:xfrm>
                <a:off x="4493520" y="3684600"/>
                <a:ext cx="694440" cy="141120"/>
                <a:chOff x="4493520" y="3684600"/>
                <a:chExt cx="694440" cy="14112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rot="16200000">
                  <a:off x="4539960" y="3637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16200000">
                  <a:off x="4775040" y="3637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 rot="16200000">
                  <a:off x="5000040" y="3637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9" name=""/>
              <p:cNvCxnSpPr>
                <a:stCxn id="319" idx="0"/>
                <a:endCxn id="370" idx="0"/>
              </p:cNvCxnSpPr>
              <p:nvPr/>
            </p:nvCxnSpPr>
            <p:spPr>
              <a:xfrm flipH="1" rot="16200000">
                <a:off x="4041000" y="3537360"/>
                <a:ext cx="459360" cy="4485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371" name=""/>
              <p:cNvCxnSpPr>
                <a:stCxn id="344" idx="0"/>
                <a:endCxn id="372" idx="1"/>
              </p:cNvCxnSpPr>
              <p:nvPr/>
            </p:nvCxnSpPr>
            <p:spPr>
              <a:xfrm rot="5400000">
                <a:off x="5443920" y="3335760"/>
                <a:ext cx="400680" cy="9136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373" name=""/>
              <p:cNvGrpSpPr/>
              <p:nvPr/>
            </p:nvGrpSpPr>
            <p:grpSpPr>
              <a:xfrm>
                <a:off x="4492080" y="3921120"/>
                <a:ext cx="694440" cy="141120"/>
                <a:chOff x="4492080" y="3921120"/>
                <a:chExt cx="694440" cy="141120"/>
              </a:xfrm>
            </p:grpSpPr>
            <p:sp>
              <p:nvSpPr>
                <p:cNvPr id="370" name=""/>
                <p:cNvSpPr/>
                <p:nvPr/>
              </p:nvSpPr>
              <p:spPr>
                <a:xfrm flipH="1" rot="16200000">
                  <a:off x="4538520" y="387396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16200000">
                  <a:off x="4773600" y="387396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 rot="16200000">
                  <a:off x="4998600" y="387432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3931200" y="3532320"/>
            <a:ext cx="4335120" cy="2139120"/>
            <a:chOff x="3931200" y="3532320"/>
            <a:chExt cx="4335120" cy="2139120"/>
          </a:xfrm>
        </p:grpSpPr>
        <p:cxnSp>
          <p:nvCxnSpPr>
            <p:cNvPr id="376" name=""/>
            <p:cNvCxnSpPr>
              <a:stCxn id="318" idx="0"/>
              <a:endCxn id="377" idx="0"/>
            </p:cNvCxnSpPr>
            <p:nvPr/>
          </p:nvCxnSpPr>
          <p:spPr>
            <a:xfrm flipH="1" rot="16200000">
              <a:off x="3247920" y="4215600"/>
              <a:ext cx="1931040" cy="56412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  <p:sp>
          <p:nvSpPr>
            <p:cNvPr id="378" name=""/>
            <p:cNvSpPr/>
            <p:nvPr/>
          </p:nvSpPr>
          <p:spPr>
            <a:xfrm>
              <a:off x="7084800" y="52419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rebuchet MS"/>
                </a:rPr>
                <a:t>OEO poo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493520" y="5392800"/>
              <a:ext cx="694440" cy="141120"/>
              <a:chOff x="4493520" y="5392800"/>
              <a:chExt cx="694440" cy="141120"/>
            </a:xfrm>
          </p:grpSpPr>
          <p:sp>
            <p:nvSpPr>
              <p:cNvPr id="377" name=""/>
              <p:cNvSpPr/>
              <p:nvPr/>
            </p:nvSpPr>
            <p:spPr>
              <a:xfrm flipH="1" rot="16200000">
                <a:off x="4539960" y="5345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16200000">
                <a:off x="4775040" y="5345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16200000">
                <a:off x="5000040" y="5346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2" name=""/>
            <p:cNvCxnSpPr>
              <a:stCxn id="357" idx="0"/>
              <a:endCxn id="381" idx="1"/>
            </p:cNvCxnSpPr>
            <p:nvPr/>
          </p:nvCxnSpPr>
          <p:spPr>
            <a:xfrm rot="5400000">
              <a:off x="5124960" y="3660480"/>
              <a:ext cx="1867680" cy="174060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</p:grpSp>
      <p:grpSp>
        <p:nvGrpSpPr>
          <p:cNvPr id="383" name=""/>
          <p:cNvGrpSpPr/>
          <p:nvPr/>
        </p:nvGrpSpPr>
        <p:grpSpPr>
          <a:xfrm>
            <a:off x="3278160" y="3524040"/>
            <a:ext cx="4988160" cy="1496880"/>
            <a:chOff x="3278160" y="3524040"/>
            <a:chExt cx="4988160" cy="1496880"/>
          </a:xfrm>
        </p:grpSpPr>
        <p:cxnSp>
          <p:nvCxnSpPr>
            <p:cNvPr id="384" name=""/>
            <p:cNvCxnSpPr>
              <a:stCxn id="306" idx="0"/>
              <a:endCxn id="385" idx="0"/>
            </p:cNvCxnSpPr>
            <p:nvPr/>
          </p:nvCxnSpPr>
          <p:spPr>
            <a:xfrm flipH="1" rot="16200000">
              <a:off x="3539880" y="3509640"/>
              <a:ext cx="942120" cy="9705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sp>
          <p:nvSpPr>
            <p:cNvPr id="386" name=""/>
            <p:cNvSpPr/>
            <p:nvPr/>
          </p:nvSpPr>
          <p:spPr>
            <a:xfrm>
              <a:off x="7084800" y="447840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33"/>
                  </a:solidFill>
                  <a:latin typeface="Trebuchet MS"/>
                </a:rPr>
                <a:t>OEO poo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493520" y="4395960"/>
              <a:ext cx="694440" cy="141120"/>
              <a:chOff x="4493520" y="4395960"/>
              <a:chExt cx="694440" cy="141120"/>
            </a:xfrm>
          </p:grpSpPr>
          <p:sp>
            <p:nvSpPr>
              <p:cNvPr id="385" name=""/>
              <p:cNvSpPr/>
              <p:nvPr/>
            </p:nvSpPr>
            <p:spPr>
              <a:xfrm flipH="1" rot="16200000">
                <a:off x="4539960" y="434880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16200000">
                <a:off x="4775040" y="434880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6200000">
                <a:off x="5000040" y="434916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493520" y="4633920"/>
              <a:ext cx="694440" cy="141120"/>
              <a:chOff x="4493520" y="4633920"/>
              <a:chExt cx="694440" cy="141120"/>
            </a:xfrm>
          </p:grpSpPr>
          <p:sp>
            <p:nvSpPr>
              <p:cNvPr id="391" name=""/>
              <p:cNvSpPr/>
              <p:nvPr/>
            </p:nvSpPr>
            <p:spPr>
              <a:xfrm flipH="1" rot="16200000">
                <a:off x="4539960" y="45867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16200000">
                <a:off x="4775040" y="45867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 rot="16200000">
                <a:off x="5000040" y="45871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4" name=""/>
            <p:cNvCxnSpPr>
              <a:stCxn id="358" idx="0"/>
              <a:endCxn id="393" idx="1"/>
            </p:cNvCxnSpPr>
            <p:nvPr/>
          </p:nvCxnSpPr>
          <p:spPr>
            <a:xfrm rot="5400000">
              <a:off x="5380920" y="3404880"/>
              <a:ext cx="1108800" cy="149328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395" name=""/>
            <p:cNvCxnSpPr>
              <a:stCxn id="389" idx="1"/>
              <a:endCxn id="346" idx="0"/>
            </p:cNvCxnSpPr>
            <p:nvPr/>
          </p:nvCxnSpPr>
          <p:spPr>
            <a:xfrm flipV="1">
              <a:off x="5189040" y="3590640"/>
              <a:ext cx="1359720" cy="8769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396" name=""/>
            <p:cNvCxnSpPr>
              <a:stCxn id="310" idx="0"/>
              <a:endCxn id="391" idx="0"/>
            </p:cNvCxnSpPr>
            <p:nvPr/>
          </p:nvCxnSpPr>
          <p:spPr>
            <a:xfrm flipH="1" rot="16200000">
              <a:off x="3354480" y="3562560"/>
              <a:ext cx="1180080" cy="110340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grpSp>
          <p:nvGrpSpPr>
            <p:cNvPr id="397" name=""/>
            <p:cNvGrpSpPr/>
            <p:nvPr/>
          </p:nvGrpSpPr>
          <p:grpSpPr>
            <a:xfrm>
              <a:off x="4501440" y="4879800"/>
              <a:ext cx="694440" cy="141120"/>
              <a:chOff x="4501440" y="4879800"/>
              <a:chExt cx="694440" cy="141120"/>
            </a:xfrm>
          </p:grpSpPr>
          <p:sp>
            <p:nvSpPr>
              <p:cNvPr id="398" name=""/>
              <p:cNvSpPr/>
              <p:nvPr/>
            </p:nvSpPr>
            <p:spPr>
              <a:xfrm flipH="1" rot="16200000">
                <a:off x="4547880" y="4832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16200000">
                <a:off x="4782960" y="4832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6200000">
                <a:off x="5007960" y="4833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01" name=""/>
            <p:cNvCxnSpPr>
              <a:stCxn id="359" idx="0"/>
              <a:endCxn id="400" idx="1"/>
            </p:cNvCxnSpPr>
            <p:nvPr/>
          </p:nvCxnSpPr>
          <p:spPr>
            <a:xfrm rot="5400000">
              <a:off x="5333040" y="3460680"/>
              <a:ext cx="1355040" cy="162792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402" name=""/>
            <p:cNvCxnSpPr>
              <a:stCxn id="309" idx="0"/>
              <a:endCxn id="398" idx="0"/>
            </p:cNvCxnSpPr>
            <p:nvPr/>
          </p:nvCxnSpPr>
          <p:spPr>
            <a:xfrm flipH="1" rot="16200000">
              <a:off x="3178080" y="3624120"/>
              <a:ext cx="1426320" cy="12261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</p:grpSp>
      <p:grpSp>
        <p:nvGrpSpPr>
          <p:cNvPr id="403" name=""/>
          <p:cNvGrpSpPr/>
          <p:nvPr/>
        </p:nvGrpSpPr>
        <p:grpSpPr>
          <a:xfrm>
            <a:off x="2699280" y="3527280"/>
            <a:ext cx="5567040" cy="2736360"/>
            <a:chOff x="2699280" y="3527280"/>
            <a:chExt cx="5567040" cy="2736360"/>
          </a:xfrm>
        </p:grpSpPr>
        <p:grpSp>
          <p:nvGrpSpPr>
            <p:cNvPr id="404" name=""/>
            <p:cNvGrpSpPr/>
            <p:nvPr/>
          </p:nvGrpSpPr>
          <p:grpSpPr>
            <a:xfrm>
              <a:off x="4493520" y="5867280"/>
              <a:ext cx="694440" cy="141120"/>
              <a:chOff x="4493520" y="5867280"/>
              <a:chExt cx="694440" cy="141120"/>
            </a:xfrm>
          </p:grpSpPr>
          <p:sp>
            <p:nvSpPr>
              <p:cNvPr id="405" name=""/>
              <p:cNvSpPr/>
              <p:nvPr/>
            </p:nvSpPr>
            <p:spPr>
              <a:xfrm flipH="1" rot="16200000">
                <a:off x="4539960" y="582012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rot="16200000">
                <a:off x="4775040" y="582012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6200000">
                <a:off x="5000040" y="582048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493520" y="6105600"/>
              <a:ext cx="694440" cy="141120"/>
              <a:chOff x="4493520" y="6105600"/>
              <a:chExt cx="694440" cy="141120"/>
            </a:xfrm>
          </p:grpSpPr>
          <p:sp>
            <p:nvSpPr>
              <p:cNvPr id="409" name=""/>
              <p:cNvSpPr/>
              <p:nvPr/>
            </p:nvSpPr>
            <p:spPr>
              <a:xfrm flipH="1" rot="16200000">
                <a:off x="4539960" y="6058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rot="16200000">
                <a:off x="4775040" y="6058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16200000">
                <a:off x="5000040" y="6058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12" name=""/>
            <p:cNvCxnSpPr>
              <a:stCxn id="298" idx="0"/>
              <a:endCxn id="407" idx="1"/>
            </p:cNvCxnSpPr>
            <p:nvPr/>
          </p:nvCxnSpPr>
          <p:spPr>
            <a:xfrm rot="5400000">
              <a:off x="4247280" y="4549680"/>
              <a:ext cx="2331360" cy="44856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3" name=""/>
            <p:cNvCxnSpPr>
              <a:stCxn id="296" idx="0"/>
              <a:endCxn id="411" idx="1"/>
            </p:cNvCxnSpPr>
            <p:nvPr/>
          </p:nvCxnSpPr>
          <p:spPr>
            <a:xfrm rot="5400000">
              <a:off x="4180680" y="4615920"/>
              <a:ext cx="2569320" cy="55332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4" name=""/>
            <p:cNvCxnSpPr>
              <a:stCxn id="300" idx="0"/>
              <a:endCxn id="405" idx="0"/>
            </p:cNvCxnSpPr>
            <p:nvPr/>
          </p:nvCxnSpPr>
          <p:spPr>
            <a:xfrm flipH="1" rot="16200000">
              <a:off x="2458800" y="3900960"/>
              <a:ext cx="2410560" cy="16628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415" name=""/>
            <p:cNvCxnSpPr>
              <a:stCxn id="304" idx="0"/>
              <a:endCxn id="409" idx="0"/>
            </p:cNvCxnSpPr>
            <p:nvPr/>
          </p:nvCxnSpPr>
          <p:spPr>
            <a:xfrm flipH="1" rot="16200000">
              <a:off x="2273040" y="3953520"/>
              <a:ext cx="2648880" cy="17960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sp>
          <p:nvSpPr>
            <p:cNvPr id="416" name=""/>
            <p:cNvSpPr/>
            <p:nvPr/>
          </p:nvSpPr>
          <p:spPr>
            <a:xfrm>
              <a:off x="7084800" y="58341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rebuchet MS"/>
                </a:rPr>
                <a:t>OEO poo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4CEB-F763-42C5-94BB-4EDF4886FCA6}" type="slidenum">
              <a:t>6</a:t>
            </a:fld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echnical description of the OSPF-TE modification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ovide an OSPF-TE layout that intrinsically separates some static info from some dynamic ones, exploiting the concept of OEO po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Have LSA for WDM links with availability of wavelength (dynam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5e9a"/>
                </a:solidFill>
                <a:latin typeface="Trebuchet MS"/>
              </a:rPr>
              <a:t>Have LSA for switching constraints of nodes (stat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Have LSA for OEO resources (static and dynami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44480" y="3503520"/>
            <a:ext cx="7361280" cy="2684520"/>
            <a:chOff x="744480" y="3503520"/>
            <a:chExt cx="7361280" cy="2684520"/>
          </a:xfrm>
        </p:grpSpPr>
        <p:sp>
          <p:nvSpPr>
            <p:cNvPr id="420" name=""/>
            <p:cNvSpPr/>
            <p:nvPr/>
          </p:nvSpPr>
          <p:spPr>
            <a:xfrm>
              <a:off x="744480" y="4040280"/>
              <a:ext cx="574560" cy="53640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59120" y="4568760"/>
              <a:ext cx="1946160" cy="139680"/>
            </a:xfrm>
            <a:custGeom>
              <a:avLst/>
              <a:gdLst/>
              <a:ahLst/>
              <a:rect l="l" t="t" r="r" b="b"/>
              <a:pathLst>
                <a:path w="1226" h="88">
                  <a:moveTo>
                    <a:pt x="1226" y="83"/>
                  </a:moveTo>
                  <a:cubicBezTo>
                    <a:pt x="859" y="85"/>
                    <a:pt x="492" y="88"/>
                    <a:pt x="288" y="74"/>
                  </a:cubicBezTo>
                  <a:cubicBezTo>
                    <a:pt x="84" y="60"/>
                    <a:pt x="49" y="34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0440" y="3503520"/>
              <a:ext cx="574920" cy="53676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02600" y="4065480"/>
              <a:ext cx="574560" cy="53676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59360" y="5651640"/>
              <a:ext cx="574920" cy="536400"/>
            </a:xfrm>
            <a:prstGeom prst="octagon">
              <a:avLst>
                <a:gd name="adj" fmla="val 29287"/>
              </a:avLst>
            </a:prstGeom>
            <a:solidFill>
              <a:srgbClr val="7a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5" name=""/>
            <p:cNvCxnSpPr>
              <a:stCxn id="420" idx="3"/>
              <a:endCxn id="422" idx="1"/>
            </p:cNvCxnSpPr>
            <p:nvPr/>
          </p:nvCxnSpPr>
          <p:spPr>
            <a:xfrm flipV="1">
              <a:off x="131868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22" idx="1"/>
              <a:endCxn id="420" idx="3"/>
            </p:cNvCxnSpPr>
            <p:nvPr/>
          </p:nvCxnSpPr>
          <p:spPr>
            <a:xfrm flipV="1" rot="10800000">
              <a:off x="131832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7" name=""/>
            <p:cNvSpPr/>
            <p:nvPr/>
          </p:nvSpPr>
          <p:spPr>
            <a:xfrm>
              <a:off x="3203640" y="4441680"/>
              <a:ext cx="992160" cy="36684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" name=""/>
            <p:cNvCxnSpPr>
              <a:stCxn id="422" idx="3"/>
              <a:endCxn id="427" idx="3"/>
            </p:cNvCxnSpPr>
            <p:nvPr/>
          </p:nvCxnSpPr>
          <p:spPr>
            <a:xfrm>
              <a:off x="4005000" y="3772080"/>
              <a:ext cx="191160" cy="854640"/>
            </a:xfrm>
            <a:prstGeom prst="curvedConnector5">
              <a:avLst>
                <a:gd name="adj1" fmla="val 219056"/>
                <a:gd name="adj2" fmla="val 49978"/>
                <a:gd name="adj3" fmla="val 21905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7" idx="1"/>
              <a:endCxn id="422" idx="1"/>
            </p:cNvCxnSpPr>
            <p:nvPr/>
          </p:nvCxnSpPr>
          <p:spPr>
            <a:xfrm flipH="1" rot="10800000">
              <a:off x="3203280" y="3771360"/>
              <a:ext cx="227520" cy="854640"/>
            </a:xfrm>
            <a:prstGeom prst="curvedConnector5">
              <a:avLst>
                <a:gd name="adj1" fmla="val -100633"/>
                <a:gd name="adj2" fmla="val 49978"/>
                <a:gd name="adj3" fmla="val -100633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2" idx="3"/>
              <a:endCxn id="423" idx="1"/>
            </p:cNvCxnSpPr>
            <p:nvPr/>
          </p:nvCxnSpPr>
          <p:spPr>
            <a:xfrm>
              <a:off x="4005000" y="3771720"/>
              <a:ext cx="3297960" cy="56268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1" name=""/>
            <p:cNvCxnSpPr>
              <a:stCxn id="423" idx="3"/>
              <a:endCxn id="424" idx="3"/>
            </p:cNvCxnSpPr>
            <p:nvPr/>
          </p:nvCxnSpPr>
          <p:spPr>
            <a:xfrm flipH="1">
              <a:off x="6433920" y="4333680"/>
              <a:ext cx="1443600" cy="1586520"/>
            </a:xfrm>
            <a:prstGeom prst="curvedConnector5">
              <a:avLst>
                <a:gd name="adj1" fmla="val -15839"/>
                <a:gd name="adj2" fmla="val 50000"/>
                <a:gd name="adj3" fmla="val -1583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2" name=""/>
            <p:cNvSpPr/>
            <p:nvPr/>
          </p:nvSpPr>
          <p:spPr>
            <a:xfrm>
              <a:off x="3219480" y="5008680"/>
              <a:ext cx="992160" cy="36648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2" idx="3"/>
              <a:endCxn id="432" idx="3"/>
            </p:cNvCxnSpPr>
            <p:nvPr/>
          </p:nvCxnSpPr>
          <p:spPr>
            <a:xfrm>
              <a:off x="4005000" y="3772080"/>
              <a:ext cx="207000" cy="1421280"/>
            </a:xfrm>
            <a:prstGeom prst="curvedConnector5">
              <a:avLst>
                <a:gd name="adj1" fmla="val 209930"/>
                <a:gd name="adj2" fmla="val 49987"/>
                <a:gd name="adj3" fmla="val 209930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1"/>
              <a:endCxn id="422" idx="1"/>
            </p:cNvCxnSpPr>
            <p:nvPr/>
          </p:nvCxnSpPr>
          <p:spPr>
            <a:xfrm flipH="1" rot="10800000">
              <a:off x="3219120" y="3771360"/>
              <a:ext cx="211680" cy="1421280"/>
            </a:xfrm>
            <a:prstGeom prst="curvedConnector5">
              <a:avLst>
                <a:gd name="adj1" fmla="val -108177"/>
                <a:gd name="adj2" fmla="val 49987"/>
                <a:gd name="adj3" fmla="val -108177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435" name=""/>
            <p:cNvSpPr/>
            <p:nvPr/>
          </p:nvSpPr>
          <p:spPr>
            <a:xfrm>
              <a:off x="5665680" y="5149800"/>
              <a:ext cx="992160" cy="366840"/>
            </a:xfrm>
            <a:prstGeom prst="roundRect">
              <a:avLst>
                <a:gd name="adj" fmla="val 16667"/>
              </a:avLst>
            </a:prstGeom>
            <a:solidFill>
              <a:srgbClr val="3b9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"/>
            <p:cNvCxnSpPr>
              <a:stCxn id="424" idx="3"/>
              <a:endCxn id="435" idx="3"/>
            </p:cNvCxnSpPr>
            <p:nvPr/>
          </p:nvCxnSpPr>
          <p:spPr>
            <a:xfrm flipV="1">
              <a:off x="6433920" y="5333400"/>
              <a:ext cx="224280" cy="586440"/>
            </a:xfrm>
            <a:prstGeom prst="curvedConnector5">
              <a:avLst>
                <a:gd name="adj1" fmla="val 201286"/>
                <a:gd name="adj2" fmla="val 50000"/>
                <a:gd name="adj3" fmla="val 20128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5" idx="1"/>
              <a:endCxn id="424" idx="1"/>
            </p:cNvCxnSpPr>
            <p:nvPr/>
          </p:nvCxnSpPr>
          <p:spPr>
            <a:xfrm flipH="1" flipV="1" rot="10800000">
              <a:off x="5665320" y="5333040"/>
              <a:ext cx="194400" cy="586440"/>
            </a:xfrm>
            <a:prstGeom prst="curvedConnector5">
              <a:avLst>
                <a:gd name="adj1" fmla="val -117996"/>
                <a:gd name="adj2" fmla="val 50000"/>
                <a:gd name="adj3" fmla="val -117996"/>
              </a:avLst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2" idx="3"/>
              <a:endCxn id="424" idx="1"/>
            </p:cNvCxnSpPr>
            <p:nvPr/>
          </p:nvCxnSpPr>
          <p:spPr>
            <a:xfrm>
              <a:off x="4005360" y="3772080"/>
              <a:ext cx="1854720" cy="2148480"/>
            </a:xfrm>
            <a:prstGeom prst="curvedConnector5">
              <a:avLst>
                <a:gd name="adj1" fmla="val 49990"/>
                <a:gd name="adj2" fmla="val 49991"/>
                <a:gd name="adj3" fmla="val 4999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DA0F-AC66-4534-803A-A19539CED81A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llustration of LSAs layou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0" name=""/>
          <p:cNvSpPr/>
          <p:nvPr/>
        </p:nvSpPr>
        <p:spPr>
          <a:xfrm>
            <a:off x="13968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968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968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3600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3600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13600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3" idx="1"/>
          </p:cNvCxnSpPr>
          <p:nvPr/>
        </p:nvCxnSpPr>
        <p:spPr>
          <a:xfrm>
            <a:off x="714240" y="157752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1" idx="3"/>
            <a:endCxn id="444" idx="1"/>
          </p:cNvCxnSpPr>
          <p:nvPr/>
        </p:nvCxnSpPr>
        <p:spPr>
          <a:xfrm>
            <a:off x="714240" y="229356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2" idx="3"/>
          </p:cNvCxnSpPr>
          <p:nvPr/>
        </p:nvCxnSpPr>
        <p:spPr>
          <a:xfrm>
            <a:off x="714240" y="301104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2678040" y="4102200"/>
            <a:ext cx="3787920" cy="9144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03480" y="3516480"/>
            <a:ext cx="4964040" cy="21398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44800" y="4822920"/>
            <a:ext cx="1454400" cy="366480"/>
          </a:xfrm>
          <a:prstGeom prst="roundRect">
            <a:avLst>
              <a:gd name="adj" fmla="val 16667"/>
            </a:avLst>
          </a:prstGeom>
          <a:solidFill>
            <a:srgbClr val="3b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44800" y="5495760"/>
            <a:ext cx="1454400" cy="366840"/>
          </a:xfrm>
          <a:prstGeom prst="roundRect">
            <a:avLst>
              <a:gd name="adj" fmla="val 16667"/>
            </a:avLst>
          </a:prstGeom>
          <a:solidFill>
            <a:srgbClr val="3b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4320" y="1260360"/>
            <a:ext cx="2835360" cy="3170520"/>
          </a:xfrm>
          <a:prstGeom prst="octagon">
            <a:avLst>
              <a:gd name="adj" fmla="val 10417"/>
            </a:avLst>
          </a:prstGeom>
          <a:solidFill>
            <a:srgbClr val="7a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Nod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onnectivit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2533320" y="25369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908240" y="26463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64584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39252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E1E8-E6F3-4A06-AFB2-0CE7A04151D7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42004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LSA describing WDM links </a:t>
            </a:r>
            <a:r>
              <a:rPr b="0" lang="en-US" sz="1400" spc="-1" strike="noStrike">
                <a:solidFill>
                  <a:srgbClr val="323232"/>
                </a:solidFill>
                <a:latin typeface="Trebuchet MS"/>
              </a:rPr>
              <a:t>-  referring to draft-zhang-ccamp-rwa-wson-routing-ospf-03 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9cc00"/>
              </a:buClr>
              <a:buFont typeface="Wingdings" charset="2"/>
              <a:buChar char="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cription of the fields of the Link TLV (top level TLV : type 2)</a:t>
            </a:r>
            <a:br>
              <a:rPr sz="1800"/>
            </a:b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thin LSA type 1O (Opaque LSA) – Opaque Type 1 (TE-LSA)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typ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1 Byt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t-Pt or Pt-M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rebuchet MS"/>
              </a:rPr>
              <a:t>Link I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4 Byt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 Address of the egress node of the lin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ocal interface IP address</a:t>
            </a:r>
            <a:r>
              <a:rPr b="0" i="1" lang="en-US" sz="1400" spc="-1" strike="noStrike" u="sng" baseline="30000">
                <a:solidFill>
                  <a:srgbClr val="0000cc"/>
                </a:solidFill>
                <a:uFillTx/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P Address of the ingress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mote interface IP addres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P Address of the egress node of the lin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Traffic engineering metric</a:t>
            </a:r>
            <a:r>
              <a:rPr b="0" i="1" lang="en-US" sz="1400" spc="-1" strike="noStrike" baseline="30000">
                <a:solidFill>
                  <a:srgbClr val="0000cc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Maximum bandwidth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ximum Bandwid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Unreserved bandwidth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Unreserved Bandwid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Resource class/col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dministrative value settable by oper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ink Local/Remote Identifier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8 Byte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Two identifiers identifying interfaces at both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ends of the link (values local to related nod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Link Protection Type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bes the protection (usually unprotec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Shared Risk Link Groups (SRLGs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Group of common risks (e.g. same fiber du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cc"/>
                </a:solidFill>
                <a:latin typeface="Trebuchet MS"/>
              </a:rPr>
              <a:t>Interface Switch Cap Descripto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rebuchet MS"/>
              </a:rPr>
              <a:t> rfc3630, rfc4203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scribes the switch cap a priori LSC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Wavelength restriction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Wavelength restr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Available wavelength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-151920">
              <a:lnSpc>
                <a:spcPts val="1397"/>
              </a:lnSpc>
              <a:spcAft>
                <a:spcPts val="601"/>
              </a:spcAft>
              <a:buClr>
                <a:srgbClr val="99cc00"/>
              </a:buClr>
              <a:buFont typeface="Trebuchet MS"/>
              <a:buChar char="–"/>
              <a:tabLst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rebuchet MS"/>
              </a:rPr>
              <a:t>Shared Backup wavelengths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4N Bytes 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Bitmap mask for available Wv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875160" indent="0">
              <a:lnSpc>
                <a:spcPts val="1397"/>
              </a:lnSpc>
              <a:spcAft>
                <a:spcPts val="601"/>
              </a:spcAft>
              <a:buNone/>
              <a:tabLst>
                <a:tab algn="l" pos="0"/>
                <a:tab algn="l" pos="438948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0EA2-7081-487C-B830-CCD14D0B1A36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/>
  <dc:description/>
  <dc:language>en-US</dc:language>
  <cp:lastModifiedBy>Peloso Pierre</cp:lastModifiedBy>
  <cp:lastPrinted>2002-04-19T19:23:03Z</cp:lastPrinted>
  <dcterms:modified xsi:type="dcterms:W3CDTF">2010-03-19T14:48:59Z</dcterms:modified>
  <cp:revision>32</cp:revision>
  <dc:subject/>
  <dc:title>Title of Presentation Second Line of Title Subheadings (if needed)</dc:title>
</cp:coreProperties>
</file>