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5560" y="549000"/>
            <a:ext cx="782604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5560" y="549000"/>
            <a:ext cx="782604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ricsson Internal  |  2010-03-17  |  Page </a:t>
            </a:r>
            <a:fld id="{AD3164C5-606D-4CBB-AED0-ECC163E00B4D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5e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85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1988640"/>
            <a:ext cx="8351640" cy="1708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5f"/>
                </a:solidFill>
                <a:latin typeface="Arial"/>
              </a:rPr>
              <a:t>draft-ietf-ccamp-rsvp-te-mpls-tp-oam-ext-01</a:t>
            </a:r>
            <a:r>
              <a:rPr b="0" lang="en-US" sz="2800" spc="-1" strike="noStrike">
                <a:solidFill>
                  <a:srgbClr val="00285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85f"/>
                </a:solidFill>
                <a:latin typeface="Arial"/>
              </a:rPr>
              <a:t>Configuration of pro-active MPLS-TP OAM functions using RSVP-TE or LSP Ping</a:t>
            </a:r>
            <a:endParaRPr b="0" lang="en-US" sz="2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765680"/>
            <a:ext cx="8354880" cy="1363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Elisa Bellagamba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Ericsson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Loa Andersson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Ericsson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Pontus Sköldström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creo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David Ward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Juniper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1280" y="4014720"/>
            <a:ext cx="8551800" cy="234000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280" y="1449360"/>
            <a:ext cx="8551800" cy="2340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81280" y="1692000"/>
            <a:ext cx="4905360" cy="187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o specify the mechanisms necessary to establish MPLS-TP OAM entities monitoring an LSP and define information elements and procedures to configure pro-active MPLS OAM functions. 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01640" y="2079720"/>
            <a:ext cx="2384640" cy="585720"/>
          </a:xfrm>
          <a:prstGeom prst="rect">
            <a:avLst/>
          </a:prstGeom>
        </p:spPr>
        <p:txBody>
          <a:bodyPr wrap="none" lIns="72000" rIns="72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285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JECTIVE</a:t>
            </a:r>
            <a:endParaRPr b="1" lang="en-US" sz="1800" spc="1" strike="noStrike">
              <a:ln w="9360">
                <a:solidFill>
                  <a:srgbClr val="00285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202360" y="4373640"/>
            <a:ext cx="3076560" cy="1395360"/>
          </a:xfrm>
          <a:prstGeom prst="rect">
            <a:avLst/>
          </a:prstGeom>
        </p:spPr>
        <p:txBody>
          <a:bodyPr wrap="none" lIns="72000" rIns="72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3897360" y="3968640"/>
            <a:ext cx="50385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4419720"/>
            <a:ext cx="4635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Configuration for BFD CC and CV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Discriminators configur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Unique MEP ID configur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Symmetric timers configur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hanges respect to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draft-bellagamba-ccamp-rsvp-te-mpls-tp-oam-ext-03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[1]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202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ligned with </a:t>
            </a:r>
            <a:r>
              <a:rPr b="1" lang="en-US" sz="2000" spc="-1" strike="noStrike">
                <a:solidFill>
                  <a:srgbClr val="00285e"/>
                </a:solidFill>
                <a:latin typeface="Arial"/>
              </a:rPr>
              <a:t>draft-ietf-ccamp-oam-configuration-fwk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 and the others technology-specific configuration drafts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dopted as Working Group document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dded the configuration for the following functionalities: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Performance Monitoring Loss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 as specified in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draft-frost-mpls-tp-loss-delay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Performance Monitoring Delay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 as specified in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draft-frost-mpls-tp-loss-delay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Fault Management Signal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 as specified in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draft-sfv-mpls-tp-fault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veral choices for timers configuration for BFD added: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9d4"/>
                </a:solidFill>
                <a:latin typeface="Arial"/>
              </a:rPr>
              <a:t>no configuration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: negotiation entirely demanded to BFD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9d4"/>
                </a:solidFill>
                <a:latin typeface="Arial"/>
              </a:rPr>
              <a:t>symmetric configuration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9d4"/>
                </a:solidFill>
                <a:latin typeface="Arial"/>
              </a:rPr>
              <a:t>asymmetric configuration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06080" y="1359000"/>
            <a:ext cx="8351640" cy="18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MPLS OAM configuration can be done via LSP-ping: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the TLV structures originally defined for RSVP-TE can be entirely reused for LSP-ping 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he “unique MEP-ID” field necessary for CV follows the specification in </a:t>
            </a:r>
            <a:r>
              <a:rPr b="1" lang="en-US" sz="2000" spc="-1" strike="noStrike">
                <a:solidFill>
                  <a:srgbClr val="00285e"/>
                </a:solidFill>
                <a:latin typeface="Arial"/>
              </a:rPr>
              <a:t>draft-swallow-mpls-tp-identifiers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hanges respect to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draft-bellagamba-ccamp-rsvp-te-mpls-tp-oam-ext-03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[2]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6280" y="3203640"/>
            <a:ext cx="5940360" cy="809640"/>
            <a:chOff x="1376280" y="3203640"/>
            <a:chExt cx="5940360" cy="809640"/>
          </a:xfrm>
        </p:grpSpPr>
        <p:sp>
          <p:nvSpPr>
            <p:cNvPr id="98" name=""/>
            <p:cNvSpPr/>
            <p:nvPr/>
          </p:nvSpPr>
          <p:spPr>
            <a:xfrm>
              <a:off x="1376280" y="3203640"/>
              <a:ext cx="5940360" cy="809640"/>
            </a:xfrm>
            <a:prstGeom prst="roundRect">
              <a:avLst>
                <a:gd name="adj" fmla="val 16667"/>
              </a:avLst>
            </a:prstGeom>
            <a:solidFill>
              <a:srgbClr val="c1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59800" y="3313440"/>
              <a:ext cx="5731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85e"/>
                  </a:solidFill>
                  <a:latin typeface="Courier New"/>
                </a:rPr>
                <a:t>&lt;"Unique MEP-ID of source of BFD packet"&gt; ::= &lt;src_node_id&gt;&lt;src_tunnel_num&gt;&lt;lsp_num&gt;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241280" y="4284720"/>
            <a:ext cx="697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While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for LSP ping a new TLV has been defined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, for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RSVP-TE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the necessary info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can already be found 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in the following mandatory object: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5138640"/>
            <a:ext cx="7200720" cy="1079640"/>
          </a:xfrm>
          <a:prstGeom prst="roundRect">
            <a:avLst>
              <a:gd name="adj" fmla="val 16667"/>
            </a:avLst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6640" y="5229360"/>
            <a:ext cx="711036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src_tunnel_num </a:t>
            </a:r>
            <a:r>
              <a:rPr b="1" lang="en-US" sz="1600" spc="-1" strike="noStrike">
                <a:solidFill>
                  <a:srgbClr val="00285e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 Tunnel ID [SESSION obj]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src_node_id 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285e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 Tunnel Sender Address [SENDER_TEMPLATE]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LSP_Num 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285e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 LSP ID [SENDER_TEMPLATE]</a:t>
            </a:r>
            <a:r>
              <a:rPr b="1" lang="en-US" sz="1600" spc="-1" strike="noStrike">
                <a:solidFill>
                  <a:srgbClr val="58585a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425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Work in parallel with the work done in MPLS-TP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285e"/>
                </a:solidFill>
                <a:latin typeface="Arial"/>
              </a:rPr>
              <a:t>Receive more comments from the Working Group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eelibel</cp:lastModifiedBy>
  <dcterms:modified xsi:type="dcterms:W3CDTF">2010-03-19T21:32:51Z</dcterms:modified>
  <cp:revision>167</cp:revision>
  <dc:subject/>
  <dc:title>RSVP-TE extensions  for MPLS-TP OAM Configu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03-1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 Internal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03-1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