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5560" y="549000"/>
            <a:ext cx="782604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5560" y="549000"/>
            <a:ext cx="782604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Ericsson Internal  |  2010-03-17  |  Page </a:t>
            </a:r>
            <a:fld id="{659B3BCE-8CCE-4DE9-B1E8-D0BFD5E8E046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720" y="2096280"/>
            <a:ext cx="8352000" cy="1462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85e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4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5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85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85e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480" y="1988640"/>
            <a:ext cx="8351640" cy="17082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5f"/>
                </a:solidFill>
                <a:latin typeface="Arial"/>
              </a:rPr>
              <a:t>draft-ietf-ccamp-rsvp-te-mpls-tp-oam-ext-01</a:t>
            </a:r>
            <a:r>
              <a:rPr b="0" lang="en-US" sz="2800" spc="-1" strike="noStrike">
                <a:solidFill>
                  <a:srgbClr val="00285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285f"/>
                </a:solidFill>
                <a:latin typeface="Arial"/>
              </a:rPr>
              <a:t>Configuration of pro-active MPLS-TP OAM functions using RSVP-TE or LSP Ping</a:t>
            </a:r>
            <a:endParaRPr b="0" lang="en-US" sz="28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3840" y="4765680"/>
            <a:ext cx="8354880" cy="1363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Elisa Bellagamba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Ericsson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Loa Andersson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Ericsson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Pontus Sköldström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Acreo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David Ward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Juniper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41280" y="4014720"/>
            <a:ext cx="8551800" cy="2340000"/>
          </a:xfrm>
          <a:prstGeom prst="flowChartAlternateProcess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1280" y="1449360"/>
            <a:ext cx="8551800" cy="2340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81280" y="1692000"/>
            <a:ext cx="4905360" cy="187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To specify the mechanisms necessary to establish MPLS-TP OAM entities monitoring an LSP and define information elements and procedures to configure pro-active MPLS OAM functions. 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01640" y="2079720"/>
            <a:ext cx="2384640" cy="585720"/>
          </a:xfrm>
          <a:prstGeom prst="rect">
            <a:avLst/>
          </a:prstGeom>
        </p:spPr>
        <p:txBody>
          <a:bodyPr wrap="none" lIns="72000" rIns="72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285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BJECTIVE</a:t>
            </a:r>
            <a:endParaRPr b="1" lang="en-US" sz="1800" spc="1" strike="noStrike">
              <a:ln w="9360">
                <a:solidFill>
                  <a:srgbClr val="00285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202360" y="4373640"/>
            <a:ext cx="3076560" cy="1395360"/>
          </a:xfrm>
          <a:prstGeom prst="rect">
            <a:avLst/>
          </a:prstGeom>
        </p:spPr>
        <p:txBody>
          <a:bodyPr wrap="none" lIns="72000" rIns="72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r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3897360" y="3968640"/>
            <a:ext cx="50385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4419720"/>
            <a:ext cx="46353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Configuration for BFD CC and CV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85e"/>
                </a:solidFill>
                <a:latin typeface="Arial"/>
              </a:rPr>
              <a:t>Discriminators configurat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85e"/>
                </a:solidFill>
                <a:latin typeface="Arial"/>
              </a:rPr>
              <a:t>Unique MEP ID configurat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85e"/>
                </a:solidFill>
                <a:latin typeface="Arial"/>
              </a:rPr>
              <a:t>Symmetric timers configurat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3840" y="199080"/>
            <a:ext cx="7826400" cy="853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Changes respect to 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draft-bellagamba-ccamp-rsvp-te-mpls-tp-oam-ext-03 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[1]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8352000" cy="52023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Aligned with </a:t>
            </a:r>
            <a:r>
              <a:rPr b="1" lang="en-US" sz="2000" spc="-1" strike="noStrike">
                <a:solidFill>
                  <a:srgbClr val="00285e"/>
                </a:solidFill>
                <a:latin typeface="Arial"/>
              </a:rPr>
              <a:t>draft-ietf-ccamp-oam-configuration-fwk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 and the others technology-specific configuration drafts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Adopted as Working Group document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Added the configuration for the following functionalities: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9d4"/>
                </a:solidFill>
                <a:latin typeface="Arial"/>
              </a:rPr>
              <a:t>Performance Monitoring Loss</a:t>
            </a: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 as specified in </a:t>
            </a:r>
            <a:r>
              <a:rPr b="1" lang="en-US" sz="1600" spc="-1" strike="noStrike">
                <a:solidFill>
                  <a:srgbClr val="00285e"/>
                </a:solidFill>
                <a:latin typeface="Arial"/>
              </a:rPr>
              <a:t>draft-frost-mpls-tp-loss-delay</a:t>
            </a: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9d4"/>
                </a:solidFill>
                <a:latin typeface="Arial"/>
              </a:rPr>
              <a:t>Performance Monitoring Delay</a:t>
            </a: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 as specified in </a:t>
            </a:r>
            <a:r>
              <a:rPr b="1" lang="en-US" sz="1600" spc="-1" strike="noStrike">
                <a:solidFill>
                  <a:srgbClr val="00285e"/>
                </a:solidFill>
                <a:latin typeface="Arial"/>
              </a:rPr>
              <a:t>draft-frost-mpls-tp-loss-delay</a:t>
            </a: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9d4"/>
                </a:solidFill>
                <a:latin typeface="Arial"/>
              </a:rPr>
              <a:t>Fault Management Signal</a:t>
            </a: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 as specified in </a:t>
            </a:r>
            <a:r>
              <a:rPr b="1" lang="en-US" sz="1600" spc="-1" strike="noStrike">
                <a:solidFill>
                  <a:srgbClr val="00285e"/>
                </a:solidFill>
                <a:latin typeface="Arial"/>
              </a:rPr>
              <a:t>draft-sfv-mpls-tp-fault</a:t>
            </a: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Several choices for timers configuration for BFD added: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9d4"/>
                </a:solidFill>
                <a:latin typeface="Arial"/>
              </a:rPr>
              <a:t>no configuration</a:t>
            </a: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: negotiation entirely demanded to BFD</a:t>
            </a: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9d4"/>
                </a:solidFill>
                <a:latin typeface="Arial"/>
              </a:rPr>
              <a:t>symmetric configuration</a:t>
            </a: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9d4"/>
                </a:solidFill>
                <a:latin typeface="Arial"/>
              </a:rPr>
              <a:t>asymmetric configuration</a:t>
            </a: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06080" y="1359000"/>
            <a:ext cx="8351640" cy="18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MPLS OAM configuration can be done via LSP-ping: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the TLV structures originally defined for RSVP-TE can be entirely reused for LSP-ping </a:t>
            </a: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85e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The “unique MEP-ID” field necessary for CV follows the specification in </a:t>
            </a:r>
            <a:r>
              <a:rPr b="1" lang="en-US" sz="2000" spc="-1" strike="noStrike">
                <a:solidFill>
                  <a:srgbClr val="00285e"/>
                </a:solidFill>
                <a:latin typeface="Arial"/>
              </a:rPr>
              <a:t>draft-swallow-mpls-tp-identifiers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93840" y="199080"/>
            <a:ext cx="7826400" cy="853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Changes respect to 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draft-bellagamba-ccamp-rsvp-te-mpls-tp-oam-ext-03 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[2]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76280" y="3203640"/>
            <a:ext cx="5940360" cy="809640"/>
            <a:chOff x="1376280" y="3203640"/>
            <a:chExt cx="5940360" cy="809640"/>
          </a:xfrm>
        </p:grpSpPr>
        <p:sp>
          <p:nvSpPr>
            <p:cNvPr id="98" name=""/>
            <p:cNvSpPr/>
            <p:nvPr/>
          </p:nvSpPr>
          <p:spPr>
            <a:xfrm>
              <a:off x="1376280" y="3203640"/>
              <a:ext cx="5940360" cy="809640"/>
            </a:xfrm>
            <a:prstGeom prst="roundRect">
              <a:avLst>
                <a:gd name="adj" fmla="val 16667"/>
              </a:avLst>
            </a:prstGeom>
            <a:solidFill>
              <a:srgbClr val="c1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59800" y="3313440"/>
              <a:ext cx="5731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85e"/>
                  </a:solidFill>
                  <a:latin typeface="Courier New"/>
                </a:rPr>
                <a:t>&lt;"Unique MEP-ID of source of BFD packet"&gt; ::= &lt;src_node_id&gt;&lt;src_tunnel_num&gt;&lt;lsp_num&gt;</a:t>
              </a:r>
              <a:endParaRPr b="0" lang="en-US" sz="16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241280" y="4284720"/>
            <a:ext cx="697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While </a:t>
            </a:r>
            <a:r>
              <a:rPr b="1" lang="en-US" sz="1600" spc="-1" strike="noStrike">
                <a:solidFill>
                  <a:srgbClr val="00285e"/>
                </a:solidFill>
                <a:latin typeface="Arial"/>
              </a:rPr>
              <a:t>for LSP ping a new TLV has been defined</a:t>
            </a: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, for </a:t>
            </a:r>
            <a:r>
              <a:rPr b="1" lang="en-US" sz="1600" spc="-1" strike="noStrike">
                <a:solidFill>
                  <a:srgbClr val="00285e"/>
                </a:solidFill>
                <a:latin typeface="Arial"/>
              </a:rPr>
              <a:t>RSVP-TE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the necessary info </a:t>
            </a:r>
            <a:r>
              <a:rPr b="1" lang="en-US" sz="1600" spc="-1" strike="noStrike">
                <a:solidFill>
                  <a:srgbClr val="00285e"/>
                </a:solidFill>
                <a:latin typeface="Arial"/>
              </a:rPr>
              <a:t>can already be found </a:t>
            </a:r>
            <a:r>
              <a:rPr b="0" lang="en-US" sz="1600" spc="-1" strike="noStrike">
                <a:solidFill>
                  <a:srgbClr val="00285e"/>
                </a:solidFill>
                <a:latin typeface="Arial"/>
              </a:rPr>
              <a:t>in the following mandatory object: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6280" y="5138640"/>
            <a:ext cx="7200720" cy="1079640"/>
          </a:xfrm>
          <a:prstGeom prst="roundRect">
            <a:avLst>
              <a:gd name="adj" fmla="val 16667"/>
            </a:avLst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6640" y="5229360"/>
            <a:ext cx="711036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85e"/>
                </a:solidFill>
                <a:latin typeface="Courier New"/>
              </a:rPr>
              <a:t>src_tunnel_num </a:t>
            </a:r>
            <a:r>
              <a:rPr b="1" lang="en-US" sz="1600" spc="-1" strike="noStrike">
                <a:solidFill>
                  <a:srgbClr val="00285e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285e"/>
                </a:solidFill>
                <a:latin typeface="Courier New"/>
              </a:rPr>
              <a:t> Tunnel ID [SESSION obj]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85e"/>
                </a:solidFill>
                <a:latin typeface="Courier New"/>
              </a:rPr>
              <a:t>src_node_id </a:t>
            </a:r>
            <a:r>
              <a:rPr b="1" lang="en-US" sz="1600" spc="-1" strike="noStrike">
                <a:solidFill>
                  <a:srgbClr val="00285e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285e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285e"/>
                </a:solidFill>
                <a:latin typeface="Courier New"/>
              </a:rPr>
              <a:t> Tunnel Sender Address [SENDER_TEMPLATE]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85e"/>
                </a:solidFill>
                <a:latin typeface="Courier New"/>
              </a:rPr>
              <a:t>LSP_Num </a:t>
            </a:r>
            <a:r>
              <a:rPr b="1" lang="en-US" sz="1600" spc="-1" strike="noStrike">
                <a:solidFill>
                  <a:srgbClr val="00285e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285e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285e"/>
                </a:solidFill>
                <a:latin typeface="Courier New"/>
              </a:rPr>
              <a:t> LSP ID [SENDER_TEMPLATE]</a:t>
            </a:r>
            <a:r>
              <a:rPr b="1" lang="en-US" sz="1600" spc="-1" strike="noStrike">
                <a:solidFill>
                  <a:srgbClr val="58585a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8352000" cy="4257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Work in parallel with the work done in MPLS-TP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285e"/>
                </a:solidFill>
                <a:latin typeface="Arial"/>
              </a:rPr>
              <a:t>Receive more comments from the Working Group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/>
  <dc:description>Rev PA1</dc:description>
  <cp:keywords/>
  <dc:language>en-US</dc:language>
  <cp:lastModifiedBy>eelibel</cp:lastModifiedBy>
  <dcterms:modified xsi:type="dcterms:W3CDTF">2010-03-19T21:32:51Z</dcterms:modified>
  <cp:revision>167</cp:revision>
  <dc:subject/>
  <dc:title>RSVP-TE extensions  for MPLS-TP OAM Configu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03-17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1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/>
  </property>
  <property fmtid="{D5CDD505-2E9C-101B-9397-08002B2CF9AE}" pid="13" name="MiddleFooterField">
    <vt:lpwstr>Ericsson Internal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/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0-03-17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0</vt:bool>
  </property>
  <property fmtid="{D5CDD505-2E9C-101B-9397-08002B2CF9AE}" pid="39" name="optFooterCVLDate">
    <vt:bool>1</vt:bool>
  </property>
  <property fmtid="{D5CDD505-2E9C-101B-9397-08002B2CF9AE}" pid="40" name="optFooterCVLDocNo">
    <vt:bool>1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