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6B1AF-B698-48D4-8ACA-C99B95086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C5715-F67F-4C7F-A0EB-4783AA5E9F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4D5DF-D7E4-4D6A-B848-103C7FAC573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7FD44-D446-4404-A05A-9B8FF9C2E4C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2B605-C5B4-4ECB-904F-428C0F8FC6A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7063B-F634-4A0D-B0B1-13BBC478EC3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9325E-8403-4C12-BCA5-7CDF79DC4A9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A2D8D-9CF3-4ECC-9217-1EC60ACFE6C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6D059-CCEA-4904-81C3-9C73171D225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301AA-1956-4940-867E-935D9E21FDA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26407-9F77-4ED6-97D5-3495B2B48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1E265-7407-4B7F-A2FA-32B4C9C26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20527DD8-3963-4F2F-85CC-09E42CE9FF7B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"/>
          <p:cNvSpPr/>
          <p:nvPr/>
        </p:nvSpPr>
        <p:spPr>
          <a:xfrm>
            <a:off x="3710880" y="643896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612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115" name="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7768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2680" y="620712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99400" y="247680"/>
            <a:ext cx="19663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宋体"/>
              </a:rPr>
              <a:t>内部公开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F3F4A198-734D-4CE5-A596-984E98F04B1C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06F4-4032-44AC-A800-6CB00E6126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ergio.belotti@alcatel-lucent.it" TargetMode="External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71280" y="2852280"/>
            <a:ext cx="7272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CAMP WG, IETF 77th, Anaheim, California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, USA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zhang-ccamp-gmpls-g709-framework-02.t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Fatai Zhang (zhangfatai@huawei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 Li (danli@huawei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an Li (lihan@chinamobile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gio Belotti (sergio.belotti@alcatel-lucent.it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685440" y="907920"/>
            <a:ext cx="81342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GMPLS and PCE Control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.709 Optical Transport 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from 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06040" y="134136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welcome a new co-author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ergio.belotti@alcatel-lucent.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new contributors (Malcolm Betts, Pietro Grandi, Eve Varma); Thanks to Maarten Vis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nstructed Section 3, which is about OTN overview from the perspective of control pl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lized two kinds of network topology from the perspective of control pl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d non-normative stuff, e.g., ODU3e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move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ption of LO ODU terminology and two typical ODU connection examples to Appendix 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5805360"/>
            <a:ext cx="74883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e that we had version 01, but it is not pres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nstruction on Sec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9120" y="1268280"/>
            <a:ext cx="78692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Signal Map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DU types and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ultiplexing ODUj onto Lin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i.e., TS al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nk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PN (Tributary Port Number) Assig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90400" y="237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Conn Management of the O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6400" y="1125360"/>
            <a:ext cx="77263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ODU lay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76240" y="2409840"/>
            <a:ext cx="70668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25200" y="252108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4200" y="2824200"/>
            <a:ext cx="685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73560" y="2403360"/>
            <a:ext cx="7063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5800" y="251460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62760" y="2819520"/>
            <a:ext cx="686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60880" y="2411280"/>
            <a:ext cx="70668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11280" y="252252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74920" y="2827440"/>
            <a:ext cx="6832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89600" y="2411280"/>
            <a:ext cx="70668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38560" y="252252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13720" y="2828880"/>
            <a:ext cx="698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1655640"/>
            <a:ext cx="7066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04960" y="173340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316040" y="2081160"/>
            <a:ext cx="672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86" idx="3"/>
            <a:endCxn id="289" idx="1"/>
          </p:cNvCxnSpPr>
          <p:nvPr/>
        </p:nvCxnSpPr>
        <p:spPr>
          <a:xfrm flipV="1">
            <a:off x="2482920" y="2620440"/>
            <a:ext cx="8913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89" idx="3"/>
            <a:endCxn id="292" idx="1"/>
          </p:cNvCxnSpPr>
          <p:nvPr/>
        </p:nvCxnSpPr>
        <p:spPr>
          <a:xfrm>
            <a:off x="4079520" y="2620440"/>
            <a:ext cx="98172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92" idx="3"/>
            <a:endCxn id="295" idx="1"/>
          </p:cNvCxnSpPr>
          <p:nvPr/>
        </p:nvCxnSpPr>
        <p:spPr>
          <a:xfrm>
            <a:off x="5767200" y="2628720"/>
            <a:ext cx="1022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2460960" y="240840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39000" y="239544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26680" y="240192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27800" y="162864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15360" y="162864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95640" y="1844640"/>
            <a:ext cx="2160360" cy="576360"/>
          </a:xfrm>
          <a:custGeom>
            <a:avLst/>
            <a:gdLst/>
            <a:ahLst/>
            <a:rect l="l" t="t" r="r" b="b"/>
            <a:pathLst>
              <a:path w="1678" h="363">
                <a:moveTo>
                  <a:pt x="0" y="363"/>
                </a:moveTo>
                <a:lnTo>
                  <a:pt x="0" y="0"/>
                </a:lnTo>
                <a:lnTo>
                  <a:pt x="1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6720" y="1844640"/>
            <a:ext cx="2232000" cy="576360"/>
          </a:xfrm>
          <a:custGeom>
            <a:avLst/>
            <a:gdLst/>
            <a:ahLst/>
            <a:rect l="l" t="t" r="r" b="b"/>
            <a:pathLst>
              <a:path w="1270" h="363">
                <a:moveTo>
                  <a:pt x="0" y="0"/>
                </a:moveTo>
                <a:lnTo>
                  <a:pt x="1270" y="0"/>
                </a:lnTo>
                <a:lnTo>
                  <a:pt x="1270" y="3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26920" y="3456000"/>
            <a:ext cx="7921800" cy="3141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7f3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ork only with the ODU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 this layer there are links with a variety of TSes available, and nodes that are ODXC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e.g., the ODU links (e.g., link#1-link#5) are presented between adjacent OTN n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 ODU connections can be setup based on the network topolog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e.g., Path computation will select a path that has the required    number of TS available and offers the lowest cost.  Signaling is    then invoked to set up the path by carrying conn the infor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11160" y="2467080"/>
            <a:ext cx="5597640" cy="811080"/>
          </a:xfrm>
          <a:custGeom>
            <a:avLst/>
            <a:gdLst/>
            <a:ahLst/>
            <a:rect l="l" t="t" r="r" b="b"/>
            <a:pathLst>
              <a:path w="3526" h="511">
                <a:moveTo>
                  <a:pt x="44" y="511"/>
                </a:moveTo>
                <a:cubicBezTo>
                  <a:pt x="69" y="440"/>
                  <a:pt x="0" y="162"/>
                  <a:pt x="192" y="83"/>
                </a:cubicBezTo>
                <a:cubicBezTo>
                  <a:pt x="384" y="4"/>
                  <a:pt x="859" y="41"/>
                  <a:pt x="1196" y="34"/>
                </a:cubicBezTo>
                <a:cubicBezTo>
                  <a:pt x="1533" y="27"/>
                  <a:pt x="1862" y="35"/>
                  <a:pt x="2216" y="42"/>
                </a:cubicBezTo>
                <a:cubicBezTo>
                  <a:pt x="2570" y="49"/>
                  <a:pt x="3112" y="0"/>
                  <a:pt x="3319" y="75"/>
                </a:cubicBezTo>
                <a:cubicBezTo>
                  <a:pt x="3526" y="150"/>
                  <a:pt x="3430" y="407"/>
                  <a:pt x="3459" y="4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Conn Management of the O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28800" y="1125360"/>
            <a:ext cx="77263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U layer with OCh switching cap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98640" y="3111480"/>
            <a:ext cx="7063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47600" y="322272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866600" y="3525840"/>
            <a:ext cx="685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95600" y="3105000"/>
            <a:ext cx="70668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08200" y="321624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85160" y="3521160"/>
            <a:ext cx="686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83280" y="3112920"/>
            <a:ext cx="7063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33680" y="322416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97320" y="3529080"/>
            <a:ext cx="6832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12000" y="3112920"/>
            <a:ext cx="7063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60960" y="322416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935760" y="3530520"/>
            <a:ext cx="698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78400" y="1800360"/>
            <a:ext cx="7063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7360" y="1878120"/>
            <a:ext cx="645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OD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38080" y="2225520"/>
            <a:ext cx="672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Node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"/>
          <p:cNvCxnSpPr/>
          <p:nvPr/>
        </p:nvCxnSpPr>
        <p:spPr>
          <a:xfrm flipV="1">
            <a:off x="2604960" y="3452400"/>
            <a:ext cx="8913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/>
          <p:nvPr/>
        </p:nvCxnSpPr>
        <p:spPr>
          <a:xfrm>
            <a:off x="4201920" y="3451320"/>
            <a:ext cx="9817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" name=""/>
          <p:cNvCxnSpPr/>
          <p:nvPr/>
        </p:nvCxnSpPr>
        <p:spPr>
          <a:xfrm>
            <a:off x="5889600" y="3458880"/>
            <a:ext cx="1023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2713320" y="324000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61400" y="324000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48720" y="324000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49840" y="177336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37760" y="1773360"/>
            <a:ext cx="678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</a:rPr>
              <a:t>Link 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0000" y="1989000"/>
            <a:ext cx="2138400" cy="1152720"/>
          </a:xfrm>
          <a:custGeom>
            <a:avLst/>
            <a:gdLst/>
            <a:ahLst/>
            <a:rect l="l" t="t" r="r" b="b"/>
            <a:pathLst>
              <a:path w="1678" h="363">
                <a:moveTo>
                  <a:pt x="0" y="363"/>
                </a:moveTo>
                <a:lnTo>
                  <a:pt x="0" y="0"/>
                </a:lnTo>
                <a:lnTo>
                  <a:pt x="1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99120" y="1989000"/>
            <a:ext cx="2109600" cy="1152720"/>
          </a:xfrm>
          <a:custGeom>
            <a:avLst/>
            <a:gdLst/>
            <a:ahLst/>
            <a:rect l="l" t="t" r="r" b="b"/>
            <a:pathLst>
              <a:path w="1270" h="363">
                <a:moveTo>
                  <a:pt x="0" y="0"/>
                </a:moveTo>
                <a:lnTo>
                  <a:pt x="1270" y="0"/>
                </a:lnTo>
                <a:lnTo>
                  <a:pt x="1270" y="3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2492280"/>
            <a:ext cx="287280" cy="289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71160" y="2494080"/>
            <a:ext cx="639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FrutigerNext LT Regular"/>
              </a:rPr>
              <a:t>Node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02760" y="2494080"/>
            <a:ext cx="681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FrutigerNext LT Regular"/>
              </a:rPr>
              <a:t>Node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64000" y="2494080"/>
            <a:ext cx="287640" cy="28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00720" y="3070080"/>
            <a:ext cx="358560" cy="216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51280" y="2133720"/>
            <a:ext cx="649440" cy="360360"/>
          </a:xfrm>
          <a:custGeom>
            <a:avLst/>
            <a:gdLst/>
            <a:ahLst/>
            <a:rect l="l" t="t" r="r" b="b"/>
            <a:pathLst>
              <a:path w="409" h="227">
                <a:moveTo>
                  <a:pt x="0" y="227"/>
                </a:moveTo>
                <a:lnTo>
                  <a:pt x="0" y="0"/>
                </a:lnTo>
                <a:lnTo>
                  <a:pt x="409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48360" y="213372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227" y="227"/>
                </a:move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11640" y="3184560"/>
            <a:ext cx="28908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3186000"/>
            <a:ext cx="288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08720" y="278136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8560" y="2854440"/>
            <a:ext cx="681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FrutigerNext LT Regular"/>
              </a:rPr>
              <a:t>Node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276876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51280" y="3214800"/>
            <a:ext cx="16574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54360" y="3267000"/>
            <a:ext cx="5597280" cy="811440"/>
          </a:xfrm>
          <a:custGeom>
            <a:avLst/>
            <a:gdLst/>
            <a:ahLst/>
            <a:rect l="l" t="t" r="r" b="b"/>
            <a:pathLst>
              <a:path w="3526" h="511">
                <a:moveTo>
                  <a:pt x="44" y="511"/>
                </a:moveTo>
                <a:cubicBezTo>
                  <a:pt x="69" y="440"/>
                  <a:pt x="0" y="162"/>
                  <a:pt x="192" y="83"/>
                </a:cubicBezTo>
                <a:cubicBezTo>
                  <a:pt x="384" y="4"/>
                  <a:pt x="859" y="41"/>
                  <a:pt x="1196" y="34"/>
                </a:cubicBezTo>
                <a:cubicBezTo>
                  <a:pt x="1533" y="27"/>
                  <a:pt x="1862" y="35"/>
                  <a:pt x="2216" y="42"/>
                </a:cubicBezTo>
                <a:cubicBezTo>
                  <a:pt x="2570" y="49"/>
                  <a:pt x="3112" y="0"/>
                  <a:pt x="3319" y="75"/>
                </a:cubicBezTo>
                <a:cubicBezTo>
                  <a:pt x="3526" y="150"/>
                  <a:pt x="3430" y="407"/>
                  <a:pt x="3459" y="4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26920" y="4149720"/>
            <a:ext cx="7921800" cy="244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7f3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TN nodes interconnect with wavelength switched node (e.g., ROADM,OXC) that are capable of OCh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MLN (i.e, ODU layer and OCh 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-ODU/OCh connection will appear at ODU level as a Forwarding Adjacency which will be used to create the ODU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88480" y="1557360"/>
            <a:ext cx="78598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opt it as a WG docu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discussion with ITU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are always apprec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</dc:creator>
  <dc:description/>
  <dc:language>en-US</dc:language>
  <cp:lastModifiedBy>Fatai</cp:lastModifiedBy>
  <dcterms:modified xsi:type="dcterms:W3CDTF">2010-03-19T08:26:11Z</dcterms:modified>
  <cp:revision>4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636256</vt:lpwstr>
  </property>
</Properties>
</file>