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042CF-6755-4FE1-ACBE-82629DD9E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F69C1-A42F-437D-B31D-ED74E6CADE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BA75-EC7D-4700-8989-DA862B9FB4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2417E-CA06-4BD9-8EE6-197E8534FB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C1936-44B2-4543-B14E-CA7E42823E8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36071-E82A-44AE-BB48-7621156A7D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AF743-1061-48C0-A07D-51B9B57D62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5190C-956D-4993-9A28-73E6AEE50CF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33BFB-B0EE-48C4-987B-BB8E4FE82C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01DA6-B4E4-4620-84DC-8FB9B643B3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948C7-3CC4-4BD2-BCDA-21B7FA4C2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8E61C-0BA5-4821-956C-5D3EB8571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3EF25D4F-0A7C-42FA-8A6E-7C29F9363F40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35BB67E1-196F-4BF7-AC25-291D63789AE2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E057-B585-4719-9AEB-71772758B3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ergio.belotti@alcatel-lucent.it" TargetMode="External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71280" y="2852280"/>
            <a:ext cx="7272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CAMP WG, IETF 77th, Anaheim, California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, US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zhang-ccamp-gmpls-g709-framework-02.t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tai Zhang (zhangfatai@huawei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 Li (danli@huawei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an Li (lihan@chinamobile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gio Belotti (sergio.belotti@alcatel-lucent.it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5440" y="907920"/>
            <a:ext cx="81342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GMPLS and PCE Control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709 Optical Transport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from 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6040" y="134136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welcome a new co-author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ergio.belotti@alcatel-lucent.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new contributors (Malcolm Betts, Pietro Grandi, Eve Varma); Thanks to Maarten Vis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nstructed Section 3, which is about OTN overview from the perspective of control pl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ized two kinds of network topology from the perspective of control pl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d non-normative stuff, e.g., ODU3e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mov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ption of LO ODU terminology and two typical ODU connection examples to Appendix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5805360"/>
            <a:ext cx="74883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 that we had version 01, but it is not 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nstruction on Sec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9120" y="1268280"/>
            <a:ext cx="78692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ignal Ma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DU types and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ultiplexing ODUj onto Lin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.e., TS al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nk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PN (Tributary Port Number) 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904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Conn Management of the O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6400" y="1125360"/>
            <a:ext cx="7726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ODU la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76240" y="2409840"/>
            <a:ext cx="7066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5200" y="252108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4200" y="2824200"/>
            <a:ext cx="68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73560" y="2403360"/>
            <a:ext cx="7063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5800" y="251460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62760" y="2819520"/>
            <a:ext cx="686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60880" y="2411280"/>
            <a:ext cx="7066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11280" y="252252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74920" y="2827440"/>
            <a:ext cx="6832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89600" y="2411280"/>
            <a:ext cx="7066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38560" y="252252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3720" y="2828880"/>
            <a:ext cx="69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1655640"/>
            <a:ext cx="7066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04960" y="173340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16040" y="2081160"/>
            <a:ext cx="672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86" idx="3"/>
            <a:endCxn id="289" idx="1"/>
          </p:cNvCxnSpPr>
          <p:nvPr/>
        </p:nvCxnSpPr>
        <p:spPr>
          <a:xfrm flipV="1">
            <a:off x="2482920" y="2620440"/>
            <a:ext cx="8913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9" idx="3"/>
            <a:endCxn id="292" idx="1"/>
          </p:cNvCxnSpPr>
          <p:nvPr/>
        </p:nvCxnSpPr>
        <p:spPr>
          <a:xfrm>
            <a:off x="4079520" y="2620440"/>
            <a:ext cx="98172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2" idx="3"/>
            <a:endCxn id="295" idx="1"/>
          </p:cNvCxnSpPr>
          <p:nvPr/>
        </p:nvCxnSpPr>
        <p:spPr>
          <a:xfrm>
            <a:off x="5767200" y="2628720"/>
            <a:ext cx="102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2460960" y="240840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39000" y="239544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26680" y="240192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27800" y="162864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15360" y="162864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95640" y="1844640"/>
            <a:ext cx="2160360" cy="576360"/>
          </a:xfrm>
          <a:custGeom>
            <a:avLst/>
            <a:gdLst/>
            <a:ahLst/>
            <a:rect l="l" t="t" r="r" b="b"/>
            <a:pathLst>
              <a:path w="1678" h="363">
                <a:moveTo>
                  <a:pt x="0" y="363"/>
                </a:moveTo>
                <a:lnTo>
                  <a:pt x="0" y="0"/>
                </a:lnTo>
                <a:lnTo>
                  <a:pt x="1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1844640"/>
            <a:ext cx="2232000" cy="576360"/>
          </a:xfrm>
          <a:custGeom>
            <a:avLst/>
            <a:gdLst/>
            <a:ahLst/>
            <a:rect l="l" t="t" r="r" b="b"/>
            <a:pathLst>
              <a:path w="1270" h="363">
                <a:moveTo>
                  <a:pt x="0" y="0"/>
                </a:moveTo>
                <a:lnTo>
                  <a:pt x="1270" y="0"/>
                </a:lnTo>
                <a:lnTo>
                  <a:pt x="1270" y="3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6920" y="3456000"/>
            <a:ext cx="7921800" cy="3141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ork only with the ODU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is layer there are links with a variety of TSes available, and nodes that are ODXC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e.g., the ODU links (e.g., link#1-link#5) are presented between adjacent OTN 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 ODU connections can be setup based on the network topolog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e.g., Path computation will select a path that has the required    number of TS available and offers the lowest cost.  Signaling is    then invoked to set up the path by carrying conn the infor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11160" y="2467080"/>
            <a:ext cx="5597640" cy="811080"/>
          </a:xfrm>
          <a:custGeom>
            <a:avLst/>
            <a:gdLst/>
            <a:ahLst/>
            <a:rect l="l" t="t" r="r" b="b"/>
            <a:pathLst>
              <a:path w="3526" h="511">
                <a:moveTo>
                  <a:pt x="44" y="511"/>
                </a:moveTo>
                <a:cubicBezTo>
                  <a:pt x="69" y="440"/>
                  <a:pt x="0" y="162"/>
                  <a:pt x="192" y="83"/>
                </a:cubicBezTo>
                <a:cubicBezTo>
                  <a:pt x="384" y="4"/>
                  <a:pt x="859" y="41"/>
                  <a:pt x="1196" y="34"/>
                </a:cubicBezTo>
                <a:cubicBezTo>
                  <a:pt x="1533" y="27"/>
                  <a:pt x="1862" y="35"/>
                  <a:pt x="2216" y="42"/>
                </a:cubicBezTo>
                <a:cubicBezTo>
                  <a:pt x="2570" y="49"/>
                  <a:pt x="3112" y="0"/>
                  <a:pt x="3319" y="75"/>
                </a:cubicBezTo>
                <a:cubicBezTo>
                  <a:pt x="3526" y="150"/>
                  <a:pt x="3430" y="407"/>
                  <a:pt x="3459" y="4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Conn Management of the O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28800" y="1125360"/>
            <a:ext cx="7726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U layer with OCh switching cap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98640" y="3111480"/>
            <a:ext cx="7063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47600" y="322272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66600" y="3525840"/>
            <a:ext cx="68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5600" y="3105000"/>
            <a:ext cx="7066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08200" y="321624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85160" y="3521160"/>
            <a:ext cx="686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83280" y="3112920"/>
            <a:ext cx="7063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33680" y="322416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97320" y="3529080"/>
            <a:ext cx="6832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12000" y="3112920"/>
            <a:ext cx="7063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60960" y="322416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35760" y="3530520"/>
            <a:ext cx="69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78400" y="1800360"/>
            <a:ext cx="7063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7360" y="187812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38080" y="2225520"/>
            <a:ext cx="672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/>
          <p:nvPr/>
        </p:nvCxnSpPr>
        <p:spPr>
          <a:xfrm flipV="1">
            <a:off x="2604960" y="3452400"/>
            <a:ext cx="8913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/>
          <p:nvPr/>
        </p:nvCxnSpPr>
        <p:spPr>
          <a:xfrm>
            <a:off x="4201920" y="3451320"/>
            <a:ext cx="9817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/>
          <p:nvPr/>
        </p:nvCxnSpPr>
        <p:spPr>
          <a:xfrm>
            <a:off x="5889600" y="3458880"/>
            <a:ext cx="102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2713320" y="324000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61400" y="324000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48720" y="324000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49840" y="177336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37760" y="177336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1989000"/>
            <a:ext cx="2138400" cy="1152720"/>
          </a:xfrm>
          <a:custGeom>
            <a:avLst/>
            <a:gdLst/>
            <a:ahLst/>
            <a:rect l="l" t="t" r="r" b="b"/>
            <a:pathLst>
              <a:path w="1678" h="363">
                <a:moveTo>
                  <a:pt x="0" y="363"/>
                </a:moveTo>
                <a:lnTo>
                  <a:pt x="0" y="0"/>
                </a:lnTo>
                <a:lnTo>
                  <a:pt x="1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99120" y="1989000"/>
            <a:ext cx="2109600" cy="1152720"/>
          </a:xfrm>
          <a:custGeom>
            <a:avLst/>
            <a:gdLst/>
            <a:ahLst/>
            <a:rect l="l" t="t" r="r" b="b"/>
            <a:pathLst>
              <a:path w="1270" h="363">
                <a:moveTo>
                  <a:pt x="0" y="0"/>
                </a:moveTo>
                <a:lnTo>
                  <a:pt x="1270" y="0"/>
                </a:lnTo>
                <a:lnTo>
                  <a:pt x="1270" y="3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2492280"/>
            <a:ext cx="287280" cy="289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71160" y="2494080"/>
            <a:ext cx="639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FrutigerNext LT Regular"/>
              </a:rPr>
              <a:t>Node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02760" y="2494080"/>
            <a:ext cx="681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FrutigerNext LT Regular"/>
              </a:rPr>
              <a:t>Node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64000" y="2494080"/>
            <a:ext cx="287640" cy="28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00720" y="3070080"/>
            <a:ext cx="358560" cy="216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2133720"/>
            <a:ext cx="649440" cy="360360"/>
          </a:xfrm>
          <a:custGeom>
            <a:avLst/>
            <a:gdLst/>
            <a:ahLst/>
            <a:rect l="l" t="t" r="r" b="b"/>
            <a:pathLst>
              <a:path w="409" h="227">
                <a:moveTo>
                  <a:pt x="0" y="227"/>
                </a:moveTo>
                <a:lnTo>
                  <a:pt x="0" y="0"/>
                </a:lnTo>
                <a:lnTo>
                  <a:pt x="409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8360" y="213372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227" y="227"/>
                </a:move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11640" y="3184560"/>
            <a:ext cx="28908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3186000"/>
            <a:ext cx="288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08720" y="278136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8560" y="2854440"/>
            <a:ext cx="681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FrutigerNext LT Regular"/>
              </a:rPr>
              <a:t>Node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276876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3214800"/>
            <a:ext cx="1657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54360" y="3267000"/>
            <a:ext cx="5597280" cy="811440"/>
          </a:xfrm>
          <a:custGeom>
            <a:avLst/>
            <a:gdLst/>
            <a:ahLst/>
            <a:rect l="l" t="t" r="r" b="b"/>
            <a:pathLst>
              <a:path w="3526" h="511">
                <a:moveTo>
                  <a:pt x="44" y="511"/>
                </a:moveTo>
                <a:cubicBezTo>
                  <a:pt x="69" y="440"/>
                  <a:pt x="0" y="162"/>
                  <a:pt x="192" y="83"/>
                </a:cubicBezTo>
                <a:cubicBezTo>
                  <a:pt x="384" y="4"/>
                  <a:pt x="859" y="41"/>
                  <a:pt x="1196" y="34"/>
                </a:cubicBezTo>
                <a:cubicBezTo>
                  <a:pt x="1533" y="27"/>
                  <a:pt x="1862" y="35"/>
                  <a:pt x="2216" y="42"/>
                </a:cubicBezTo>
                <a:cubicBezTo>
                  <a:pt x="2570" y="49"/>
                  <a:pt x="3112" y="0"/>
                  <a:pt x="3319" y="75"/>
                </a:cubicBezTo>
                <a:cubicBezTo>
                  <a:pt x="3526" y="150"/>
                  <a:pt x="3430" y="407"/>
                  <a:pt x="3459" y="4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6920" y="4149720"/>
            <a:ext cx="7921800" cy="244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TN nodes interconnect with wavelength switched node (e.g., ROADM,OXC) that are capable of OCh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MLN (i.e, ODU layer and OCh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-ODU/OCh connection will appear at ODU level as a Forwarding Adjacency which will be used to create the ODU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88480" y="1557360"/>
            <a:ext cx="78598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opt it as a WG docu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discussion with ITU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</cp:lastModifiedBy>
  <dcterms:modified xsi:type="dcterms:W3CDTF">2010-03-19T08:26:11Z</dcterms:modified>
  <cp:revision>4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36256</vt:lpwstr>
  </property>
</Properties>
</file>