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757F8E-F57C-48CA-80F8-0C8760FC17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1F98F4-F044-4368-A596-A73DCA39D66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A713F3-D025-491C-A2E9-DEA8371F7BC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3C6C08-62BE-4F46-8216-DF80047B909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DB7839-1721-4D08-885C-0B3E9BFC1EA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1DF8AF-FDB7-4ADA-BC36-4F9DA93BDCA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AB5077-F7C2-4DC8-9E65-6A0190FCED4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D48963-6E6B-4E98-A415-81E057CE341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C83956-9510-423E-B1E8-21A5A561585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07CCF3-13A4-4B8D-B8CC-0ECAB756092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36D1F4-7B32-4AB5-9E92-732FA7DF24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8D197D-93C6-418C-8273-9CDDA4D05D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224760"/>
            <a:ext cx="9150480" cy="636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555480" y="6438960"/>
            <a:ext cx="28130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</a:rPr>
              <a:t>HUAWEI TECHNOLOGIES CO.,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7508880" y="6399360"/>
            <a:ext cx="1311120" cy="312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636084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  <a:defRPr b="0" lang="de-DE" sz="1200" spc="-1" strike="noStrike">
                <a:solidFill>
                  <a:srgbClr val="000000"/>
                </a:solidFill>
                <a:latin typeface="FrutigerNext LT Bold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Page </a:t>
            </a:r>
            <a:fld id="{82795F57-F44D-47CC-A889-8178FDBC9F14}" type="slidenum"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" name=""/>
          <p:cNvSpPr/>
          <p:nvPr/>
        </p:nvSpPr>
        <p:spPr>
          <a:xfrm>
            <a:off x="3710880" y="6438960"/>
            <a:ext cx="198936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</a:rPr>
              <a:t>Huawei Confident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-1908000" y="528480"/>
            <a:ext cx="184464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rmAutofit/>
          </a:bodyPr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2-35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0-32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0-22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 :18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FrutigerNext LT Regul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18-20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:18p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9199440" y="1424160"/>
            <a:ext cx="1049400" cy="20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配色参考方案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建议同一页面内不超过四种颜色，以下是</a:t>
            </a:r>
            <a:r>
              <a:rPr b="0" lang="en-US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13</a:t>
            </a: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组配色方案，同一页面内只选择一组使用。（仅供参考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199440" y="-61920"/>
            <a:ext cx="104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客户或者合作伙伴的标志放在右上角</a:t>
            </a:r>
            <a:r>
              <a:rPr b="0" lang="en-US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" name=""/>
          <p:cNvSpPr/>
          <p:nvPr/>
        </p:nvSpPr>
        <p:spPr>
          <a:xfrm>
            <a:off x="9269280" y="3429000"/>
            <a:ext cx="919440" cy="34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9354960" y="3789000"/>
            <a:ext cx="739800" cy="182520"/>
            <a:chOff x="9354960" y="3789000"/>
            <a:chExt cx="739800" cy="182520"/>
          </a:xfrm>
        </p:grpSpPr>
        <p:sp>
          <p:nvSpPr>
            <p:cNvPr id="12" name=""/>
            <p:cNvSpPr/>
            <p:nvPr/>
          </p:nvSpPr>
          <p:spPr>
            <a:xfrm flipV="1">
              <a:off x="9540720" y="3788640"/>
              <a:ext cx="18432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9725040" y="3788640"/>
              <a:ext cx="18396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>
              <a:off x="9909000" y="3788640"/>
              <a:ext cx="185760" cy="182520"/>
            </a:xfrm>
            <a:prstGeom prst="rect">
              <a:avLst/>
            </a:prstGeom>
            <a:solidFill>
              <a:srgbClr val="9966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>
              <a:off x="9354960" y="3788640"/>
              <a:ext cx="1857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9354960" y="4005000"/>
            <a:ext cx="739800" cy="182520"/>
            <a:chOff x="9354960" y="4005000"/>
            <a:chExt cx="739800" cy="182520"/>
          </a:xfrm>
        </p:grpSpPr>
        <p:sp>
          <p:nvSpPr>
            <p:cNvPr id="17" name=""/>
            <p:cNvSpPr/>
            <p:nvPr/>
          </p:nvSpPr>
          <p:spPr>
            <a:xfrm flipV="1">
              <a:off x="9540720" y="4004640"/>
              <a:ext cx="18432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9725040" y="4004640"/>
              <a:ext cx="1839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>
              <a:off x="9909000" y="4004640"/>
              <a:ext cx="18576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V="1">
              <a:off x="9354960" y="400464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" name=""/>
          <p:cNvGrpSpPr/>
          <p:nvPr/>
        </p:nvGrpSpPr>
        <p:grpSpPr>
          <a:xfrm>
            <a:off x="9354960" y="4221000"/>
            <a:ext cx="739800" cy="182880"/>
            <a:chOff x="9354960" y="4221000"/>
            <a:chExt cx="739800" cy="182880"/>
          </a:xfrm>
        </p:grpSpPr>
        <p:sp>
          <p:nvSpPr>
            <p:cNvPr id="22" name=""/>
            <p:cNvSpPr/>
            <p:nvPr/>
          </p:nvSpPr>
          <p:spPr>
            <a:xfrm flipV="1">
              <a:off x="9540720" y="4221000"/>
              <a:ext cx="184320" cy="18288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>
              <a:off x="9725040" y="4221000"/>
              <a:ext cx="183960" cy="18288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V="1">
              <a:off x="9909000" y="4221000"/>
              <a:ext cx="185760" cy="18288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V="1">
              <a:off x="9354960" y="4221000"/>
              <a:ext cx="185760" cy="1828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" name=""/>
          <p:cNvGrpSpPr/>
          <p:nvPr/>
        </p:nvGrpSpPr>
        <p:grpSpPr>
          <a:xfrm>
            <a:off x="9354960" y="3573000"/>
            <a:ext cx="739800" cy="189000"/>
            <a:chOff x="9354960" y="3573000"/>
            <a:chExt cx="739800" cy="189000"/>
          </a:xfrm>
        </p:grpSpPr>
        <p:sp>
          <p:nvSpPr>
            <p:cNvPr id="27" name=""/>
            <p:cNvSpPr/>
            <p:nvPr/>
          </p:nvSpPr>
          <p:spPr>
            <a:xfrm flipV="1">
              <a:off x="9725040" y="3572640"/>
              <a:ext cx="183960" cy="1890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>
              <a:off x="9909000" y="3572640"/>
              <a:ext cx="185760" cy="18900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>
              <a:off x="9354960" y="3572640"/>
              <a:ext cx="185760" cy="189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>
              <a:off x="9540720" y="3572640"/>
              <a:ext cx="184320" cy="18900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" name=""/>
          <p:cNvGrpSpPr/>
          <p:nvPr/>
        </p:nvGrpSpPr>
        <p:grpSpPr>
          <a:xfrm>
            <a:off x="9354960" y="4581360"/>
            <a:ext cx="739800" cy="182880"/>
            <a:chOff x="9354960" y="4581360"/>
            <a:chExt cx="739800" cy="182880"/>
          </a:xfrm>
        </p:grpSpPr>
        <p:sp>
          <p:nvSpPr>
            <p:cNvPr id="32" name=""/>
            <p:cNvSpPr/>
            <p:nvPr/>
          </p:nvSpPr>
          <p:spPr>
            <a:xfrm flipV="1">
              <a:off x="9540720" y="4581360"/>
              <a:ext cx="184320" cy="1828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 flipV="1">
              <a:off x="9725040" y="4581360"/>
              <a:ext cx="183960" cy="1828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 flipV="1">
              <a:off x="9909000" y="4581360"/>
              <a:ext cx="185760" cy="1828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 flipV="1">
              <a:off x="9354960" y="4581360"/>
              <a:ext cx="185760" cy="182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" name=""/>
          <p:cNvGrpSpPr/>
          <p:nvPr/>
        </p:nvGrpSpPr>
        <p:grpSpPr>
          <a:xfrm>
            <a:off x="9354960" y="4797000"/>
            <a:ext cx="739800" cy="182520"/>
            <a:chOff x="9354960" y="4797000"/>
            <a:chExt cx="739800" cy="182520"/>
          </a:xfrm>
        </p:grpSpPr>
        <p:sp>
          <p:nvSpPr>
            <p:cNvPr id="37" name=""/>
            <p:cNvSpPr/>
            <p:nvPr/>
          </p:nvSpPr>
          <p:spPr>
            <a:xfrm flipV="1">
              <a:off x="9540720" y="479664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flipV="1">
              <a:off x="9725040" y="479664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flipV="1">
              <a:off x="9909000" y="479664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flipV="1">
              <a:off x="9354960" y="4796640"/>
              <a:ext cx="185760" cy="1825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" name=""/>
          <p:cNvGrpSpPr/>
          <p:nvPr/>
        </p:nvGrpSpPr>
        <p:grpSpPr>
          <a:xfrm>
            <a:off x="9354960" y="5013000"/>
            <a:ext cx="739800" cy="182520"/>
            <a:chOff x="9354960" y="5013000"/>
            <a:chExt cx="739800" cy="182520"/>
          </a:xfrm>
        </p:grpSpPr>
        <p:sp>
          <p:nvSpPr>
            <p:cNvPr id="42" name=""/>
            <p:cNvSpPr/>
            <p:nvPr/>
          </p:nvSpPr>
          <p:spPr>
            <a:xfrm flipV="1">
              <a:off x="9540720" y="5012640"/>
              <a:ext cx="18432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V="1">
              <a:off x="9725040" y="5012640"/>
              <a:ext cx="183960" cy="18252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V="1">
              <a:off x="9909000" y="5012640"/>
              <a:ext cx="1857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>
              <a:off x="9354960" y="5012640"/>
              <a:ext cx="185760" cy="1825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9354960" y="5373360"/>
            <a:ext cx="739800" cy="182520"/>
            <a:chOff x="9354960" y="5373360"/>
            <a:chExt cx="739800" cy="182520"/>
          </a:xfrm>
        </p:grpSpPr>
        <p:sp>
          <p:nvSpPr>
            <p:cNvPr id="47" name=""/>
            <p:cNvSpPr/>
            <p:nvPr/>
          </p:nvSpPr>
          <p:spPr>
            <a:xfrm flipV="1">
              <a:off x="9540720" y="537300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9725040" y="5373000"/>
              <a:ext cx="1839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9909000" y="5373000"/>
              <a:ext cx="1857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9354960" y="537300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9354960" y="5589360"/>
            <a:ext cx="739800" cy="182520"/>
            <a:chOff x="9354960" y="5589360"/>
            <a:chExt cx="739800" cy="182520"/>
          </a:xfrm>
        </p:grpSpPr>
        <p:sp>
          <p:nvSpPr>
            <p:cNvPr id="52" name=""/>
            <p:cNvSpPr/>
            <p:nvPr/>
          </p:nvSpPr>
          <p:spPr>
            <a:xfrm flipV="1">
              <a:off x="9540720" y="558900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9725040" y="558900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9909000" y="558900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9354960" y="558900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9354960" y="5805000"/>
            <a:ext cx="739800" cy="182520"/>
            <a:chOff x="9354960" y="5805000"/>
            <a:chExt cx="739800" cy="182520"/>
          </a:xfrm>
        </p:grpSpPr>
        <p:sp>
          <p:nvSpPr>
            <p:cNvPr id="57" name=""/>
            <p:cNvSpPr/>
            <p:nvPr/>
          </p:nvSpPr>
          <p:spPr>
            <a:xfrm flipV="1">
              <a:off x="9540720" y="5804640"/>
              <a:ext cx="18432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9725040" y="5804640"/>
              <a:ext cx="183960" cy="18252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9909000" y="5804640"/>
              <a:ext cx="1857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9354960" y="580464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9354960" y="6165360"/>
            <a:ext cx="739800" cy="182520"/>
            <a:chOff x="9354960" y="6165360"/>
            <a:chExt cx="739800" cy="182520"/>
          </a:xfrm>
        </p:grpSpPr>
        <p:sp>
          <p:nvSpPr>
            <p:cNvPr id="62" name=""/>
            <p:cNvSpPr/>
            <p:nvPr/>
          </p:nvSpPr>
          <p:spPr>
            <a:xfrm flipV="1">
              <a:off x="9540720" y="616500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9725040" y="6165000"/>
              <a:ext cx="1839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9909000" y="6165000"/>
              <a:ext cx="1857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9354960" y="616500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9354960" y="6391080"/>
            <a:ext cx="739800" cy="182520"/>
            <a:chOff x="9354960" y="6391080"/>
            <a:chExt cx="739800" cy="182520"/>
          </a:xfrm>
        </p:grpSpPr>
        <p:sp>
          <p:nvSpPr>
            <p:cNvPr id="67" name=""/>
            <p:cNvSpPr/>
            <p:nvPr/>
          </p:nvSpPr>
          <p:spPr>
            <a:xfrm flipV="1">
              <a:off x="9540720" y="639072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9725040" y="639072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9909000" y="639072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9354960" y="639072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9354960" y="6614640"/>
            <a:ext cx="739800" cy="182520"/>
            <a:chOff x="9354960" y="6614640"/>
            <a:chExt cx="739800" cy="182520"/>
          </a:xfrm>
        </p:grpSpPr>
        <p:sp>
          <p:nvSpPr>
            <p:cNvPr id="72" name=""/>
            <p:cNvSpPr/>
            <p:nvPr/>
          </p:nvSpPr>
          <p:spPr>
            <a:xfrm flipV="1">
              <a:off x="9540720" y="661428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9725040" y="6614280"/>
              <a:ext cx="1839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9909000" y="6614280"/>
              <a:ext cx="1857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9354960" y="661428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508880" y="5589720"/>
            <a:ext cx="763560" cy="763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0" y="78264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36120" y="1391760"/>
            <a:ext cx="5303880" cy="16671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FrutigerNext LT Medium"/>
              </a:rPr>
              <a:t>Click to edit the title text format</a:t>
            </a:r>
            <a:endParaRPr b="1" lang="en-US" sz="4300" spc="-1" strike="noStrike">
              <a:solidFill>
                <a:srgbClr val="ffffff"/>
              </a:solidFill>
              <a:latin typeface="FrutigerNext LT Medium"/>
            </a:endParaRPr>
          </a:p>
        </p:txBody>
      </p:sp>
      <p:sp>
        <p:nvSpPr>
          <p:cNvPr id="115" name=""/>
          <p:cNvSpPr/>
          <p:nvPr/>
        </p:nvSpPr>
        <p:spPr>
          <a:xfrm>
            <a:off x="555480" y="6207120"/>
            <a:ext cx="28130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</a:rPr>
              <a:t>HUAWEI TECHNOLOGIES CO.,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177680" y="4094280"/>
            <a:ext cx="143388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utigerNext LT Regular"/>
              </a:rPr>
              <a:t>www.huawei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02680" y="6207120"/>
            <a:ext cx="198936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</a:rPr>
              <a:t>Huawei Confident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99400" y="247680"/>
            <a:ext cx="196632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666666"/>
                </a:solidFill>
                <a:latin typeface="FrutigerNext LT Regular"/>
              </a:rPr>
              <a:t>Security Level:</a:t>
            </a:r>
            <a:r>
              <a:rPr b="1" lang="zh-CN" sz="1400" spc="-1" strike="noStrike">
                <a:solidFill>
                  <a:srgbClr val="666666"/>
                </a:solidFill>
                <a:latin typeface="FrutigerNext LT Regular"/>
                <a:ea typeface="宋体"/>
              </a:rPr>
              <a:t>内部公开</a:t>
            </a:r>
            <a:r>
              <a:rPr b="1" lang="zh-CN" sz="1400" spc="-1" strike="noStrike">
                <a:solidFill>
                  <a:srgbClr val="666666"/>
                </a:solidFill>
                <a:latin typeface="FrutigerNext LT Regular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2"/>
          </p:nvPr>
        </p:nvSpPr>
        <p:spPr>
          <a:xfrm>
            <a:off x="684360" y="282600"/>
            <a:ext cx="2133360" cy="4744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  <a:defRPr b="0" lang="zh-CN" sz="1200" spc="-1" strike="noStrike">
                <a:solidFill>
                  <a:srgbClr val="000000"/>
                </a:solidFill>
                <a:latin typeface="FrutigerNext LT Regular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fld id="{078FE0CA-4E2D-444B-9188-7F43BAF016F5}" type="datetime">
              <a:rPr b="0" lang="zh-CN" sz="1200" spc="-1" strike="noStrike">
                <a:solidFill>
                  <a:srgbClr val="000000"/>
                </a:solidFill>
                <a:latin typeface="FrutigerNext LT Regular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-1968480" y="1322280"/>
            <a:ext cx="1968480" cy="37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40-47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副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6-30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反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5-47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  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副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4-28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反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spcBef>
                <a:spcPts val="68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1960" y="638280"/>
            <a:ext cx="7929720" cy="8697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Arial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Arial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Arial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-1844640" y="898560"/>
            <a:ext cx="1844640" cy="53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rmAutofit/>
          </a:bodyPr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目录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5-40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目录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5-40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目录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8-30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 :20-30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FrutigerNext LT Regul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目录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8-30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:20-30p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0" y="5897520"/>
            <a:ext cx="9144000" cy="10033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33880" y="2674800"/>
            <a:ext cx="27799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273480" y="3435480"/>
            <a:ext cx="2745000" cy="4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600" spc="-1" strike="noStrike">
                <a:solidFill>
                  <a:srgbClr val="666666"/>
                </a:solidFill>
                <a:latin typeface="Arial"/>
              </a:rPr>
              <a:t>www.huawei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1BEDC-F19E-42F6-8443-BDB9CE297FA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863640" y="2205000"/>
            <a:ext cx="741672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CAMP WG, IETF 77th, Anaheim, Californi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-zhang-ccamp-gmpls-evolving-g709-04.t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Arial"/>
              </a:rPr>
              <a:t>Fatai Zhang &lt;zhangfatai@huawei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uoying Zhang &l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hangguoying@mail.ritt.com.cn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ergio Belotti &l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gio.belotti@alcatel-lucent.i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aniele Ceccarelli &l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niele.ceccarelli@ericsson.com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76032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MPLS Signaling Extensions for the Evolving G.709 OTN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-38520" bIns="-38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95280" y="368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ges from Version 0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88840" y="1844280"/>
            <a:ext cx="74282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ed a section to describ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he extension to the Traffic 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ODUflex connection requ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Arial"/>
              </a:rPr>
              <a:t>Removed non-normative thing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including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Arial"/>
              </a:rPr>
              <a:t>ODU3e1 and ODU3e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ndwidth of ODUflex(CB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929160" y="2421000"/>
            <a:ext cx="7018560" cy="506160"/>
          </a:xfrm>
          <a:prstGeom prst="rect">
            <a:avLst/>
          </a:prstGeom>
          <a:solidFill>
            <a:srgbClr val="ffffcc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(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Bit Rat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(B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,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Bit Rate Toleranc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(BRT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49280" y="5661000"/>
            <a:ext cx="8123400" cy="506160"/>
          </a:xfrm>
          <a:prstGeom prst="rect">
            <a:avLst/>
          </a:prstGeom>
          <a:solidFill>
            <a:srgbClr val="ffffcc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2.5Gbps * (1 - 50ppm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~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2.5Gbps * (1 + 50pp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39640" y="1413000"/>
            <a:ext cx="7993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marL="268200" indent="-268200">
              <a:lnSpc>
                <a:spcPct val="120000"/>
              </a:lnSpc>
              <a:buClr>
                <a:srgbClr val="000000"/>
              </a:buClr>
              <a:buFont typeface="FrutigerNext LT Regular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utigerNext LT Regular"/>
              </a:rPr>
              <a:t>The bandwidth of an ODUflex for CBR client signals can be represented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39640" y="3068640"/>
            <a:ext cx="7848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marL="268200" indent="-268200">
              <a:lnSpc>
                <a:spcPct val="120000"/>
              </a:lnSpc>
              <a:buClr>
                <a:srgbClr val="000000"/>
              </a:buClr>
              <a:buFont typeface="FrutigerNext LT Regular"/>
              <a:buChar char="•"/>
              <a:tabLst>
                <a:tab algn="l" pos="1523880"/>
                <a:tab algn="l" pos="1792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utigerNext LT Regular"/>
              </a:rPr>
              <a:t>Wh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368280">
              <a:lnSpc>
                <a:spcPct val="120000"/>
              </a:lnSpc>
              <a:buClr>
                <a:srgbClr val="ff0000"/>
              </a:buClr>
              <a:buFont typeface="Courier New"/>
              <a:buChar char="-"/>
              <a:tabLst>
                <a:tab algn="l" pos="1523880"/>
                <a:tab algn="l" pos="1792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FrutigerNext LT Regular"/>
                <a:ea typeface="MS PGothic"/>
              </a:rPr>
              <a:t>BR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MS P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MS PGothic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MS P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MS PGothic"/>
              </a:rPr>
              <a:t>the nominal bandwidth of ODUf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368280">
              <a:lnSpc>
                <a:spcPct val="120000"/>
              </a:lnSpc>
              <a:buClr>
                <a:srgbClr val="ff0000"/>
              </a:buClr>
              <a:buFont typeface="Courier New"/>
              <a:buChar char="-"/>
              <a:tabLst>
                <a:tab algn="l" pos="1523880"/>
                <a:tab algn="l" pos="1792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FrutigerNext LT Regular"/>
                <a:ea typeface="MS PGothic"/>
              </a:rPr>
              <a:t>BRT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MS P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MS PGothic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MS P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MS PGothic"/>
              </a:rPr>
              <a:t>the tolerance of ODUflex (</a:t>
            </a:r>
            <a:r>
              <a:rPr b="1" lang="en-US" sz="2000" spc="-1" strike="noStrike">
                <a:solidFill>
                  <a:srgbClr val="0000ff"/>
                </a:solidFill>
                <a:latin typeface="FrutigerNext LT Regular"/>
                <a:ea typeface="MS PGothic"/>
              </a:rPr>
              <a:t>up to 100ppm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MS PGothic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39640" y="4653000"/>
            <a:ext cx="770436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marL="268200" indent="-268200">
              <a:lnSpc>
                <a:spcPct val="120000"/>
              </a:lnSpc>
              <a:buClr>
                <a:srgbClr val="000000"/>
              </a:buClr>
              <a:buFont typeface="FrutigerNext LT Regular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utigerNext LT Regular"/>
              </a:rPr>
              <a:t>E.g., the actual bandwidth of an ODUflex with </a:t>
            </a:r>
            <a:r>
              <a:rPr b="1" lang="en-US" sz="2400" spc="-1" strike="noStrike">
                <a:solidFill>
                  <a:srgbClr val="0000ff"/>
                </a:solidFill>
                <a:latin typeface="FrutigerNext LT Regular"/>
              </a:rPr>
              <a:t>(2.5Gbps, 50ppm)</a:t>
            </a:r>
            <a:r>
              <a:rPr b="1" lang="en-US" sz="2400" spc="-1" strike="noStrike">
                <a:solidFill>
                  <a:srgbClr val="000000"/>
                </a:solidFill>
                <a:latin typeface="FrutigerNext LT Regular"/>
              </a:rPr>
              <a:t>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ervation of TS for ODUflex(CB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number of tributary slots on an OTUk link to be reserved for an ODUflex(CBR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395280" y="2283480"/>
            <a:ext cx="8424720" cy="760680"/>
            <a:chOff x="395280" y="2283480"/>
            <a:chExt cx="8424720" cy="760680"/>
          </a:xfrm>
        </p:grpSpPr>
        <p:sp>
          <p:nvSpPr>
            <p:cNvPr id="290" name=""/>
            <p:cNvSpPr/>
            <p:nvPr/>
          </p:nvSpPr>
          <p:spPr>
            <a:xfrm>
              <a:off x="395280" y="2283480"/>
              <a:ext cx="8424720" cy="7606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9200" rIns="79200" tIns="39600" bIns="39600" anchor="ctr">
              <a:spAutoFit/>
            </a:bodyPr>
            <a:p>
              <a:pPr marL="444600"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rutigerNext LT Regular"/>
                </a:rPr>
                <a:t>ODUflex(CBR) nominal Bit Rate×(1 + ODUflex(CBR) Bit Rate Tolerance)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44600"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rutigerNext LT Regular"/>
                </a:rPr>
                <a:t>ODTUk.ts Minimum Bit R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050920" y="2707920"/>
              <a:ext cx="669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12200" y="2491920"/>
              <a:ext cx="159480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FrutigerNext LT Regular"/>
                </a:rPr>
                <a:t>N = Ceiling o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287280" y="3573360"/>
            <a:ext cx="8748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Note: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different ODUk links have different ODTUk.ts Bit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971640" y="5508720"/>
            <a:ext cx="7127640" cy="719640"/>
          </a:xfrm>
          <a:prstGeom prst="rect">
            <a:avLst/>
          </a:prstGeom>
          <a:solidFill>
            <a:srgbClr val="ffff66"/>
          </a:solidFill>
          <a:ln w="9360">
            <a:solidFill>
              <a:srgbClr val="5f5f5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FrutigerNext LT Regular"/>
              </a:rPr>
              <a:t>Therefore, the total number of TS to be reserved for an </a:t>
            </a:r>
            <a:r>
              <a:rPr b="1" lang="en-US" sz="2400" spc="-1" strike="noStrike">
                <a:solidFill>
                  <a:srgbClr val="0000ff"/>
                </a:solidFill>
                <a:latin typeface="FrutigerNext LT Regular"/>
              </a:rPr>
              <a:t>ODUflex(CBR</a:t>
            </a:r>
            <a:r>
              <a:rPr b="1" lang="en-US" sz="1800" spc="-1" strike="noStrike">
                <a:solidFill>
                  <a:srgbClr val="0000ff"/>
                </a:solidFill>
                <a:latin typeface="FrutigerNext LT Regular"/>
              </a:rPr>
              <a:t>) on different links </a:t>
            </a:r>
            <a:r>
              <a:rPr b="1" lang="en-US" sz="1800" spc="-1" strike="noStrike">
                <a:solidFill>
                  <a:srgbClr val="ff0000"/>
                </a:solidFill>
                <a:latin typeface="FrutigerNext LT Regular"/>
              </a:rPr>
              <a:t>MAY NOT the sa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84360" y="4006080"/>
            <a:ext cx="7775280" cy="145116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DUk       Minimum          Nominal         Maxim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BR*(1-20ppm))                    (BR*(1+20ppm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DU2    1.249 384 632    1.249 409 620    1.249 434 60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DU3    1.254 678 635    1.254 703 729    1.254 728 82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DU4    1.301 683 217    1.301 709 251    1.301 735 28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84360" y="4581360"/>
            <a:ext cx="777528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ffic Parameters Exten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405080" y="2852640"/>
            <a:ext cx="107928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068720" y="2852640"/>
            <a:ext cx="115272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732720" y="2852640"/>
            <a:ext cx="107928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260360" y="220500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ODUfl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rot="16200000">
            <a:off x="5578920" y="2493000"/>
            <a:ext cx="866880" cy="1871640"/>
          </a:xfrm>
          <a:prstGeom prst="can">
            <a:avLst>
              <a:gd name="adj" fmla="val 15263"/>
            </a:avLst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148360" y="3139920"/>
            <a:ext cx="172872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48360" y="3286080"/>
            <a:ext cx="172872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4429080" y="3141720"/>
            <a:ext cx="358920" cy="503280"/>
            <a:chOff x="4429080" y="3141720"/>
            <a:chExt cx="358920" cy="503280"/>
          </a:xfrm>
        </p:grpSpPr>
        <p:grpSp>
          <p:nvGrpSpPr>
            <p:cNvPr id="306" name=""/>
            <p:cNvGrpSpPr/>
            <p:nvPr/>
          </p:nvGrpSpPr>
          <p:grpSpPr>
            <a:xfrm>
              <a:off x="4468680" y="3236040"/>
              <a:ext cx="279360" cy="314640"/>
              <a:chOff x="4468680" y="3236040"/>
              <a:chExt cx="279360" cy="31464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4469040" y="3236040"/>
                <a:ext cx="279000" cy="314640"/>
                <a:chOff x="4469040" y="3236040"/>
                <a:chExt cx="279000" cy="31464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4469040" y="323604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4664160" y="3550680"/>
                  <a:ext cx="83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4552560" y="3236040"/>
                  <a:ext cx="111240" cy="31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4468680" y="3236040"/>
                <a:ext cx="279000" cy="314640"/>
                <a:chOff x="4468680" y="3236040"/>
                <a:chExt cx="279000" cy="314640"/>
              </a:xfrm>
            </p:grpSpPr>
            <p:sp>
              <p:nvSpPr>
                <p:cNvPr id="312" name=""/>
                <p:cNvSpPr/>
                <p:nvPr/>
              </p:nvSpPr>
              <p:spPr>
                <a:xfrm flipH="1">
                  <a:off x="4664160" y="323604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flipH="1">
                  <a:off x="4468680" y="3550680"/>
                  <a:ext cx="83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flipH="1">
                  <a:off x="4552920" y="3236040"/>
                  <a:ext cx="111240" cy="31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5" name=""/>
            <p:cNvSpPr/>
            <p:nvPr/>
          </p:nvSpPr>
          <p:spPr>
            <a:xfrm>
              <a:off x="4429080" y="3141720"/>
              <a:ext cx="35892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190800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788000" y="3141360"/>
            <a:ext cx="360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788000" y="32860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093080" y="220500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ODUfl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693800" y="3718080"/>
            <a:ext cx="50472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356000" y="3718080"/>
            <a:ext cx="50508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021440" y="3718080"/>
            <a:ext cx="50472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900000" y="1557360"/>
            <a:ext cx="3384720" cy="358920"/>
          </a:xfrm>
          <a:prstGeom prst="wedgeRectCallout">
            <a:avLst>
              <a:gd name="adj1" fmla="val -34333"/>
              <a:gd name="adj2" fmla="val 155310"/>
            </a:avLst>
          </a:prstGeom>
          <a:solidFill>
            <a:srgbClr val="ccffcc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BR, BRT) = (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.5Gbp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+/-20pp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908000" y="26370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7308720" y="26366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581800" y="3502080"/>
            <a:ext cx="9252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4000" spc="-1" strike="noStrike">
                <a:solidFill>
                  <a:srgbClr val="5f5f5f"/>
                </a:solidFill>
                <a:latin typeface="FrutigerNext LT Regular"/>
                <a:ea typeface="宋体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149800" y="342900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149800" y="3718080"/>
            <a:ext cx="1728720" cy="144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788000" y="3286080"/>
            <a:ext cx="36036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39640" y="4991040"/>
            <a:ext cx="7993080" cy="11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marL="268200" indent="-2682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fore, (BR, BRT) information of an ODUflex (CBR) connection should be included in the signaling End-to-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Courier New"/>
              <a:buChar char="-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MS PGothic"/>
              </a:rPr>
              <a:t>Traffic Parame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is the most reasonable place to put the (BR, BRT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268360" y="2062080"/>
            <a:ext cx="2232360" cy="647640"/>
          </a:xfrm>
          <a:prstGeom prst="wedgeRectCallout">
            <a:avLst>
              <a:gd name="adj1" fmla="val -2560"/>
              <a:gd name="adj2" fmla="val 88236"/>
            </a:avLst>
          </a:prstGeom>
          <a:solidFill>
            <a:srgbClr val="ccffcc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9600" bIns="396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2.5*(1-20ppm) / 1.302  =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FrutigerNext LT Regular"/>
              </a:rPr>
              <a:t>Need 2 T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877080" y="3141720"/>
            <a:ext cx="4316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877080" y="3286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6877080" y="3285720"/>
            <a:ext cx="43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rot="16200000">
            <a:off x="2843280" y="2491920"/>
            <a:ext cx="865080" cy="1871640"/>
          </a:xfrm>
          <a:prstGeom prst="can">
            <a:avLst>
              <a:gd name="adj" fmla="val 15263"/>
            </a:avLst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411280" y="3139920"/>
            <a:ext cx="172908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411280" y="3357720"/>
            <a:ext cx="172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30872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140360" y="3141720"/>
            <a:ext cx="2887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4140360" y="3285720"/>
            <a:ext cx="28872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2040" bIns="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43280" y="3429000"/>
            <a:ext cx="925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4000" spc="-1" strike="noStrike">
                <a:solidFill>
                  <a:srgbClr val="5f5f5f"/>
                </a:solidFill>
                <a:latin typeface="FrutigerNext LT Regular"/>
                <a:ea typeface="宋体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411280" y="3716280"/>
            <a:ext cx="1729080" cy="180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340000" y="3862440"/>
            <a:ext cx="187164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</a:rPr>
              <a:t>OTU4 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Min. Bit Rate = </a:t>
            </a:r>
            <a:r>
              <a:rPr b="1" lang="en-US" sz="1600" spc="-1" strike="noStrike">
                <a:solidFill>
                  <a:srgbClr val="ff0000"/>
                </a:solidFill>
                <a:latin typeface="FrutigerNext LT Regular"/>
              </a:rPr>
              <a:t>1.301 683 217G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1907640" y="3213000"/>
            <a:ext cx="5050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1908000" y="3141720"/>
            <a:ext cx="50508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1680" bIns="31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003640" y="3862440"/>
            <a:ext cx="19447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</a:rPr>
              <a:t>OTU2 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Min. Bit Rate = </a:t>
            </a:r>
            <a:r>
              <a:rPr b="1" lang="en-US" sz="1600" spc="-1" strike="noStrike">
                <a:solidFill>
                  <a:srgbClr val="ff0000"/>
                </a:solidFill>
                <a:latin typeface="FrutigerNext LT Regular"/>
              </a:rPr>
              <a:t>1.249 384 632G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716360" y="2062080"/>
            <a:ext cx="2232000" cy="647640"/>
          </a:xfrm>
          <a:prstGeom prst="wedgeRectCallout">
            <a:avLst>
              <a:gd name="adj1" fmla="val 6754"/>
              <a:gd name="adj2" fmla="val 91912"/>
            </a:avLst>
          </a:prstGeom>
          <a:solidFill>
            <a:srgbClr val="ccffcc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9600" bIns="396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2.5*(1-20ppm) / 1.249  =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FrutigerNext LT Regular"/>
              </a:rPr>
              <a:t>Need 3 T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ffic Parameters Exten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971640" y="1981080"/>
            <a:ext cx="7272360" cy="18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                   1                   2                  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 1 2 3 4 5 6 7 8 9 0 1 2 3 4 5 6 7 8 9 0 1 2 3 4 5 6 7 8 9 0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|  Signal Type  |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Toleran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|              NMC 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|              NVC              |        Multiplier (MT)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|                   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Bit_R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Adopt it as a WG doc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Refine it according to th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edback from the meeting or mailing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4T01:40:59Z</dcterms:created>
  <dc:creator> </dc:creator>
  <dc:description/>
  <dc:language>en-US</dc:language>
  <cp:lastModifiedBy>Fatai</cp:lastModifiedBy>
  <dcterms:modified xsi:type="dcterms:W3CDTF">2010-03-19T08:03:00Z</dcterms:modified>
  <cp:revision>34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268636256</vt:lpwstr>
  </property>
</Properties>
</file>