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8246A-6D4F-4E51-B2A1-DDAFB3FDA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DCA13-B497-4091-B6B8-85567FD274E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CDC17-97BC-4C7D-8A35-54976F0B616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144AE-2B7E-4F67-8D55-E9974DB3E4F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F3CF6-C266-4836-A7AD-072E4DCB1DE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6F740-D0D1-4581-A23A-22EB4A0DF49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8899D-E6C6-4D5C-8BAE-CF6CC730972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4BF60-58A4-4860-81CD-023C9545ADD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EF6DD-53D9-4C1D-927A-7C6D08ECECB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FA95E-2AE8-48B2-836C-0930F76CE29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9E4AD-E55C-4909-87E6-3AEBFE84F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4A543-B8EE-44B5-9213-B47FE446C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1742259A-22E7-4ECF-9006-CFDFE803A032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" name=""/>
          <p:cNvSpPr/>
          <p:nvPr/>
        </p:nvSpPr>
        <p:spPr>
          <a:xfrm>
            <a:off x="3710880" y="6438960"/>
            <a:ext cx="19893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" name="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12" name="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17" name="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" name="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22" name="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" name="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7" name="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" name="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32" name="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37" name="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" name="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42" name="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47" name="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52" name="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57" name="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62" name="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67" name="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72" name="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508880" y="558972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6120" y="1391760"/>
            <a:ext cx="5303880" cy="1667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FrutigerNext LT Medium"/>
              </a:rPr>
              <a:t>Click to edit the title text format</a:t>
            </a:r>
            <a:endParaRPr b="1" lang="en-US" sz="43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115" name=""/>
          <p:cNvSpPr/>
          <p:nvPr/>
        </p:nvSpPr>
        <p:spPr>
          <a:xfrm>
            <a:off x="555480" y="620712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7768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2680" y="6207120"/>
            <a:ext cx="19893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99400" y="247680"/>
            <a:ext cx="196632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666666"/>
                </a:solidFill>
                <a:latin typeface="FrutigerNext LT Regular"/>
              </a:rPr>
              <a:t>Security Level: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  <a:ea typeface="宋体"/>
              </a:rPr>
              <a:t>内部公开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2"/>
          </p:nvPr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  <a:defRPr b="0" lang="zh-CN" sz="1200" spc="-1" strike="noStrike">
                <a:solidFill>
                  <a:srgbClr val="000000"/>
                </a:solidFill>
                <a:latin typeface="FrutigerNext LT Regula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fld id="{1E9AD358-E66D-4AE5-94EF-67392D52F99B}" type="datetime">
              <a:rPr b="0" lang="zh-CN" sz="1200" spc="-1" strike="noStrike">
                <a:solidFill>
                  <a:srgbClr val="000000"/>
                </a:solidFill>
                <a:latin typeface="FrutigerNext LT Regular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1960" y="638280"/>
            <a:ext cx="7929720" cy="8697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1844640" y="898560"/>
            <a:ext cx="184464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20-3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20-30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7167-63A9-443C-A708-917F2E46280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63640" y="2205000"/>
            <a:ext cx="7416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CAMP WG, IETF 77th, Anaheim, Californi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zhang-ccamp-gmpls-evolving-g709-04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Fatai Zhang &lt;zhangfatai@huawei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uoying Zhang 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hangguoying@mail.ritt.com.c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rgio Belotti 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gio.belotti@alcatel-lucent.i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iele Ceccarelli 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iele.ceccarelli@ericsson.co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7603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MPLS Signaling Extensions for the Evolving G.709 OTN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8520" bIns="-38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368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 from Version 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88840" y="1844280"/>
            <a:ext cx="74282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a section to describ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extension to the Traffic 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ODUflex connection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Removed non-normative thin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including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ODU3e1 and ODU3e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dwidth of ODUflex(CB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29160" y="2421000"/>
            <a:ext cx="7018560" cy="506160"/>
          </a:xfrm>
          <a:prstGeom prst="rect">
            <a:avLst/>
          </a:prstGeom>
          <a:solidFill>
            <a:srgbClr val="ffffcc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Bit Rat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B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Bit Rate Toleranc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BR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9280" y="5661000"/>
            <a:ext cx="8123400" cy="506160"/>
          </a:xfrm>
          <a:prstGeom prst="rect">
            <a:avLst/>
          </a:prstGeom>
          <a:solidFill>
            <a:srgbClr val="ffffcc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2.5Gbps * (1 - 50ppm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~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2.5Gbps * (1 + 50pp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9640" y="1413000"/>
            <a:ext cx="79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marL="268200" indent="-268200">
              <a:lnSpc>
                <a:spcPct val="120000"/>
              </a:lnSpc>
              <a:buClr>
                <a:srgbClr val="0000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Next LT Regular"/>
              </a:rPr>
              <a:t>The bandwidth of an ODUflex for CBR client signals can be represent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9640" y="306864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marL="268200" indent="-268200">
              <a:lnSpc>
                <a:spcPct val="120000"/>
              </a:lnSpc>
              <a:buClr>
                <a:srgbClr val="000000"/>
              </a:buClr>
              <a:buFont typeface="FrutigerNext LT Regular"/>
              <a:buChar char="•"/>
              <a:tabLst>
                <a:tab algn="l" pos="1523880"/>
                <a:tab algn="l" pos="1792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Next LT Regular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68280">
              <a:lnSpc>
                <a:spcPct val="120000"/>
              </a:lnSpc>
              <a:buClr>
                <a:srgbClr val="ff0000"/>
              </a:buClr>
              <a:buFont typeface="Courier New"/>
              <a:buChar char="-"/>
              <a:tabLst>
                <a:tab algn="l" pos="1523880"/>
                <a:tab algn="l" pos="1792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FrutigerNext LT Regular"/>
                <a:ea typeface="MS PGothic"/>
              </a:rPr>
              <a:t>BR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the nominal bandwidth of ODUf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68280">
              <a:lnSpc>
                <a:spcPct val="120000"/>
              </a:lnSpc>
              <a:buClr>
                <a:srgbClr val="ff0000"/>
              </a:buClr>
              <a:buFont typeface="Courier New"/>
              <a:buChar char="-"/>
              <a:tabLst>
                <a:tab algn="l" pos="1523880"/>
                <a:tab algn="l" pos="1792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FrutigerNext LT Regular"/>
                <a:ea typeface="MS PGothic"/>
              </a:rPr>
              <a:t>BRT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the tolerance of ODUflex (</a:t>
            </a:r>
            <a:r>
              <a:rPr b="1" lang="en-US" sz="2000" spc="-1" strike="noStrike">
                <a:solidFill>
                  <a:srgbClr val="0000ff"/>
                </a:solidFill>
                <a:latin typeface="FrutigerNext LT Regular"/>
                <a:ea typeface="MS PGothic"/>
              </a:rPr>
              <a:t>up to 100ppm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9640" y="4653000"/>
            <a:ext cx="77043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marL="268200" indent="-268200">
              <a:lnSpc>
                <a:spcPct val="120000"/>
              </a:lnSpc>
              <a:buClr>
                <a:srgbClr val="0000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Next LT Regular"/>
              </a:rPr>
              <a:t>E.g., the actual bandwidth of an ODUflex with </a:t>
            </a:r>
            <a:r>
              <a:rPr b="1" lang="en-US" sz="2400" spc="-1" strike="noStrike">
                <a:solidFill>
                  <a:srgbClr val="0000ff"/>
                </a:solidFill>
                <a:latin typeface="FrutigerNext LT Regular"/>
              </a:rPr>
              <a:t>(2.5Gbps, 50ppm)</a:t>
            </a:r>
            <a:r>
              <a:rPr b="1" lang="en-US" sz="2400" spc="-1" strike="noStrike">
                <a:solidFill>
                  <a:srgbClr val="000000"/>
                </a:solidFill>
                <a:latin typeface="FrutigerNext LT Regular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ervation of TS for ODUflex(CB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number of tributary slots on an OTUk link to be reserved for an ODUflex(CB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95280" y="2283480"/>
            <a:ext cx="8424720" cy="760680"/>
            <a:chOff x="395280" y="2283480"/>
            <a:chExt cx="8424720" cy="760680"/>
          </a:xfrm>
        </p:grpSpPr>
        <p:sp>
          <p:nvSpPr>
            <p:cNvPr id="290" name=""/>
            <p:cNvSpPr/>
            <p:nvPr/>
          </p:nvSpPr>
          <p:spPr>
            <a:xfrm>
              <a:off x="395280" y="2283480"/>
              <a:ext cx="8424720" cy="760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9200" rIns="79200" tIns="39600" bIns="39600" anchor="ctr">
              <a:spAutoFit/>
            </a:bodyPr>
            <a:p>
              <a:pPr marL="444600"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ODUflex(CBR) nominal Bit Rate×(1 + ODUflex(CBR) Bit Rate Tolerance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44600"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ODTUk.ts Minimum Bit 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50920" y="2707920"/>
              <a:ext cx="669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2200" y="2491920"/>
              <a:ext cx="1594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utigerNext LT Regular"/>
                </a:rPr>
                <a:t>N = Ceiling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87280" y="3573360"/>
            <a:ext cx="8748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ote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different ODUk links have different ODTUk.ts Bi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71640" y="5508720"/>
            <a:ext cx="7127640" cy="719640"/>
          </a:xfrm>
          <a:prstGeom prst="rect">
            <a:avLst/>
          </a:prstGeom>
          <a:solidFill>
            <a:srgbClr val="ffff66"/>
          </a:solidFill>
          <a:ln w="9360">
            <a:solidFill>
              <a:srgbClr val="5f5f5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FrutigerNext LT Regular"/>
              </a:rPr>
              <a:t>Therefore, the total number of TS to be reserved for an </a:t>
            </a:r>
            <a:r>
              <a:rPr b="1" lang="en-US" sz="2400" spc="-1" strike="noStrike">
                <a:solidFill>
                  <a:srgbClr val="0000ff"/>
                </a:solidFill>
                <a:latin typeface="FrutigerNext LT Regular"/>
              </a:rPr>
              <a:t>ODUflex(CBR</a:t>
            </a:r>
            <a:r>
              <a:rPr b="1" lang="en-US" sz="1800" spc="-1" strike="noStrike">
                <a:solidFill>
                  <a:srgbClr val="0000ff"/>
                </a:solidFill>
                <a:latin typeface="FrutigerNext LT Regular"/>
              </a:rPr>
              <a:t>) on different links </a:t>
            </a:r>
            <a:r>
              <a:rPr b="1" lang="en-US" sz="1800" spc="-1" strike="noStrike">
                <a:solidFill>
                  <a:srgbClr val="ff0000"/>
                </a:solidFill>
                <a:latin typeface="FrutigerNext LT Regular"/>
              </a:rPr>
              <a:t>MAY NOT the sa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4360" y="4006080"/>
            <a:ext cx="7775280" cy="145116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DUk       Minimum          Nominal         Max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R*(1-20ppm))                    (BR*(1+20pp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DU2    1.249 384 632    1.249 409 620    1.249 434 6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DU3    1.254 678 635    1.254 703 729    1.254 728 8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DU4    1.301 683 217    1.301 709 251    1.301 735 28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4360" y="4581360"/>
            <a:ext cx="777528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ffic Parameters Ext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405080" y="2852640"/>
            <a:ext cx="10792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068720" y="2852640"/>
            <a:ext cx="115272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732720" y="2852640"/>
            <a:ext cx="10792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60360" y="220500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ODUf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5578920" y="2493000"/>
            <a:ext cx="8668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313992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48360" y="328608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429080" y="3141720"/>
            <a:ext cx="358920" cy="503280"/>
            <a:chOff x="4429080" y="3141720"/>
            <a:chExt cx="358920" cy="503280"/>
          </a:xfrm>
        </p:grpSpPr>
        <p:grpSp>
          <p:nvGrpSpPr>
            <p:cNvPr id="306" name=""/>
            <p:cNvGrpSpPr/>
            <p:nvPr/>
          </p:nvGrpSpPr>
          <p:grpSpPr>
            <a:xfrm>
              <a:off x="4468680" y="3236040"/>
              <a:ext cx="279360" cy="314640"/>
              <a:chOff x="4468680" y="3236040"/>
              <a:chExt cx="279360" cy="31464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4469040" y="3236040"/>
                <a:ext cx="279000" cy="314640"/>
                <a:chOff x="4469040" y="3236040"/>
                <a:chExt cx="279000" cy="31464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4469040" y="323604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664160" y="355068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552560" y="323604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4468680" y="3236040"/>
                <a:ext cx="279000" cy="314640"/>
                <a:chOff x="4468680" y="3236040"/>
                <a:chExt cx="279000" cy="314640"/>
              </a:xfrm>
            </p:grpSpPr>
            <p:sp>
              <p:nvSpPr>
                <p:cNvPr id="312" name=""/>
                <p:cNvSpPr/>
                <p:nvPr/>
              </p:nvSpPr>
              <p:spPr>
                <a:xfrm flipH="1">
                  <a:off x="4664160" y="323604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>
                  <a:off x="4468680" y="355068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>
                  <a:off x="4552920" y="323604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5" name=""/>
            <p:cNvSpPr/>
            <p:nvPr/>
          </p:nvSpPr>
          <p:spPr>
            <a:xfrm>
              <a:off x="4429080" y="3141720"/>
              <a:ext cx="358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190800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788000" y="314136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88000" y="3286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093080" y="220500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ODUf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693800" y="3718080"/>
            <a:ext cx="50472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56000" y="3718080"/>
            <a:ext cx="5050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21440" y="3718080"/>
            <a:ext cx="50472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1557360"/>
            <a:ext cx="3384720" cy="358920"/>
          </a:xfrm>
          <a:prstGeom prst="wedgeRectCallout">
            <a:avLst>
              <a:gd name="adj1" fmla="val -34333"/>
              <a:gd name="adj2" fmla="val 155310"/>
            </a:avLst>
          </a:prstGeom>
          <a:solidFill>
            <a:srgbClr val="ccffcc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R, BRT) = (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.5Gbp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+/-20pp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08000" y="2637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7308720" y="2636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81800" y="3502080"/>
            <a:ext cx="9252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FrutigerNext LT Regular"/>
                <a:ea typeface="宋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149800" y="342900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49800" y="3718080"/>
            <a:ext cx="1728720" cy="144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88000" y="3286080"/>
            <a:ext cx="360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9640" y="4991040"/>
            <a:ext cx="799308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marL="268200" indent="-2682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, (BR, BRT) information of an ODUflex (CBR) connection should be included in the signaling End-to-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urier New"/>
              <a:buChar char="-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MS PGothic"/>
              </a:rPr>
              <a:t>Traffic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s the most reasonable place to put the (BR, BRT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68360" y="2062080"/>
            <a:ext cx="2232360" cy="647640"/>
          </a:xfrm>
          <a:prstGeom prst="wedgeRectCallout">
            <a:avLst>
              <a:gd name="adj1" fmla="val -2560"/>
              <a:gd name="adj2" fmla="val 88236"/>
            </a:avLst>
          </a:prstGeom>
          <a:solidFill>
            <a:srgbClr val="ccffcc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9600" bIns="396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2.5*(1-20ppm) / 1.302 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FrutigerNext LT Regular"/>
              </a:rPr>
              <a:t>Need 2 T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877080" y="314172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77080" y="3286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6877080" y="3285720"/>
            <a:ext cx="43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2843280" y="2491920"/>
            <a:ext cx="8650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11280" y="3139920"/>
            <a:ext cx="172908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11280" y="3357720"/>
            <a:ext cx="172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30872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140360" y="3141720"/>
            <a:ext cx="288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140360" y="3285720"/>
            <a:ext cx="288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43280" y="342900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FrutigerNext LT Regular"/>
                <a:ea typeface="宋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11280" y="3716280"/>
            <a:ext cx="1729080" cy="180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40000" y="3862440"/>
            <a:ext cx="1871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OTU4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Min. Bit Rate = </a:t>
            </a:r>
            <a:r>
              <a:rPr b="1" lang="en-US" sz="1600" spc="-1" strike="noStrike">
                <a:solidFill>
                  <a:srgbClr val="ff0000"/>
                </a:solidFill>
                <a:latin typeface="FrutigerNext LT Regular"/>
              </a:rPr>
              <a:t>1.301 683 217G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1907640" y="3213000"/>
            <a:ext cx="505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1908000" y="3141720"/>
            <a:ext cx="505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1680" bIns="31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862440"/>
            <a:ext cx="1944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OTU2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Min. Bit Rate = </a:t>
            </a:r>
            <a:r>
              <a:rPr b="1" lang="en-US" sz="1600" spc="-1" strike="noStrike">
                <a:solidFill>
                  <a:srgbClr val="ff0000"/>
                </a:solidFill>
                <a:latin typeface="FrutigerNext LT Regular"/>
              </a:rPr>
              <a:t>1.249 384 632G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16360" y="2062080"/>
            <a:ext cx="2232000" cy="647640"/>
          </a:xfrm>
          <a:prstGeom prst="wedgeRectCallout">
            <a:avLst>
              <a:gd name="adj1" fmla="val 6754"/>
              <a:gd name="adj2" fmla="val 91912"/>
            </a:avLst>
          </a:prstGeom>
          <a:solidFill>
            <a:srgbClr val="ccffcc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9600" bIns="396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2.5*(1-20ppm) / 1.249  =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FrutigerNext LT Regular"/>
              </a:rPr>
              <a:t>Need 3 T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ffic Parameters Ext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971640" y="1981080"/>
            <a:ext cx="7272360" cy="18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ignal Type  |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oleran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|              NMC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        NVC              |        Multiplier (MT)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             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Bit_R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dopt it as a WG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Refine it according to 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back from the meeting or mail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01:40:59Z</dcterms:created>
  <dc:creator> </dc:creator>
  <dc:description/>
  <dc:language>en-US</dc:language>
  <cp:lastModifiedBy>Fatai</cp:lastModifiedBy>
  <dcterms:modified xsi:type="dcterms:W3CDTF">2010-03-19T08:03:00Z</dcterms:modified>
  <cp:revision>3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68636256</vt:lpwstr>
  </property>
</Properties>
</file>