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4D9E0-9C02-4722-A779-F67072DC25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65612-4AB1-468F-8A6A-E0395C13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E7B29-0173-4CF4-9CF4-6CAE2C9C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0071E-0427-4C0E-A80C-3FDCC3376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82848-D22C-4179-82C6-BD9EEA4C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593E-0973-4B44-8A99-60F291AE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7B10-2442-470A-BDE9-6646840A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CB93-21BF-4B78-990D-A96997E0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D482-52E0-457B-A5E2-B91BE3C1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29B6-4282-41CF-83D0-FC1F93D8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EA45-FF67-43AE-85EC-BBAE67ED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073A-2BB2-469E-AF47-1954E22A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66056-F95F-45F9-B2C5-7531200E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ABE3-6D34-46F4-B4B5-4CA365F4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DBCC-3F2D-493B-8821-04FD30E8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E4AB-E6E4-48CB-AD82-AD063CEE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0254-76FE-4B11-A87A-C78B0427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363F-7958-4366-B258-1230A702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1C517-B9EF-4662-8E82-F4AB3AEE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7BC83-EFB6-45EE-9850-96C503A0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6DB79-4330-4FEC-8F2E-D5D7EB0D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1A648-D788-422D-9364-E0CB776A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698B3-B1E4-4E56-90BD-B1853544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AA8AF-45FF-4B1A-A085-89341A67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EE44C-A0FC-4A3A-B55B-D0B92CAC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4F1529-71CE-434C-9850-F9E6F7983A3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460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5760" y="1690200"/>
              <a:ext cx="742644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320"/>
              <a:ext cx="2864520" cy="3155040"/>
              <a:chOff x="0" y="1066320"/>
              <a:chExt cx="2864520" cy="3155040"/>
            </a:xfrm>
          </p:grpSpPr>
          <p:sp>
            <p:nvSpPr>
              <p:cNvPr id="55" name=""/>
              <p:cNvSpPr/>
              <p:nvPr/>
            </p:nvSpPr>
            <p:spPr>
              <a:xfrm>
                <a:off x="572400" y="3580920"/>
                <a:ext cx="575640" cy="640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4680" y="1689480"/>
                <a:ext cx="5738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79520" y="1066320"/>
                <a:ext cx="58500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0480" y="3580920"/>
                <a:ext cx="583200" cy="6404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79520" y="1689480"/>
                <a:ext cx="58500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0480" y="2322720"/>
                <a:ext cx="583200" cy="632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2720"/>
                <a:ext cx="581760" cy="632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4680" y="2322720"/>
                <a:ext cx="573840" cy="632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2400" y="2946240"/>
                <a:ext cx="575640" cy="643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0480" y="2946240"/>
                <a:ext cx="583200" cy="643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D9B7DD4-6C4D-4D34-AEF1-9CE852E2BAB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5776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SPF-TE extensions for GMPLS Control of Evolutive G.709 OT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0" y="443664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raft-ceccarelli-ccamp-gmpls-ospf-g709-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CCAMP WG, IETF 77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 Anahei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98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TN TE info needed for ODU path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SON TE info out of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mmon interest to assure OSPF-TE routing extensions fully support OTN-G.709(2009) cap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 of routing specific requirements from OTN FW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ctual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eing r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ility of bundling links either at the same line rate or different line rates (e.g. 40G and 10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link total bandwid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ndling links at the same rate makes the calculation for ODU-flex routes slightly more precise while bundling links at different rates makes the control plane more scal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hoice of the method is implementation depend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priority for resto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 requires supporting resource allocation at up to 8 priority level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any ODUs and  ODU-fl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tly from other containers (that have a fixed size) it is needed to declare the maximum LSP bandwidth and the maximum number of LSPs that can be supported using this bandwid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 path computation for ODUk and ODUf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5230800"/>
            <a:ext cx="792000" cy="1008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24360" y="5230800"/>
            <a:ext cx="792360" cy="1008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92360" y="5446800"/>
            <a:ext cx="244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5734080"/>
            <a:ext cx="244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60228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7440" y="5157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97440" y="54468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97440" y="57276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28680" y="6308640"/>
            <a:ext cx="497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-odu3 – Max Band 32TS – Unres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 multiplexed capacity from line rat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not to lock connection service rate to infrastructure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accurate route calculation for containers that use a different number of time slot depending from the server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ODU2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864072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Solution 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16000" y="1483920"/>
            <a:ext cx="4186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IS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LSP Bandwidth and Unreserved bandwidth per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 for multiplexing capability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ISCD per component links with same line rate and multiplexing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392720" cy="2887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4221000"/>
            <a:ext cx="5256360" cy="24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0320" indent="-31032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25812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ndling of component links with same OD(T)Uk and signal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25812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urrent path compu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-odu3 – Max Band 32TS – Unres 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Aft>
                <a:spcPts val="1749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w many service connections can be supported? 1 or 2?!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25812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19640" y="5373720"/>
            <a:ext cx="792360" cy="1008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28000" y="5373720"/>
            <a:ext cx="792000" cy="1008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6000" y="5589720"/>
            <a:ext cx="244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6000" y="5877000"/>
            <a:ext cx="244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96000" y="6165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59280" y="638172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00720" y="530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0720" y="55897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00720" y="58705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4358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latest progresses on G.7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the joint work aiming at finding a solution respecting all th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draft after the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QUESTION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292640"/>
            <a:ext cx="82296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06:55:26Z</dcterms:created>
  <dc:creator>diego caviglia</dc:creator>
  <dc:description/>
  <dc:language>en-US</dc:language>
  <cp:lastModifiedBy>Daniele Ceccarelli</cp:lastModifiedBy>
  <dcterms:modified xsi:type="dcterms:W3CDTF">2010-03-22T18:25:01Z</dcterms:modified>
  <cp:revision>80</cp:revision>
  <dc:subject/>
  <dc:title>CCAMP WG IETF 69 </dc:title>
</cp:coreProperties>
</file>