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C756-14F7-457A-B628-E85822EE15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E550-B2B2-4AE7-8E33-F0B406C8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73FD-0E15-4B31-AA7B-EAAB3FC6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09BE-E32F-424F-AF33-0BEE31AE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FA6A-1EAD-4AE8-8E27-F57436AB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9A3-DDF4-4F5B-B1C5-CFAD452D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8EA5-7EAB-4A29-8858-F439C8CC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3F25-0005-401E-A03E-38448118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3D5D-E380-4465-A030-FD4374F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38A4-6064-4DBA-A6DB-28662637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5F78-6FB6-445A-BBFC-A6565B58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9E0-F07E-45AF-8978-A27DDEB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0A71-4EEE-4E2C-8039-BE9F3F0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D8E8-4639-4AD4-9467-3768298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AB5-AE82-451C-A134-BBBB556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F53B-C20E-4108-9B24-6225D87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4F06-DF0C-45FC-BB10-0D75BBFE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3F9-3518-4AD6-AB39-3DA80FDE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5986-75A7-44BB-96C7-B1C1C24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EB23-8091-4782-9317-2CF483F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DC3D-C618-4907-866A-9B41CF4B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3A0C-79D7-4568-86FD-E82C7C13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23DC-73B0-490C-A674-EDDA412E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816F-43E1-4E27-95D6-5281569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27FF-FBF2-4651-9DA5-A15458F9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6F0327-F32D-4711-9A69-5F715CF550A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827CAC-F601-45EE-9A16-9E6805AB33F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PF-TE extensions for GMPLS Control of Evolutive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ceccarelli-ccamp-gmpls-ospf-g709-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77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Anahe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N TE info needed for ODU path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SON TE info out of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mon interest to assure OSPF-TE routing extensions fully support OTN-G.709(2009)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of routing specific requirements from OTN F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tu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ing r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ty of bundling links either at the same line rate or different line rates (e.g. 40G and 10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link total band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ndling links at the same rate makes the calculation for ODU-flex routes slightly more precise while bundling links at different rates makes the control plane more scal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oice of the method is implementation depend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priority for rest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 requires supporting resource allocation at up to 8 priority leve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any ODUs and  ODU-f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ly from other containers (that have a fixed size) it is needed to declare the maximum LSP bandwidth and the maximum number of LSPs that can be supported using this bandwid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 path computation for ODUk and ODUf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230800"/>
            <a:ext cx="79200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5230800"/>
            <a:ext cx="79236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544680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73408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60228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744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7440" y="54468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7440" y="5727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8680" y="630864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-odu3 – Max Band 32TS – Unres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 multiplexed capacity from line rat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ot to lock connection service rate to infrastructur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ccurate route calculation for containers that use a different number of time slot depending from the server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DU2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8640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olution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1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S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LSP Bandwidth and Unreserved bandwidth p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 for multiplexing capability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SCD per component links with same line rate and multiplex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92720" cy="2887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221000"/>
            <a:ext cx="525636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0320" indent="-3103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ndling of component links with same OD(T)Uk and signal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urrent path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-odu3 – Max Band 32TS – Unres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Aft>
                <a:spcPts val="1749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many service connections can be supported? 1 or 2?!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5373720"/>
            <a:ext cx="79236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5373720"/>
            <a:ext cx="79200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558972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587700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6165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6381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5589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5870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latest progresses on G.7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the joint work aiming at finding a solution respecting all th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raft after th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0-03-22T18:25:01Z</dcterms:modified>
  <cp:revision>80</cp:revision>
  <dc:subject/>
  <dc:title>CCAMP WG IETF 69 </dc:title>
</cp:coreProperties>
</file>