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B4FF41-77D3-4742-8A8D-93D7164320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F1BE4-5922-422E-BE34-0FF7F20F6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1922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04683-DF38-4AE3-BC51-7034336C8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352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479C6-D87B-4246-B874-4A0A1896D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28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136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28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136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3B3B9-E61A-41B6-8F05-463215890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269AC-5758-4917-97C7-2472C8668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81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0FAAD-15F9-442F-AD7A-64F97AC9A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E9C0C-F9EA-45E9-A543-95CD07E92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759AD-347D-441C-B0BB-8B92C51C7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5482C-2C11-4958-8BAC-8DE0ECE11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25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0929C-5B6C-4E75-8324-D75108130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17272-1286-4B45-8AB7-5A9F9FF3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81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FB4E7-E2E9-4C9C-8D60-ED2650EC3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352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8FF74-B6E5-4E1B-B01D-5F8E132C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D3E36-EC5D-49FC-8F64-A9AF375D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1922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EC44C-9CFD-4242-9FA4-806A7842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352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757AC-BE76-4EC8-914D-697BB5A8C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28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136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28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136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444D2-3A76-4AC7-B7B8-101066077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7A67B-7540-4547-99CE-AAD1F74F8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47931-B8D8-4804-A822-06B9D46FE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FFE81-9E69-4CC2-B9A8-1C782697C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25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290AD-33EB-4B62-9BB2-B55ED6178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FC513-545C-49F1-A4CC-6ED3717E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352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F5408-F325-49D8-AC4F-9157D26B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7F0F0-0391-4F56-9433-8B2D2DC8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56FA6FE-E276-4AAB-9733-7D1CAD8EB50C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2200" cy="544680"/>
            <a:chOff x="0" y="0"/>
            <a:chExt cx="9142200" cy="54468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480" cy="532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560" y="134640"/>
              <a:ext cx="8729640" cy="273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320" y="134640"/>
              <a:ext cx="137520" cy="140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200" y="0"/>
              <a:ext cx="139320" cy="1375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200" y="134640"/>
              <a:ext cx="139320" cy="140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320" y="273600"/>
              <a:ext cx="136080" cy="1375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400" y="136080"/>
              <a:ext cx="140760" cy="1375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320" y="270720"/>
              <a:ext cx="137520" cy="1375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320" y="408600"/>
              <a:ext cx="136080" cy="1360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8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2200" cy="6856560"/>
            <a:chOff x="0" y="0"/>
            <a:chExt cx="9142200" cy="685656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460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5760" y="1690200"/>
              <a:ext cx="7426440" cy="25329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320"/>
              <a:ext cx="2864520" cy="3155040"/>
              <a:chOff x="0" y="1066320"/>
              <a:chExt cx="2864520" cy="3155040"/>
            </a:xfrm>
          </p:grpSpPr>
          <p:sp>
            <p:nvSpPr>
              <p:cNvPr id="55" name=""/>
              <p:cNvSpPr/>
              <p:nvPr/>
            </p:nvSpPr>
            <p:spPr>
              <a:xfrm>
                <a:off x="572400" y="3580920"/>
                <a:ext cx="575640" cy="6404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4680" y="1689480"/>
                <a:ext cx="573840" cy="642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79520" y="1066320"/>
                <a:ext cx="585000" cy="6343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0480" y="3580920"/>
                <a:ext cx="583200" cy="6404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79520" y="1689480"/>
                <a:ext cx="585000" cy="642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0480" y="2322720"/>
                <a:ext cx="583200" cy="6325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2720"/>
                <a:ext cx="581760" cy="6325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4680" y="2322720"/>
                <a:ext cx="573840" cy="6325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2400" y="2946240"/>
                <a:ext cx="575640" cy="6436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0480" y="2946240"/>
                <a:ext cx="583200" cy="6436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20EEE96-9154-488C-B36E-E24AD2701F89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440" y="1828800"/>
            <a:ext cx="6018120" cy="22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440" y="1828800"/>
            <a:ext cx="5776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MP Test Messages Extensions for Evolutive OT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0" y="443664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draft-ceccarelli-ccamp-gmpls-g709-lmp-test-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宋体"/>
              </a:rPr>
              <a:t>CCAMP WG, IETF 77</a:t>
            </a:r>
            <a:r>
              <a:rPr b="0" lang="en-US" sz="34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th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宋体"/>
              </a:rPr>
              <a:t> Anahei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Authors/Contribu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Daniele Ceccarel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daniele.ceccarelli@ericsso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Diego Cavig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diego.caviglia@ericsso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Francesco Fondel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francesco.fondelli@ericsso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Fatai Zh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zhangfatai@huawe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Dan 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danli@huawe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Marco Cor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marco.corsi@altran.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Dieter Be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dieter.beller@alcatel-lucen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016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98320"/>
            <a:ext cx="8229600" cy="52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Link Connectivity Verification [RFC4204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Evolutive OTN needs LMP support to test new types of sig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EGIN_VERIFY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Encoding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Verify Transport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ransmission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race Moni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宋体"/>
              </a:rPr>
              <a:t>New TRACE object for evolutive OT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宋体"/>
              </a:rPr>
              <a:t>G.7714.1 Discovery Response msg for Layer Adjacency Discover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Link Connectivity Verification (1/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n band transmission of test messages over data link to verify physical connectivity, discover DP resources, exchanged IF_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Aft>
                <a:spcPts val="1749"/>
              </a:spcAft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egin Verify Class: [RFC4204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476360" y="3429000"/>
            <a:ext cx="6408720" cy="2664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19280" y="4797360"/>
            <a:ext cx="1440000" cy="28728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16360" y="4797360"/>
            <a:ext cx="2951280" cy="28728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19280" y="5170320"/>
            <a:ext cx="6048360" cy="28764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Trace Monitoring (1/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race Object Class: [RFC 4207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New C-Type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race Typ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sed to identify the type of trace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DU TTI, OUT TTI and 6 levels of T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050920" y="2492280"/>
            <a:ext cx="5048280" cy="1562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124000" y="4653000"/>
            <a:ext cx="4734000" cy="13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Trace Monitoring (2/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race Object Class: [RFC 4207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New C-Type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race Length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Expresses the length of the trace message in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race Mess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cludes the value of the expected message to be received in-b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valid length and value combinations are determined by the ITU.T G.709 recomme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050920" y="2492280"/>
            <a:ext cx="5048280" cy="156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overy Response Message for Layer Adjacency Discove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[G.7714.1] – Automatic layer adjacency discovery procedure applicable to G.709 OT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iscovery message sent via 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ppendix III of G.7714.1 describes how to send a discovery response message to the originator (“discovery agent”) via LM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Monitor message [RFC4207] is used to convey the discovery response mess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overy respons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attribut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ping int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Monito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objects o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ields of the LM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79280" y="4221000"/>
            <a:ext cx="5830920" cy="221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step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宋体"/>
              </a:rPr>
              <a:t>Keep on monitoring G.7714.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宋体"/>
              </a:rPr>
              <a:t>Reflect OTN capabilities into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LMP behavior negotiation 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TN test bit in ENHANCED_BEHAVIOR_CONFIG (c-type=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TN control framework 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dopt as working group doc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QUESTION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4292640"/>
            <a:ext cx="822960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6T06:55:26Z</dcterms:created>
  <dc:creator>diego caviglia</dc:creator>
  <dc:description/>
  <dc:language>en-US</dc:language>
  <cp:lastModifiedBy>Daniele Ceccarelli</cp:lastModifiedBy>
  <dcterms:modified xsi:type="dcterms:W3CDTF">2010-03-18T16:12:06Z</dcterms:modified>
  <cp:revision>78</cp:revision>
  <dc:subject/>
  <dc:title>CCAMP WG IETF 69 </dc:title>
</cp:coreProperties>
</file>