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F24E5-2DB4-494C-B5BA-4995FB219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02A0-CCED-413E-9457-854F057B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5C04-62F7-42BC-8C4D-6799B190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3E72-FC74-4FB5-87B3-0BC61E9E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97D4-5C12-4750-91C5-93A5EED7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0A04-4F99-4FBC-9F12-C00B0027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21CA-F777-4ADE-AD89-E33A766A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C60-BCB1-4881-9FDF-ED28018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FB6-A5C3-474B-9A88-6D1B0057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22B-3BCC-4000-BD92-A5E647B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F9E6-7BC1-498F-AF74-2C985BFE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4337-9F14-4E54-8397-3BD8A2A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6AC3-074F-4CC9-992F-F42ADB94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59D1-7A48-45BA-BA09-4E410DB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5157-BEDD-4157-A075-158C169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61C5-5BB9-4240-B4CC-2F0247B7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2EF-8CF6-49CB-B56B-32E8EC5D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4ADD-9644-4680-861C-9B2DF3B6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89FD-4F2D-4026-B740-1CA2A86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28F4-709A-489D-8039-D6B0116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10C8-7EDB-4E0F-B12E-1EB2DCC6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38AE-EC16-4233-8375-6B94EB6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24A6-FC1B-42E8-82CF-B7422B78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0FD5-FB3A-416A-901F-9661142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2D40-8D82-457C-B68E-DA3362D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70C419-F6B2-4CE9-8A4F-3FFAF57CC44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746752-2562-4446-A4A3-81FA31F3584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MP Test Messages Extensions for Evolutive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ceccarelli-ccamp-gmpls-g709-lmp-test-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77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Anahe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niele Cecc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aniele.ceccarelli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go Cav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iego.caviglia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rancesco Fond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rancesco.fondelli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zhangfatai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n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anli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arco 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marco.corsi@altran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ter B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ieter.beller@alcatel-luc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 [RFC42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ve OTN needs LMP support to test new types of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GIN_VERIF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coding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Verify Transpor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nsmiss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New TRACE object for evolutive OT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G.7714.1 Discovery Response msg for Layer Adjacency Discove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 band transmission of test messages over data link to verify physical connectivity, discover DP resources, exchanged IF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gin Verify Class: [RFC42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40872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280" y="4797360"/>
            <a:ext cx="144000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97360"/>
            <a:ext cx="295128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5170320"/>
            <a:ext cx="6048360" cy="287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Object Class: [RFC 4207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 C-Typ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ce Typ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to identify the type of trac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U TTI, OUT TTI and 6 levels of T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048280" cy="15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24000" y="4653000"/>
            <a:ext cx="473400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ce Object Class: [RFC 4207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w C-Typ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Lengt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presses the length of the trace message i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Me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the value of the expected message to be received in-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valid length and value combinations are determined by the ITU.T G.709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0482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Response Message for Layer Adjacency Dis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[G.7714.1] – Automatic layer adjacency discovery procedure applicable to G.709 O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covery message sent via 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endix III of G.7714.1 describes how to send a discovery response message to the originator (“discovery agent”) via L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message [RFC4207] is used to convey the discovery respons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respon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ttrib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objects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ields of the LM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58309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Keep on monitoring G.7714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eflect OTN capabilities int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MP behavior negotiation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N test bit in ENHANCED_BEHAVIOR_CONFIG (c-type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N control framework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 as working group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0-03-18T16:12:06Z</dcterms:modified>
  <cp:revision>78</cp:revision>
  <dc:subject/>
  <dc:title>CCAMP WG IETF 69 </dc:title>
</cp:coreProperties>
</file>