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0ED7-C145-4176-BE84-1C0F0CAE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E5BF-8283-4438-B867-7B4BFC74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75FB6-82D1-4AA5-A6FB-95412B91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63B4F-A887-47B1-939D-6F8DEBC8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2504F-244D-49B3-8E7C-C44BB839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01573-17AE-4A7A-960F-E9363499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04E85-A4F0-424E-8523-32479C39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DA7C5-60B3-4CFE-9501-3C8B4172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C0FB1-68FF-431A-BAE3-531FB9A6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19C0D-F101-49E8-8E3B-B9B26310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1C75C-D6F1-4B23-9849-CB176B90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03C54-66D8-4C39-9F7E-87E3E700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93F4-D479-483F-9868-3184A10E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79266-8065-4AA2-98E8-08055E4D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6F38A-8109-4EC8-9861-7B73652F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AE488-E65C-4CCD-A876-26E8FEAC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4EA55-652D-414B-BAE4-FDC90411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A0854-66F3-4394-8D1A-C498ECC2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A605A-8DF4-4861-9457-334D9D32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5DB74-171A-4D00-9B19-A698147F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A0D99-F01A-403B-A62C-41054436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785A5-76AF-47AD-B889-655810C4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1FE54-2D1D-4D94-92AF-4981F535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0309-62A6-4DC1-ADB9-B9544856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12E27-9D39-466B-B323-ACC5DDA9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B12F9-B1B5-4BE8-8E58-0EB1188F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2E9B6-6502-4AF5-8C7E-3BF76AFB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12474-FF31-4E4C-8AB5-DFB3F6B9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E7D61-74C3-4679-8150-39B131C9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39E1D-EE4C-4613-8350-1B8C960C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E90F4-E362-4327-A461-7959B66B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50B15-EA20-4B95-A478-7583A239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55B00-E2C5-4EBD-8A20-928382C2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6A126-BD4B-42AF-94A6-9A2F7FEA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77529-D5A2-4BBD-B600-EC814002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9EF2A-0D5B-442C-A59C-AEF68C68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962A3-6946-4F0F-8B92-CE43231D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7685E-3271-41B4-A927-DD1A0520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C25A3-8EC4-4650-8B26-46634712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AA9D2-B967-4A99-813D-93D99614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6C8ABC-A73F-480D-AEDD-9AFCB3E3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079B2-343D-4900-9099-2E86E0FC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8AE8B-B578-4CD0-8781-873280CF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3BD69-CA2C-42D8-A4EB-B49BA858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E72FA-E439-4A65-8688-3CA58271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6A16B-6981-4784-AAD9-15B26411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08B6A-B0E7-485E-8852-52B71D48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0C9B6-0982-4F9F-B083-DB955FA0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55BB3-0618-4447-8934-1172B763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35E6A-B61E-45B0-BFAC-E02642D4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15975-BA79-4044-B4F0-0026F39A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22820D-5A57-4CDB-80D7-45E33111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4462FF-D81F-49C5-B50B-7FAB7F82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0BBE86-EE5A-49BD-8130-C0B7911C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229BF5-2DA0-40A2-BF8D-794470F7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05FC1-3422-4999-868E-EB810400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D412A-7E1A-436C-AD08-2BF545C6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952B1-CF6F-49DC-8561-653F90ED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4A1899-F98C-4E9F-84C3-811DB724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0B1F62-F7FF-440D-BD50-489D610A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F88F0E-A36F-46CB-B039-C3B3BF0C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B97DAC-4151-4044-89FA-47E45B49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D75ED5-8AC3-4F4D-9A77-0BE247BD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23225-3EE5-4462-9441-96EB9C69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33616C-ED91-4C57-B5A4-DB63B4FA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5D417A-EEC6-47E4-9C9E-0A9E01A9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9E3948-C4AF-4BFD-A7C1-FBDF2470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3BD7F-4B68-4629-8403-73FB703C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BE4B02-A169-40F4-9E3F-11369DD4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5B6020-4C11-43A2-B1FB-3D693E38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84E9AC-6507-4988-8EAB-C0282F76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B6641E-ED9C-4E35-BE33-C926CB87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74CD2A-2C14-42EE-94C2-B7882CA2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959A87-908C-4160-B354-1D6CE8A8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909036-72CE-4CD6-A967-FE6753D3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E0B57D-2A92-4B7B-A507-9BFB4B9B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15EEEC-6913-4AC0-9F6B-CCE938E6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914B4B-4E0E-4575-B74E-5442C87F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05BF8-B2AE-45B5-B6FC-4B859599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370EED-F431-4ECA-AF70-CFCB6A9C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1B2985-E54A-4BB7-862F-0A332572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5DB280-4C69-4881-9941-94200E3F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DC4ECD-77FB-4FF7-A4C6-BD0A7CB0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0C2334-8CDE-4059-A8F1-29CF675A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0CBAE7-844B-4BD4-B8E5-A68A0157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B0353D-D0A5-4BC2-858B-CF09BBEA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4F31F9-4643-47A1-9679-3B9914AD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A561D5-62C0-440A-B4A2-A1E34083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D16BDB-6676-4D7A-AD10-B37F3BE8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3E221-5F4A-4741-B0B4-1F841AE9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AE7CE3-270D-4EFA-90E8-7DC1125A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BD792C-7A02-43B2-9EC9-FFFAF106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F73D70-6CDC-430E-A90E-DAB87FD0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4761AE-90B6-40D1-961A-655738CA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42AB6E-3620-4329-A85C-4AA7CB93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618270-B4FC-49DF-815E-CC107D9E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CB8140-2E62-4366-95CE-B314DBF9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4836E9-AF51-4A12-B30A-B2B1D687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F8C06B-BBA8-47FC-9337-0DD9E5CC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33F5CE-2D82-4B6A-BD6B-209A1CBC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83775-67E4-4E3C-A78E-775511FF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2E3623-D995-4763-975B-2AA8C046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DDE9E0-246B-41A2-B45A-57D5C11A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D09863-7347-41FD-A6CA-B027B008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007473-CC9B-47CC-BBE2-4927C3D0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9C12DA-3A80-46DF-BAE8-8144B35A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ACE32A-A21A-4D03-A4AF-7592AC79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2C3002-A4EC-4C5A-96A9-F9DE04AB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733036-FAE0-433D-BAA3-FB2E69FA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737F74-00D8-4A27-A078-CF89F9CD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619D54-85F9-4587-870F-32DA9C4B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675A-4053-423D-AF7B-0069C151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55642-76BB-4ACF-AA76-EEB22F81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B6F5F5-AAFA-4F50-9F9E-32611FC5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4F8F78-3892-4B72-BE7F-1C419CB7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4BBC8D-0CDB-4B4D-B86B-580B40FD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980841-4A45-4EB7-9D46-374C4FCD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790778-3F01-45AD-89CB-7B8C9621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09C78-91D6-4361-A1A2-A84B3EB8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2FCA0-4036-49EE-B9FB-1633094B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1F61C-23EA-482A-8BF9-C84007C3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5D0D7-0A02-4F64-9DB0-C5652B47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07758-8AF6-47BE-9421-D0F9DDE1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54297-C65E-4764-B0B2-61B84680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12D99-3027-4C97-BD83-01E44382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D7D59-4F13-4A4D-AB12-D990DDCF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DE0B2-B99A-4444-B0C1-76BCFE3B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5812-583E-4819-81DE-A87B6EFB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BE5B3-1F5B-44AD-B776-CB9B0135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F79D7-60D7-4C50-BD19-C5E1A802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499B8-C691-40A4-B6E0-3D3770FC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CBFDE-99DA-452A-BB52-5E9540A0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BBA21-E157-4305-9B9A-4AD3CEDE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288EB-BADC-43C1-904D-EA360626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F88AF-4263-4035-9CEA-CA733172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8CF62-6A2C-451B-BDBA-13930849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B58A6-3C29-46BC-B66B-139CDCEB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CAAC0-08B8-48F0-82B9-30E4BECB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CABE-17A2-4A0A-8CC3-39491CA5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54FB5-576C-461C-AD6A-8D0FFF49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5986A-0D8A-42BD-83F4-DA0EAA65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BB4B1-44F0-4966-879D-30C08526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013EB-D0E9-4A1C-966D-B15CE01C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5B3B7-D684-49B4-AF37-D2B02F12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394E3-42D8-4C0E-AA68-3340ABD2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8BA74-8631-41F2-A5BB-E4C40F8D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A57F3-F0AF-4D35-B949-912BE721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D7798-BD85-4594-8799-B1048AF6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B1D2D-0421-4D0E-BC92-9C5CE2F1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B965-987E-4D80-94D4-CDF0D236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209BB-9089-485B-9DDC-64CA2DD1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0E44A-1116-499E-986F-2C09FC11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00E04-EA4E-453A-B7E4-915AD029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BE97B-A4DE-49CA-80A7-6ECBBBBA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F04E8-F0EB-4385-BA40-C6D6831B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AEEE6-F2B9-4212-AFDA-DD6D6689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FD040-D35A-4AC9-A7CA-5C30E667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E16C8-D0C1-42D2-9491-D32B55EE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4008F-B557-48FF-8C53-26B99802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133C6-2789-4FC1-958E-782AF196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C272-6A79-40A0-8869-130FD31C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C3BA7-7980-4C1D-BAB3-4E67BF77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771B0-5CB5-4ACB-9657-6703D554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6A0E5-0ABA-49FD-986D-D21669CD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62C6D-46FA-412D-A641-BF1DD878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9D769-705B-4F97-9301-2EF33D0D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82BA2-2A40-41FD-93E7-040B6B8F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885F8-F456-4B15-A26C-D0D43A1D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0C53A-4DE3-49A0-81FC-45629EE5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53D09-5599-460E-B8E0-77019AA0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36ECB-321C-4BE2-AE1F-CEDF26A2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2D10-75C0-4553-ACD3-7C35E877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49368-5A2A-47AF-9B62-C8121856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0F78D-C02D-4604-B5E8-71D3571B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C62E1-3377-4861-A29D-1F26DABF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DE44A-F065-46CD-937B-0B89AE46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97F39-30C7-426F-907B-201EAF18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63408-8835-4A2C-86A0-83194B2A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9FAAA-FDCB-4C1C-8284-C9D1C6CF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0B49F-AFF6-40B2-8F5B-7F6F7D26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7F7F9-CB55-4FB4-910A-9BA56594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37892-1142-4A2B-9605-89C7A220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7AB4-BAF4-49DC-B070-D62893D7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BA9A0-5BB5-4CED-8B1B-FAD4FB1F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3FCA9-8155-4231-9F43-8F9FD1A4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3D186-25C3-47D3-B7F7-8AA5F3D8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48B89-C0F4-439E-9C3A-652AA0BF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BAE7B-68C5-4313-9097-49F0F9F1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BA4D8-8A26-4E2C-A70E-2A9ABE1A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B2154-E17E-491E-88C6-3F130D1D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8C0CF-7153-40A6-A35C-6C389225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CA5B8-563F-4FA1-AE9A-A329F0B6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7E961-6416-4CC8-AC9F-551FB364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D8AC-2535-4AED-A508-CEE6F560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48A01-31F6-4B29-9F42-EB6DBB28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0CB7D-F390-4888-8A29-3C423C12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95746-F44C-4201-8B68-B303D73D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3DADA-D0AC-4D74-B42E-49E06236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28448-C297-45F9-B3ED-6A850FB9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0F047-8CC8-443F-9F90-357A31A4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563C1-ADFB-4DC8-836B-2A9EF9B7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5841E-896E-43C2-AE47-989A2F4A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FF4EB-6CC9-4D78-B8CD-1548CDB7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84A3F-156F-47A5-A01E-D2494883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B56E85-9EF7-4E5D-90D2-2E21201E8F2B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91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ADA8F-9731-4262-ABC3-4BB1FBB89A13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4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2F5A92-CBA3-4505-A77B-4C0D14504276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77" name="Picture 8" descr="Overlay-ContentCaption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0C588F-B6DA-474B-AE9C-D2A9EC9342C8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20" name="Picture 8" descr="Overlay-PictureCaption.png"/>
          <p:cNvPicPr/>
          <p:nvPr/>
        </p:nvPicPr>
        <p:blipFill>
          <a:blip r:embed="rId2"/>
          <a:stretch/>
        </p:blipFill>
        <p:spPr>
          <a:xfrm>
            <a:off x="449280" y="187200"/>
            <a:ext cx="8535960" cy="64836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388584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5866920" y="6288120"/>
            <a:ext cx="267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829BAE-4C4E-4AB9-A0F2-BE5A69E70BE2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63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FDF4D3-6967-4326-BB0D-20E0D9101565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06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3FD54-C239-4F82-BA70-207F5DD234D3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49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AA0592-329A-4BC7-99F3-880AD2822E69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9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5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5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BD8F6-92B2-4194-875D-9069F1102BDD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Picture 8" descr="Overlay-TitleSlide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3676D7-BCD5-4231-89A2-217BE66537CE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6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701423-C9BC-423E-86CE-9A5CF45B1432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9" name="Picture 8" descr="Overlay-SectionHeader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423B5F-DFF9-4B10-AAC9-22A9C66DCCB1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3FCE1F-D87E-4972-BAB0-1F2C2628EAB2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9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Straight Connector 10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Straight Connector 12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B43660-8A09-44FF-8016-F786A8013025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4DD48-A434-46ED-8F65-7DA6572C7D6B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0CFF8B-8228-445D-B5BC-7ABB3D8CBB09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>
              <a:gd name="textAreaLeft" fmla="*/ 178560 w 8764560"/>
              <a:gd name="textAreaRight" fmla="*/ 8586000 w 8764560"/>
              <a:gd name="textAreaTop" fmla="*/ 178560 h 6478560"/>
              <a:gd name="textAreaBottom" fmla="*/ 6300000 h 6478560"/>
            </a:gdLst>
            <a:ahLst/>
            <a:rect l="textAreaLeft" t="textAreaTop" r="textAreaRight" b="textAreaBottom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lnTo>
                  <a:pt x="8764587" y="5868563"/>
                </a:lnTo>
                <a:arcTo wR="610024" hR="610024" stAng="0" swAng="5400000"/>
                <a:lnTo>
                  <a:pt x="0" y="6478587"/>
                </a:lnTo>
                <a:lnTo>
                  <a:pt x="0" y="610024"/>
                </a:lnTo>
                <a:lnTo>
                  <a:pt x="0" y="610024"/>
                </a:lnTo>
                <a:arcTo wR="610024" hR="610024" stAng="-10799994" swAng="5400000"/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8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1F0B3-FFF7-42D4-8E72-A44BF2429FE8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05920" y="1544400"/>
            <a:ext cx="8751960" cy="1469880"/>
          </a:xfrm>
          <a:prstGeom prst="rect">
            <a:avLst/>
          </a:prstGeom>
          <a:solidFill>
            <a:srgbClr val="bfbfbf">
              <a:alpha val="32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RSVP Resource Sharing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Remote Identification Association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1599840" y="3578400"/>
            <a:ext cx="6762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draft-narayanan-tsvwg-rsvp-resource-sharing-02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rancois Le Faucheur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shok Narayana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ubha Dhesika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ETF 77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Rectangle 13"/>
          <p:cNvGrpSpPr/>
          <p:nvPr/>
        </p:nvGrpSpPr>
        <p:grpSpPr>
          <a:xfrm>
            <a:off x="5857920" y="1616040"/>
            <a:ext cx="2921040" cy="4363920"/>
            <a:chOff x="5857920" y="1616040"/>
            <a:chExt cx="2921040" cy="4363920"/>
          </a:xfrm>
        </p:grpSpPr>
        <p:pic>
          <p:nvPicPr>
            <p:cNvPr id="819" name="Rectangle 13" descr=""/>
            <p:cNvPicPr/>
            <p:nvPr/>
          </p:nvPicPr>
          <p:blipFill>
            <a:blip r:embed="rId1"/>
            <a:stretch/>
          </p:blipFill>
          <p:spPr>
            <a:xfrm>
              <a:off x="5857920" y="1616040"/>
              <a:ext cx="2921040" cy="43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0" name=""/>
            <p:cNvSpPr/>
            <p:nvPr/>
          </p:nvSpPr>
          <p:spPr>
            <a:xfrm>
              <a:off x="5870520" y="1627200"/>
              <a:ext cx="289260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Problem: Symmetric N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549360" y="1599840"/>
            <a:ext cx="5013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Unidirectional flows to the same destination, traversing symmetric N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NAT issues different destination ports to the different sender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haring not possible in RSVP for reservations going to different {L3,L4} destination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3" name="TextBox 6"/>
          <p:cNvSpPr/>
          <p:nvPr/>
        </p:nvSpPr>
        <p:spPr>
          <a:xfrm>
            <a:off x="7010280" y="1905120"/>
            <a:ext cx="685800" cy="5814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rebuchet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4" name="TextBox 7"/>
          <p:cNvSpPr/>
          <p:nvPr/>
        </p:nvSpPr>
        <p:spPr>
          <a:xfrm>
            <a:off x="6324480" y="5079960"/>
            <a:ext cx="685800" cy="5814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rebuchet M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5" name="TextBox 8"/>
          <p:cNvSpPr/>
          <p:nvPr/>
        </p:nvSpPr>
        <p:spPr>
          <a:xfrm>
            <a:off x="7848720" y="5079960"/>
            <a:ext cx="685800" cy="5814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rebuchet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6" name="Straight Connector 10"/>
          <p:cNvSpPr/>
          <p:nvPr/>
        </p:nvSpPr>
        <p:spPr>
          <a:xfrm flipV="1">
            <a:off x="6629400" y="3381480"/>
            <a:ext cx="380880" cy="1698480"/>
          </a:xfrm>
          <a:prstGeom prst="line">
            <a:avLst/>
          </a:prstGeom>
          <a:ln w="38160">
            <a:solidFill>
              <a:srgbClr val="0c598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7" name="Straight Connector 14"/>
          <p:cNvSpPr/>
          <p:nvPr/>
        </p:nvSpPr>
        <p:spPr>
          <a:xfrm flipH="1" flipV="1">
            <a:off x="7696080" y="3381480"/>
            <a:ext cx="495360" cy="1698480"/>
          </a:xfrm>
          <a:prstGeom prst="line">
            <a:avLst/>
          </a:prstGeom>
          <a:ln w="38160">
            <a:solidFill>
              <a:srgbClr val="0c598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8" name="Straight Connector 18"/>
          <p:cNvSpPr/>
          <p:nvPr/>
        </p:nvSpPr>
        <p:spPr>
          <a:xfrm>
            <a:off x="6324480" y="3798720"/>
            <a:ext cx="457200" cy="5446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9" name="Straight Connector 20"/>
          <p:cNvSpPr/>
          <p:nvPr/>
        </p:nvSpPr>
        <p:spPr>
          <a:xfrm>
            <a:off x="6324480" y="3798720"/>
            <a:ext cx="1676520" cy="5446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0" name="TextBox 25"/>
          <p:cNvSpPr/>
          <p:nvPr/>
        </p:nvSpPr>
        <p:spPr>
          <a:xfrm>
            <a:off x="5876640" y="3429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Share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1" name="TextBox 21"/>
          <p:cNvSpPr/>
          <p:nvPr/>
        </p:nvSpPr>
        <p:spPr>
          <a:xfrm>
            <a:off x="6286680" y="3011400"/>
            <a:ext cx="213336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rebuchet MS"/>
              </a:rPr>
              <a:t>Symmetric N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2" name="Straight Connector 26"/>
          <p:cNvSpPr/>
          <p:nvPr/>
        </p:nvSpPr>
        <p:spPr>
          <a:xfrm flipV="1">
            <a:off x="7350840" y="2490480"/>
            <a:ext cx="3240" cy="522360"/>
          </a:xfrm>
          <a:prstGeom prst="line">
            <a:avLst/>
          </a:prstGeom>
          <a:ln w="38160">
            <a:solidFill>
              <a:srgbClr val="0c598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79040" y="-11124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History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TextBox 4"/>
          <p:cNvSpPr/>
          <p:nvPr/>
        </p:nvSpPr>
        <p:spPr>
          <a:xfrm>
            <a:off x="331920" y="1163520"/>
            <a:ext cx="4622760" cy="209736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arayanan-tsvwg-rsvp-resource-sharing-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8" name="TextBox 5"/>
          <p:cNvSpPr/>
          <p:nvPr/>
        </p:nvSpPr>
        <p:spPr>
          <a:xfrm>
            <a:off x="5308560" y="1141560"/>
            <a:ext cx="3336840" cy="153648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erger-ccamp-assoc-info-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9" name="Rounded Rectangle 6"/>
          <p:cNvSpPr/>
          <p:nvPr/>
        </p:nvSpPr>
        <p:spPr>
          <a:xfrm>
            <a:off x="5618160" y="1544760"/>
            <a:ext cx="2550960" cy="995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ASSOCIATION Object as defined in RFC 4872 and RFC 4873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0" name="Rounded Rectangle 7"/>
          <p:cNvSpPr/>
          <p:nvPr/>
        </p:nvSpPr>
        <p:spPr>
          <a:xfrm>
            <a:off x="1022400" y="1544760"/>
            <a:ext cx="2550960" cy="995400"/>
          </a:xfrm>
          <a:prstGeom prst="roundRect">
            <a:avLst>
              <a:gd name="adj" fmla="val 16667"/>
            </a:avLst>
          </a:prstGeom>
          <a:solidFill>
            <a:srgbClr val="062c43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Non-GMPLS “Resource Sharing” Associatio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Upstream Associatio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Extended Association ID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1" name="Rounded Rectangle 8"/>
          <p:cNvSpPr/>
          <p:nvPr/>
        </p:nvSpPr>
        <p:spPr>
          <a:xfrm>
            <a:off x="1022400" y="2577960"/>
            <a:ext cx="2550960" cy="682920"/>
          </a:xfrm>
          <a:prstGeom prst="roundRect">
            <a:avLst>
              <a:gd name="adj" fmla="val 16667"/>
            </a:avLst>
          </a:prstGeom>
          <a:solidFill>
            <a:srgbClr val="062c43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Resource Sharing Remote Identification Associatio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2" name="TextBox 9"/>
          <p:cNvSpPr/>
          <p:nvPr/>
        </p:nvSpPr>
        <p:spPr>
          <a:xfrm>
            <a:off x="5346720" y="3924360"/>
            <a:ext cx="3336840" cy="2620800"/>
          </a:xfrm>
          <a:prstGeom prst="rect">
            <a:avLst/>
          </a:prstGeom>
          <a:solidFill>
            <a:srgbClr val="bfbfbf"/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erger-ccamp-assoc-info-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3" name="Rounded Rectangle 10"/>
          <p:cNvSpPr/>
          <p:nvPr/>
        </p:nvSpPr>
        <p:spPr>
          <a:xfrm>
            <a:off x="5586480" y="4508640"/>
            <a:ext cx="2550960" cy="995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ASSOCIATION Object as defined in RFC 4872 and RFC 4873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4" name="Rounded Rectangle 11"/>
          <p:cNvSpPr/>
          <p:nvPr/>
        </p:nvSpPr>
        <p:spPr>
          <a:xfrm>
            <a:off x="5586480" y="5504040"/>
            <a:ext cx="2550960" cy="995040"/>
          </a:xfrm>
          <a:prstGeom prst="roundRect">
            <a:avLst>
              <a:gd name="adj" fmla="val 16667"/>
            </a:avLst>
          </a:prstGeom>
          <a:solidFill>
            <a:srgbClr val="062c43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Non-GMPLS “Resource Sharing” Associatio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Upstream Associatio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Extended Association ID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5" name="TextBox 12"/>
          <p:cNvSpPr/>
          <p:nvPr/>
        </p:nvSpPr>
        <p:spPr>
          <a:xfrm>
            <a:off x="331920" y="3924360"/>
            <a:ext cx="4622760" cy="1579680"/>
          </a:xfrm>
          <a:prstGeom prst="rect">
            <a:avLst/>
          </a:prstGeom>
          <a:solidFill>
            <a:srgbClr val="bfbfbf"/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arayanan-tsvwg-rsvp-resource-sharing-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6" name="Rounded Rectangle 13"/>
          <p:cNvSpPr/>
          <p:nvPr/>
        </p:nvSpPr>
        <p:spPr>
          <a:xfrm>
            <a:off x="1022400" y="4365720"/>
            <a:ext cx="2550960" cy="682560"/>
          </a:xfrm>
          <a:prstGeom prst="roundRect">
            <a:avLst>
              <a:gd name="adj" fmla="val 16667"/>
            </a:avLst>
          </a:prstGeom>
          <a:solidFill>
            <a:srgbClr val="062c43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Resource Sharing Remote Identification Associatio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7" name="Freeform 14"/>
          <p:cNvSpPr/>
          <p:nvPr/>
        </p:nvSpPr>
        <p:spPr>
          <a:xfrm>
            <a:off x="8169120" y="2230560"/>
            <a:ext cx="479520" cy="2666880"/>
          </a:xfrm>
          <a:custGeom>
            <a:avLst/>
            <a:gdLst/>
            <a:ahLst/>
            <a:rect l="l" t="t" r="r" b="b"/>
            <a:pathLst>
              <a:path w="480511" h="2665967">
                <a:moveTo>
                  <a:pt x="0" y="0"/>
                </a:moveTo>
                <a:cubicBezTo>
                  <a:pt x="240255" y="504398"/>
                  <a:pt x="480511" y="1008796"/>
                  <a:pt x="480511" y="1453124"/>
                </a:cubicBezTo>
                <a:cubicBezTo>
                  <a:pt x="480511" y="1897452"/>
                  <a:pt x="0" y="2665967"/>
                  <a:pt x="0" y="2665967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stealth" w="med"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8" name="Freeform 16"/>
          <p:cNvSpPr/>
          <p:nvPr/>
        </p:nvSpPr>
        <p:spPr>
          <a:xfrm>
            <a:off x="130320" y="2928960"/>
            <a:ext cx="876240" cy="1739880"/>
          </a:xfrm>
          <a:custGeom>
            <a:avLst/>
            <a:gdLst/>
            <a:ahLst/>
            <a:rect l="l" t="t" r="r" b="b"/>
            <a:pathLst>
              <a:path w="877122" h="2654525">
                <a:moveTo>
                  <a:pt x="877122" y="0"/>
                </a:moveTo>
                <a:cubicBezTo>
                  <a:pt x="446188" y="785678"/>
                  <a:pt x="15254" y="1571356"/>
                  <a:pt x="7627" y="2013777"/>
                </a:cubicBezTo>
                <a:cubicBezTo>
                  <a:pt x="0" y="2456198"/>
                  <a:pt x="831359" y="2654525"/>
                  <a:pt x="831359" y="2654525"/>
                </a:cubicBezTo>
              </a:path>
            </a:pathLst>
          </a:custGeom>
          <a:noFill/>
          <a:ln w="76320">
            <a:solidFill>
              <a:srgbClr val="062c43"/>
            </a:solidFill>
            <a:round/>
            <a:tailEnd len="med" type="stealth" w="med"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9" name="Freeform 19"/>
          <p:cNvSpPr/>
          <p:nvPr/>
        </p:nvSpPr>
        <p:spPr>
          <a:xfrm>
            <a:off x="3592440" y="2104920"/>
            <a:ext cx="1944720" cy="3741840"/>
          </a:xfrm>
          <a:custGeom>
            <a:avLst/>
            <a:gdLst/>
            <a:ahLst/>
            <a:rect l="l" t="t" r="r" b="b"/>
            <a:pathLst>
              <a:path w="1944923" h="3741507">
                <a:moveTo>
                  <a:pt x="0" y="0"/>
                </a:moveTo>
                <a:cubicBezTo>
                  <a:pt x="485277" y="446235"/>
                  <a:pt x="970555" y="892470"/>
                  <a:pt x="1235598" y="1338705"/>
                </a:cubicBezTo>
                <a:cubicBezTo>
                  <a:pt x="1500642" y="1784940"/>
                  <a:pt x="1472040" y="2276942"/>
                  <a:pt x="1590261" y="2677409"/>
                </a:cubicBezTo>
                <a:cubicBezTo>
                  <a:pt x="1708482" y="3077876"/>
                  <a:pt x="1826702" y="3409691"/>
                  <a:pt x="1944923" y="3741507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stealth" w="med"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0" name="TextBox 20"/>
          <p:cNvSpPr/>
          <p:nvPr/>
        </p:nvSpPr>
        <p:spPr>
          <a:xfrm>
            <a:off x="4282920" y="1770120"/>
            <a:ext cx="124128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62c4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ETF 76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1" name="TextBox 21"/>
          <p:cNvSpPr/>
          <p:nvPr/>
        </p:nvSpPr>
        <p:spPr>
          <a:xfrm>
            <a:off x="4054320" y="5616720"/>
            <a:ext cx="124128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62c4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ETF 77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Summary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Extension to draft-berger-ccamp-assoc-info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tandards Track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defines a new association type called "Resource Sharing Remote Identification"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Resource Sharing Remote Identification association 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an be used by the sender to convey to the receiver information that can then be used by the receiver to identify an upstream initiated resource sharing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useful in upstream initiated resource sharing applications where the identification of the resource sharing association is not known a priori by the receiver, and instead is known by the sender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ype-specific association rule: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Resource Sharing Remote Identification association does not create any association across Path states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Resource Sharing Remote Identification association 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757" name="Rectangle 3"/>
          <p:cNvGrpSpPr/>
          <p:nvPr/>
        </p:nvGrpSpPr>
        <p:grpSpPr>
          <a:xfrm>
            <a:off x="798480" y="2597040"/>
            <a:ext cx="938160" cy="506520"/>
            <a:chOff x="798480" y="2597040"/>
            <a:chExt cx="938160" cy="506520"/>
          </a:xfrm>
        </p:grpSpPr>
        <p:pic>
          <p:nvPicPr>
            <p:cNvPr id="758" name="Rectangle 3" descr=""/>
            <p:cNvPicPr/>
            <p:nvPr/>
          </p:nvPicPr>
          <p:blipFill>
            <a:blip r:embed="rId1"/>
            <a:stretch/>
          </p:blipFill>
          <p:spPr>
            <a:xfrm>
              <a:off x="798480" y="2597040"/>
              <a:ext cx="938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/>
            <p:cNvSpPr/>
            <p:nvPr/>
          </p:nvSpPr>
          <p:spPr>
            <a:xfrm>
              <a:off x="812880" y="2608200"/>
              <a:ext cx="91440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Sender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760" name="Rectangle 4"/>
          <p:cNvGrpSpPr/>
          <p:nvPr/>
        </p:nvGrpSpPr>
        <p:grpSpPr>
          <a:xfrm>
            <a:off x="6718320" y="2114640"/>
            <a:ext cx="1335240" cy="506160"/>
            <a:chOff x="6718320" y="2114640"/>
            <a:chExt cx="1335240" cy="506160"/>
          </a:xfrm>
        </p:grpSpPr>
        <p:pic>
          <p:nvPicPr>
            <p:cNvPr id="761" name="Rectangle 4" descr=""/>
            <p:cNvPicPr/>
            <p:nvPr/>
          </p:nvPicPr>
          <p:blipFill>
            <a:blip r:embed="rId2"/>
            <a:stretch/>
          </p:blipFill>
          <p:spPr>
            <a:xfrm>
              <a:off x="6718320" y="2114640"/>
              <a:ext cx="1335240" cy="50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"/>
            <p:cNvSpPr/>
            <p:nvPr/>
          </p:nvSpPr>
          <p:spPr>
            <a:xfrm>
              <a:off x="6730920" y="2128680"/>
              <a:ext cx="131148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Receiver1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763" name="Oval 7"/>
          <p:cNvGrpSpPr/>
          <p:nvPr/>
        </p:nvGrpSpPr>
        <p:grpSpPr>
          <a:xfrm>
            <a:off x="2895480" y="2335320"/>
            <a:ext cx="2895840" cy="2766960"/>
            <a:chOff x="2895480" y="2335320"/>
            <a:chExt cx="2895840" cy="2766960"/>
          </a:xfrm>
        </p:grpSpPr>
        <p:pic>
          <p:nvPicPr>
            <p:cNvPr id="764" name="Oval 7" descr=""/>
            <p:cNvPicPr/>
            <p:nvPr/>
          </p:nvPicPr>
          <p:blipFill>
            <a:blip r:embed="rId3"/>
            <a:stretch/>
          </p:blipFill>
          <p:spPr>
            <a:xfrm>
              <a:off x="2895480" y="2335320"/>
              <a:ext cx="2895840" cy="27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"/>
            <p:cNvSpPr/>
            <p:nvPr/>
          </p:nvSpPr>
          <p:spPr>
            <a:xfrm>
              <a:off x="3325680" y="2747880"/>
              <a:ext cx="2032200" cy="19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Cloud of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RSVP Routers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766" name="Rectangle 8"/>
          <p:cNvGrpSpPr/>
          <p:nvPr/>
        </p:nvGrpSpPr>
        <p:grpSpPr>
          <a:xfrm>
            <a:off x="6718320" y="3292560"/>
            <a:ext cx="1335240" cy="504720"/>
            <a:chOff x="6718320" y="3292560"/>
            <a:chExt cx="1335240" cy="504720"/>
          </a:xfrm>
        </p:grpSpPr>
        <p:pic>
          <p:nvPicPr>
            <p:cNvPr id="767" name="Rectangle 8" descr=""/>
            <p:cNvPicPr/>
            <p:nvPr/>
          </p:nvPicPr>
          <p:blipFill>
            <a:blip r:embed="rId4"/>
            <a:stretch/>
          </p:blipFill>
          <p:spPr>
            <a:xfrm>
              <a:off x="6718320" y="3292560"/>
              <a:ext cx="1335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6730920" y="3306600"/>
              <a:ext cx="131148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Receiver2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769" name="Group 19"/>
          <p:cNvGrpSpPr/>
          <p:nvPr/>
        </p:nvGrpSpPr>
        <p:grpSpPr>
          <a:xfrm>
            <a:off x="1751040" y="1727280"/>
            <a:ext cx="4919760" cy="1163520"/>
            <a:chOff x="1751040" y="1727280"/>
            <a:chExt cx="4919760" cy="1163520"/>
          </a:xfrm>
        </p:grpSpPr>
        <p:sp>
          <p:nvSpPr>
            <p:cNvPr id="770" name="Freeform 9"/>
            <p:cNvSpPr/>
            <p:nvPr/>
          </p:nvSpPr>
          <p:spPr>
            <a:xfrm>
              <a:off x="1764000" y="2284200"/>
              <a:ext cx="4906800" cy="606600"/>
            </a:xfrm>
            <a:custGeom>
              <a:avLst/>
              <a:gdLst/>
              <a:ahLst/>
              <a:rect l="l" t="t" r="r" b="b"/>
              <a:pathLst>
                <a:path w="4919512" h="614049">
                  <a:moveTo>
                    <a:pt x="0" y="389025"/>
                  </a:moveTo>
                  <a:cubicBezTo>
                    <a:pt x="556782" y="501537"/>
                    <a:pt x="1113564" y="614049"/>
                    <a:pt x="1933483" y="549212"/>
                  </a:cubicBezTo>
                  <a:cubicBezTo>
                    <a:pt x="2753402" y="484375"/>
                    <a:pt x="4919512" y="0"/>
                    <a:pt x="4919512" y="0"/>
                  </a:cubicBezTo>
                </a:path>
              </a:pathLst>
            </a:custGeom>
            <a:noFill/>
            <a:ln w="5724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771" name="Rectangular Callout 15"/>
            <p:cNvGrpSpPr/>
            <p:nvPr/>
          </p:nvGrpSpPr>
          <p:grpSpPr>
            <a:xfrm>
              <a:off x="1751040" y="1727280"/>
              <a:ext cx="2030760" cy="1041840"/>
              <a:chOff x="1751040" y="1727280"/>
              <a:chExt cx="2030760" cy="1041840"/>
            </a:xfrm>
          </p:grpSpPr>
          <p:pic>
            <p:nvPicPr>
              <p:cNvPr id="772" name="Rectangular Callout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751040" y="1727280"/>
                <a:ext cx="2030760" cy="104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3" name=""/>
              <p:cNvSpPr/>
              <p:nvPr/>
            </p:nvSpPr>
            <p:spPr>
              <a:xfrm>
                <a:off x="1764000" y="1741680"/>
                <a:ext cx="2008440" cy="54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Path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(RSRID, ID=S/100)</a:t>
                </a: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774" name="Group 20"/>
          <p:cNvGrpSpPr/>
          <p:nvPr/>
        </p:nvGrpSpPr>
        <p:grpSpPr>
          <a:xfrm>
            <a:off x="973080" y="2930400"/>
            <a:ext cx="5684760" cy="1222560"/>
            <a:chOff x="973080" y="2930400"/>
            <a:chExt cx="5684760" cy="1222560"/>
          </a:xfrm>
        </p:grpSpPr>
        <p:sp>
          <p:nvSpPr>
            <p:cNvPr id="775" name="Freeform 10"/>
            <p:cNvSpPr/>
            <p:nvPr/>
          </p:nvSpPr>
          <p:spPr>
            <a:xfrm>
              <a:off x="1724400" y="2930400"/>
              <a:ext cx="4933440" cy="667800"/>
            </a:xfrm>
            <a:custGeom>
              <a:avLst/>
              <a:gdLst/>
              <a:ahLst/>
              <a:rect l="l" t="t" r="r" b="b"/>
              <a:pathLst>
                <a:path w="4942393" h="673165">
                  <a:moveTo>
                    <a:pt x="0" y="89628"/>
                  </a:moveTo>
                  <a:cubicBezTo>
                    <a:pt x="646401" y="218349"/>
                    <a:pt x="1292802" y="347071"/>
                    <a:pt x="1876279" y="341350"/>
                  </a:cubicBezTo>
                  <a:cubicBezTo>
                    <a:pt x="2459756" y="335629"/>
                    <a:pt x="2989843" y="0"/>
                    <a:pt x="3500862" y="55302"/>
                  </a:cubicBezTo>
                  <a:cubicBezTo>
                    <a:pt x="4011881" y="110605"/>
                    <a:pt x="4942393" y="673165"/>
                    <a:pt x="4942393" y="673165"/>
                  </a:cubicBezTo>
                </a:path>
              </a:pathLst>
            </a:custGeom>
            <a:noFill/>
            <a:ln w="5724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776" name="Rectangular Callout 16"/>
            <p:cNvGrpSpPr/>
            <p:nvPr/>
          </p:nvGrpSpPr>
          <p:grpSpPr>
            <a:xfrm>
              <a:off x="973080" y="3130920"/>
              <a:ext cx="1880280" cy="1022040"/>
              <a:chOff x="973080" y="3130920"/>
              <a:chExt cx="1880280" cy="1022040"/>
            </a:xfrm>
          </p:grpSpPr>
          <p:pic>
            <p:nvPicPr>
              <p:cNvPr id="777" name="Rectangular Callout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73080" y="3130920"/>
                <a:ext cx="1880280" cy="102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8" name=""/>
              <p:cNvSpPr/>
              <p:nvPr/>
            </p:nvSpPr>
            <p:spPr>
              <a:xfrm>
                <a:off x="982440" y="3598200"/>
                <a:ext cx="1857240" cy="54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Path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(RSRIS, ID=S/100)</a:t>
                </a: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779" name="Group 21"/>
          <p:cNvGrpSpPr/>
          <p:nvPr/>
        </p:nvGrpSpPr>
        <p:grpSpPr>
          <a:xfrm>
            <a:off x="1754280" y="1579680"/>
            <a:ext cx="4919400" cy="1441440"/>
            <a:chOff x="1754280" y="1579680"/>
            <a:chExt cx="4919400" cy="1441440"/>
          </a:xfrm>
        </p:grpSpPr>
        <p:sp>
          <p:nvSpPr>
            <p:cNvPr id="780" name="Freeform 13"/>
            <p:cNvSpPr/>
            <p:nvPr/>
          </p:nvSpPr>
          <p:spPr>
            <a:xfrm>
              <a:off x="1754280" y="2412360"/>
              <a:ext cx="4919400" cy="608760"/>
            </a:xfrm>
            <a:custGeom>
              <a:avLst/>
              <a:gdLst/>
              <a:ahLst/>
              <a:rect l="l" t="t" r="r" b="b"/>
              <a:pathLst>
                <a:path w="4919512" h="614049">
                  <a:moveTo>
                    <a:pt x="0" y="389025"/>
                  </a:moveTo>
                  <a:cubicBezTo>
                    <a:pt x="556782" y="501537"/>
                    <a:pt x="1113564" y="614049"/>
                    <a:pt x="1933483" y="549212"/>
                  </a:cubicBezTo>
                  <a:cubicBezTo>
                    <a:pt x="2753402" y="484375"/>
                    <a:pt x="4919512" y="0"/>
                    <a:pt x="4919512" y="0"/>
                  </a:cubicBezTo>
                </a:path>
              </a:pathLst>
            </a:custGeom>
            <a:noFill/>
            <a:ln w="57240">
              <a:solidFill>
                <a:srgbClr val="623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781" name="Rectangular Callout 17"/>
            <p:cNvGrpSpPr/>
            <p:nvPr/>
          </p:nvGrpSpPr>
          <p:grpSpPr>
            <a:xfrm>
              <a:off x="4572000" y="1579680"/>
              <a:ext cx="1883520" cy="906480"/>
              <a:chOff x="4572000" y="1579680"/>
              <a:chExt cx="1883520" cy="906480"/>
            </a:xfrm>
          </p:grpSpPr>
          <p:pic>
            <p:nvPicPr>
              <p:cNvPr id="782" name="Rectangular Callout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4572000" y="1579680"/>
                <a:ext cx="1883520" cy="90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3" name=""/>
              <p:cNvSpPr/>
              <p:nvPr/>
            </p:nvSpPr>
            <p:spPr>
              <a:xfrm>
                <a:off x="4584240" y="1591560"/>
                <a:ext cx="18604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Resv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(RS, ID=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Trebuchet MS"/>
                  </a:rPr>
                  <a:t>S/100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784" name="Group 22"/>
          <p:cNvGrpSpPr/>
          <p:nvPr/>
        </p:nvGrpSpPr>
        <p:grpSpPr>
          <a:xfrm>
            <a:off x="1731960" y="3152880"/>
            <a:ext cx="5929200" cy="1549440"/>
            <a:chOff x="1731960" y="3152880"/>
            <a:chExt cx="5929200" cy="1549440"/>
          </a:xfrm>
        </p:grpSpPr>
        <p:sp>
          <p:nvSpPr>
            <p:cNvPr id="785" name="Freeform 14"/>
            <p:cNvSpPr/>
            <p:nvPr/>
          </p:nvSpPr>
          <p:spPr>
            <a:xfrm>
              <a:off x="1731960" y="3152880"/>
              <a:ext cx="4930560" cy="668520"/>
            </a:xfrm>
            <a:custGeom>
              <a:avLst/>
              <a:gdLst/>
              <a:ahLst/>
              <a:rect l="l" t="t" r="r" b="b"/>
              <a:pathLst>
                <a:path w="4942393" h="673165">
                  <a:moveTo>
                    <a:pt x="0" y="89628"/>
                  </a:moveTo>
                  <a:cubicBezTo>
                    <a:pt x="646401" y="218349"/>
                    <a:pt x="1292802" y="347071"/>
                    <a:pt x="1876279" y="341350"/>
                  </a:cubicBezTo>
                  <a:cubicBezTo>
                    <a:pt x="2459756" y="335629"/>
                    <a:pt x="2989843" y="0"/>
                    <a:pt x="3500862" y="55302"/>
                  </a:cubicBezTo>
                  <a:cubicBezTo>
                    <a:pt x="4011881" y="110605"/>
                    <a:pt x="4942393" y="673165"/>
                    <a:pt x="4942393" y="673165"/>
                  </a:cubicBezTo>
                </a:path>
              </a:pathLst>
            </a:custGeom>
            <a:noFill/>
            <a:ln w="57240">
              <a:solidFill>
                <a:srgbClr val="623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786" name="Rectangular Callout 18"/>
            <p:cNvGrpSpPr/>
            <p:nvPr/>
          </p:nvGrpSpPr>
          <p:grpSpPr>
            <a:xfrm>
              <a:off x="5478120" y="3315600"/>
              <a:ext cx="2183040" cy="1386720"/>
              <a:chOff x="5478120" y="3315600"/>
              <a:chExt cx="2183040" cy="1386720"/>
            </a:xfrm>
          </p:grpSpPr>
          <p:pic>
            <p:nvPicPr>
              <p:cNvPr id="787" name="Rectangular Callout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5478120" y="3315600"/>
                <a:ext cx="2183040" cy="138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8" name=""/>
              <p:cNvSpPr/>
              <p:nvPr/>
            </p:nvSpPr>
            <p:spPr>
              <a:xfrm>
                <a:off x="5792400" y="4147200"/>
                <a:ext cx="1855800" cy="54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Resv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(RS, ID=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Trebuchet MS"/>
                  </a:rPr>
                  <a:t>S/100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789" name="TextBox 23"/>
          <p:cNvSpPr/>
          <p:nvPr/>
        </p:nvSpPr>
        <p:spPr>
          <a:xfrm>
            <a:off x="698040" y="5526000"/>
            <a:ext cx="678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RSRID = “Resource Sharing Remote Identification” associa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RS= “Resource Sharing” associa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D= Association Identifica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90" name="Group 26"/>
          <p:cNvGrpSpPr/>
          <p:nvPr/>
        </p:nvGrpSpPr>
        <p:grpSpPr>
          <a:xfrm>
            <a:off x="1434960" y="2608200"/>
            <a:ext cx="2592360" cy="2654280"/>
            <a:chOff x="1434960" y="2608200"/>
            <a:chExt cx="2592360" cy="2654280"/>
          </a:xfrm>
        </p:grpSpPr>
        <p:grpSp>
          <p:nvGrpSpPr>
            <p:cNvPr id="791" name="Oval 24"/>
            <p:cNvGrpSpPr/>
            <p:nvPr/>
          </p:nvGrpSpPr>
          <p:grpSpPr>
            <a:xfrm>
              <a:off x="3267720" y="2608200"/>
              <a:ext cx="319320" cy="1029240"/>
              <a:chOff x="3267720" y="2608200"/>
              <a:chExt cx="319320" cy="1029240"/>
            </a:xfrm>
          </p:grpSpPr>
          <p:pic>
            <p:nvPicPr>
              <p:cNvPr id="792" name="Oval 24" descr=""/>
              <p:cNvPicPr/>
              <p:nvPr/>
            </p:nvPicPr>
            <p:blipFill>
              <a:blip r:embed="rId9"/>
              <a:stretch/>
            </p:blipFill>
            <p:spPr>
              <a:xfrm>
                <a:off x="3267720" y="2608200"/>
                <a:ext cx="319320" cy="102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"/>
              <p:cNvSpPr/>
              <p:nvPr/>
            </p:nvSpPr>
            <p:spPr>
              <a:xfrm>
                <a:off x="3328560" y="2775600"/>
                <a:ext cx="191880" cy="69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794" name="Rectangular Callout 25"/>
            <p:cNvGrpSpPr/>
            <p:nvPr/>
          </p:nvGrpSpPr>
          <p:grpSpPr>
            <a:xfrm>
              <a:off x="1434960" y="3643560"/>
              <a:ext cx="2592360" cy="1618920"/>
              <a:chOff x="1434960" y="3643560"/>
              <a:chExt cx="2592360" cy="1618920"/>
            </a:xfrm>
          </p:grpSpPr>
          <p:pic>
            <p:nvPicPr>
              <p:cNvPr id="795" name="Rectangular Callout 25" descr=""/>
              <p:cNvPicPr/>
              <p:nvPr/>
            </p:nvPicPr>
            <p:blipFill>
              <a:blip r:embed="rId10"/>
              <a:stretch/>
            </p:blipFill>
            <p:spPr>
              <a:xfrm>
                <a:off x="1434960" y="3643560"/>
                <a:ext cx="2592360" cy="161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6" name=""/>
              <p:cNvSpPr/>
              <p:nvPr/>
            </p:nvSpPr>
            <p:spPr>
              <a:xfrm>
                <a:off x="1449000" y="4541040"/>
                <a:ext cx="2563920" cy="71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rebuchet MS"/>
                  </a:rPr>
                  <a:t>Resource Sharing across the two reservations</a:t>
                </a: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Next Step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Please review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599840" y="2492280"/>
            <a:ext cx="67626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Backup Slide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1599840" y="3967200"/>
            <a:ext cx="6762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Recap of problem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urrently RSVP flows with different SESSION objects cannot share resources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ere are some use cases where this is importan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ymmetric N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VoIP call sharing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Proposed solution: separate resource sharing from SESSION objec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Rectangle 13"/>
          <p:cNvGrpSpPr/>
          <p:nvPr/>
        </p:nvGrpSpPr>
        <p:grpSpPr>
          <a:xfrm>
            <a:off x="5888160" y="1590840"/>
            <a:ext cx="2914560" cy="3822480"/>
            <a:chOff x="5888160" y="1590840"/>
            <a:chExt cx="2914560" cy="3822480"/>
          </a:xfrm>
        </p:grpSpPr>
        <p:pic>
          <p:nvPicPr>
            <p:cNvPr id="804" name="Rectangle 13" descr=""/>
            <p:cNvPicPr/>
            <p:nvPr/>
          </p:nvPicPr>
          <p:blipFill>
            <a:blip r:embed="rId1"/>
            <a:stretch/>
          </p:blipFill>
          <p:spPr>
            <a:xfrm>
              <a:off x="5888160" y="1590840"/>
              <a:ext cx="2914560" cy="38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"/>
            <p:cNvSpPr/>
            <p:nvPr/>
          </p:nvSpPr>
          <p:spPr>
            <a:xfrm>
              <a:off x="5899320" y="1600200"/>
              <a:ext cx="2892240" cy="38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Problem: VoIP features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549360" y="1599840"/>
            <a:ext cx="5013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haring bandwidth between calls currently in call-waiting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hared calls between shared-line extensions at different location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haring not possible in RSVP for reservations going to different {L3,L4} destination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8" name="TextBox 6"/>
          <p:cNvSpPr/>
          <p:nvPr/>
        </p:nvSpPr>
        <p:spPr>
          <a:xfrm>
            <a:off x="7010280" y="1905120"/>
            <a:ext cx="685800" cy="5814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rebuchet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9" name="TextBox 7"/>
          <p:cNvSpPr/>
          <p:nvPr/>
        </p:nvSpPr>
        <p:spPr>
          <a:xfrm>
            <a:off x="6324480" y="4495680"/>
            <a:ext cx="685800" cy="5814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rebuchet M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0" name="TextBox 8"/>
          <p:cNvSpPr/>
          <p:nvPr/>
        </p:nvSpPr>
        <p:spPr>
          <a:xfrm>
            <a:off x="7848720" y="4495680"/>
            <a:ext cx="685800" cy="5814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rebuchet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1" name="Straight Connector 10"/>
          <p:cNvSpPr/>
          <p:nvPr/>
        </p:nvSpPr>
        <p:spPr>
          <a:xfrm flipV="1">
            <a:off x="6781680" y="2489040"/>
            <a:ext cx="457200" cy="2006640"/>
          </a:xfrm>
          <a:prstGeom prst="line">
            <a:avLst/>
          </a:prstGeom>
          <a:ln w="38160">
            <a:solidFill>
              <a:srgbClr val="0c598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2" name="Straight Connector 12"/>
          <p:cNvSpPr/>
          <p:nvPr/>
        </p:nvSpPr>
        <p:spPr>
          <a:xfrm flipH="1">
            <a:off x="6553080" y="2489040"/>
            <a:ext cx="457200" cy="2006640"/>
          </a:xfrm>
          <a:prstGeom prst="line">
            <a:avLst/>
          </a:prstGeom>
          <a:ln w="38160">
            <a:solidFill>
              <a:srgbClr val="0c598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3" name="Straight Connector 14"/>
          <p:cNvSpPr/>
          <p:nvPr/>
        </p:nvSpPr>
        <p:spPr>
          <a:xfrm flipH="1" flipV="1">
            <a:off x="7467480" y="2489040"/>
            <a:ext cx="533520" cy="2006640"/>
          </a:xfrm>
          <a:prstGeom prst="line">
            <a:avLst/>
          </a:prstGeom>
          <a:ln w="38160">
            <a:solidFill>
              <a:srgbClr val="0c598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4" name="Straight Connector 16"/>
          <p:cNvSpPr/>
          <p:nvPr/>
        </p:nvSpPr>
        <p:spPr>
          <a:xfrm>
            <a:off x="7696080" y="2489040"/>
            <a:ext cx="533520" cy="2006640"/>
          </a:xfrm>
          <a:prstGeom prst="line">
            <a:avLst/>
          </a:prstGeom>
          <a:ln w="38160">
            <a:solidFill>
              <a:srgbClr val="0c598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5" name="Straight Connector 18"/>
          <p:cNvSpPr/>
          <p:nvPr/>
        </p:nvSpPr>
        <p:spPr>
          <a:xfrm>
            <a:off x="6324480" y="2819520"/>
            <a:ext cx="457200" cy="6094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6" name="Straight Connector 20"/>
          <p:cNvSpPr/>
          <p:nvPr/>
        </p:nvSpPr>
        <p:spPr>
          <a:xfrm>
            <a:off x="6324480" y="2819520"/>
            <a:ext cx="1524240" cy="306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7" name="TextBox 25"/>
          <p:cNvSpPr/>
          <p:nvPr/>
        </p:nvSpPr>
        <p:spPr>
          <a:xfrm>
            <a:off x="5876640" y="244944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Share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22:48:56Z</dcterms:created>
  <dc:creator>Cisco Employee</dc:creator>
  <dc:description/>
  <dc:language>en-US</dc:language>
  <cp:lastModifiedBy>Dan</cp:lastModifiedBy>
  <dcterms:modified xsi:type="dcterms:W3CDTF">2010-03-20T23:40:55Z</dcterms:modified>
  <cp:revision>37</cp:revision>
  <dc:subject/>
  <dc:title>RSVP Extensions for Flexible Resource Sharing</dc:title>
</cp:coreProperties>
</file>