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494B-53E5-49A6-87DB-1FE9B696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73DB-BD22-4385-B253-0BD6C76C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97351-4196-45F3-8401-34E8167C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408C5-0BC1-4564-8808-52D5458C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2E663-5E40-4DF0-8506-A40E69A7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B1CC7-359B-4229-BF57-FBEDF7D3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552A2-B91F-45A3-9B15-994A2FED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CB925-1773-4AB3-9835-9D6E3AE6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AE610-6656-46AE-84C6-9BE32C4D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FE052-02A6-45DC-B73D-5DE4A749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85F10-29DE-431E-837A-EAADC29E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4E932-DDED-4F82-A91E-7D735328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9B77-9763-4C26-983D-88E93C3B4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746D8-3D88-4355-ADBF-CE4AF89E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56CD2-B23F-434C-ABCD-D46E3F1B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7FACD-3463-4067-9FAE-19111251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FEA6F-9669-4808-8EE5-A1CE3C02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D3EE9-7D66-4BC4-A0FE-37A2B01C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8E263A-A64D-4F33-A0FD-B17BF335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71545-8592-4E38-92BA-D536762F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D475A-B6E0-472D-B47C-BFD974E9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0BAB28-E91A-458B-B800-6172A220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71C1E-D0FA-436D-AF96-85F74B72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9E04-84F4-43A1-9A03-75288D5C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E16EE-48B0-4422-8EB6-95AF2C894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510CD-4E45-47F0-B73B-A535AD64A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EA03D-B8CA-4F92-8B0A-A44AA1BB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9C2B5-6D56-4F3D-B20F-1A89AE34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7793E-D01F-47D5-A10D-7EAB8708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25FA0-0F2D-4F29-A213-8CF187CA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17942-84F4-408A-8959-1B233444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5906C-F198-4F37-9915-4B17FAA3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974D9-C863-403E-A5D4-9AF99676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126E3-F5AB-47DF-81AB-A89346B0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9F503-71C6-4482-A436-1BAFD7A85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16811-68E3-48AB-88F0-50DC904C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CBC16-602A-40BD-B37F-0CD45167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D36A0-F847-417B-93D3-7877AE166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B85269-4D15-4C73-A10E-483D883FC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250DF0-6527-4FB0-B6F0-8917717D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B6564-B619-42D0-98DB-A45C1E6A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92B5E6-4393-4B91-87E2-579FC1C4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EBC8A-5983-49D5-AFA9-EF96D1C1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7F508-4872-470B-BF41-34D14D49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805C9-6A3F-4393-8051-208F6307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36D8D-04EB-42A8-B8FC-C878CDCA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85C815-C5EB-4072-A200-FCB0E678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505BEF-48E6-4181-B60E-B19487E8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E2EB7-6866-4832-92ED-195BDAFC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D15A3-7AB3-4708-B8E5-971044E45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AA8A85-83D9-4E93-BF1C-4720A16C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DD1D8D-8F4C-4CE2-994B-D9026702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379929-7851-49A7-8874-8093BF07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6CAEDB-2E2B-4030-A930-9912E5CD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B6A831-0710-4FF4-AF6D-EDEA2705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6B7685-28C1-4994-9C25-6B30A621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3CFBD-C5D1-4C95-87DA-EF2D50E4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4F444D-64E8-4D55-9011-FAC0740F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265DFC-81B3-42CB-AE84-C305741F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A8F5F0-2045-4F72-BFA0-7CC25981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95E893-BD56-4B5B-899B-9B1C4147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6720A9-B3AE-4AB3-BC0D-265D811B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A79306-9BA1-45DE-AC09-82BE09C06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9A5A8D-84B9-484B-8C4D-3D744A177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D984B2-1463-4814-8FBB-633FCA4B2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472AC8-87EF-409A-B9A3-41B3A9FC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DBA036-44A4-49E0-B1BE-0CDF5C04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A09C4-E271-4867-9497-2F1A4AD6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03236D-9F20-4B9E-8467-7851747F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6140D8-50F1-4864-BE22-EA1B715E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FC26B9-C43D-481B-83F6-585BEF40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DD52AD-FA3E-42A2-9D97-B841874E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BA1A44-46E4-4670-B8AC-DEB664F7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354B14-8177-4DAA-BCD2-B16D401E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012C9B-BE66-4D06-9118-A16AFA3F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6D8B1F-58EA-4270-9616-DB91B65B0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AA7788-2A1F-4BAD-ADD7-D5F327F6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81C275-94E5-4377-93E9-0DBC81D3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F74D1-E7B9-4B34-B85D-E9FB7125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BEE55A-986B-4FAD-AE41-83F2325E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68B45B-D512-4355-A8EF-082341F6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325FDC-96AE-4926-95AD-9E203124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78D150-D9EE-429E-BF65-ABB2D13A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11BC63-535A-4ABE-9FCA-F92F8720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894ED0-65DE-4A28-AFCE-65FD4494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AD1C04-E1DF-44F4-92E4-016F8C19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7ACF71-1B7B-4F83-9558-18FDFE9D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38FD38-9528-42A2-87B1-205C679D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F7DD5A-C98A-41E6-A3C0-623F788ED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20AA3-14A3-4D25-8F78-189A13BD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416E38-054A-4FDF-9375-8356ACE98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B619C2-E08A-429E-88CC-F7F3C8E4F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0119A4-BF7C-4141-A17C-F55C870C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2981B3-96E7-4D94-AFB4-884A8957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22F178-2A8E-4386-8122-BC3DB52E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7DF67E-09EE-4241-8231-BB1EC279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A399A0-08E1-498E-AD60-9EC0F0DA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A22FF0-DB9F-4B71-89EA-54858443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DE05FE-50DE-4095-B99C-503907FF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5AAE54-46D9-49FE-B6BC-880184E1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83E91-B180-44A8-8ACA-33D54387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505E61-05BE-42FA-9936-728BD97B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07FDB7-95F9-4700-99FB-05196201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D36D49-1C6E-4FE6-B67D-89193134D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17927C-12D9-44EE-B96C-84D8E699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0818F4-DC85-476A-8C4B-B1E14BCD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A369C5-E6ED-40C3-87E2-04DE81A6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4C14D8-A3F0-4136-83F6-487A5A59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FEB93B-353F-4DB2-9D35-439E230D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C06E5B-C843-4F3F-BAD6-18940F1D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FB5A68-6894-455E-A3F5-B5378999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3EA3-C054-43F8-8F52-06BE1AFF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37D39-3A0B-44D5-9486-1078D154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A32E80-9521-4EAF-BDB3-833E3BEC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C291CB-CA8D-4D23-AA7A-2FC70CE4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615A45-AEAE-4BB1-8CED-9F5AEEB1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F616A6-BBC5-41E9-8CF2-94D510B0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271C48-8DFF-4160-BB37-798BF8D57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EACD8-5874-4779-8092-0D2A473A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8AF7D-EDE1-4E82-BE24-FE01BAD3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2D94E-0B90-499F-A1D0-BEF4E93C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7A4EC-2465-48DA-B4B0-3E2960FD9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C60BC-2ED2-4EBA-8D39-FF1786D2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23DC2-FF44-4FA8-850A-A67A6247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67A6F-16A8-47FF-95A0-453676EC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A0D13-EB75-4180-91C7-40EC9D24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7B76E-6F21-4326-A200-2BE432F0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C568-128B-4F10-B823-CDCC982A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E19EE-3802-45C1-9480-1809FC13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75922-E84D-4D06-9459-F076E819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438FD-0D27-44EE-8E34-54AF763F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C80F7-EF69-41C5-8A9D-44CAC72F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FBF6C-DFEE-434E-8E34-B4CA5167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2E698-323E-449B-92E5-E4E8069D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A816C-60DD-425A-AF10-FA4F7EAB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9FEDF-43E7-4BA2-9BD5-90A737E1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6A994-4ADB-4A0D-A323-888EF0AA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8D7D5-D589-4696-A7E7-408901B5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6C6B-5AEB-4A59-AB01-0F9A7583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A8531-2305-45B1-9A3D-0AC67C78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17249-8F7F-4A1C-82A4-CB1846A2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85983-69AB-48B6-9BF9-C2C3C921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FFEEF-14D8-4CB1-A4D6-C1E66536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643E2-C505-4809-89DE-13C7AFF8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55ACF-5411-4B2D-870A-48E2361D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CDA32-F0CC-4B6E-920E-98BB2ED6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AB071-FCA6-4DB1-9C32-6162F0F7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94ABD-058E-44F6-8C40-81AE69FDA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8CCC7-F907-4CFE-88B9-054FF17AD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C52C-0C31-464D-A592-39E3B12F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9DDAB-DDC1-47B4-AE12-549A1C7D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BF5AA-DD10-475E-9BA6-187E288C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0B6AE-4BE2-4E4E-B4B2-F87A6E7F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72F77-014A-45DA-B6DD-789F8BE1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373AE-782F-424F-87C0-A7C72486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1F0E4-A2C1-488B-A3FC-2954E907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6CF5A-7EFC-44E9-9F06-13303F55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5E3EC-AB72-45BC-8DB4-8D205E60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B6541-558D-4FE5-8912-1CF7211C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AED0D-10A6-4B68-B936-EAF3A4EA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C6F4-3FCB-49BF-BC2A-5D0A61F1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04A58-0124-4757-BDE9-D16FBBF16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04F02-38F3-4B47-90C9-C9EB59C24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CA343-F6F3-456D-8AA0-BB4C4944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493EB-3550-4FA3-A4B1-8ECC0AEA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A2B9A-2C43-48D8-91C5-086EDE5E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21F55-CA03-4A3D-8B92-213875D4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E6789-F8E8-418F-BDBC-F8AE74B2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2B3C2-1AC8-48F4-96E4-37D70A12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A7273-AAC5-4F0F-8C83-09E11A2C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5EA12-31F5-4324-99A2-0EAFAF9A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E348-D56E-421F-9802-BA67D7A8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B98D6-0ACE-4935-B623-58733761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F0C34-29BE-4B30-95E4-8CDD812EB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E127A-E71B-4203-B252-BD3129E2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A5D0B-7681-454A-B731-B10878BB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D5FA3-BE88-4F4C-852C-DF5F7654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834E6-07F8-4B07-9A28-035DE49B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A48F7-237C-47F7-BE0C-B2D1DF0E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BBEE3-3F55-485C-AAD3-4275C335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9BE8E-B072-463A-8B97-E6B66A62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D297A-F076-456C-9043-82AF5F47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1818-BA7A-47B0-8B11-539EC02D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56ADA-A516-4508-B4C5-F4E72302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8217C-3EDD-47A2-932A-B95D4591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C24BB-C1FB-4F36-B14A-842DDE07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5CC71-DB6E-4387-AA57-C98214CC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F2B53-F820-48F0-911A-9771F9D06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68427-8E4B-4D83-98CD-3992B0C5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8A686-72A8-4283-9F13-D6D7F4F4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76500-4789-49A2-AB5A-F60B4B29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E2C9C-EE45-41AF-9A12-2B1CC8A6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CFE14-3FD4-4319-871E-E8391B22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EE10-C15D-4F5D-AB2D-A21775B7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03D23-2E10-4364-8331-C5DFEA12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F2740-0AC7-4D2D-8F15-5B62E040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0BB93-085E-4009-9970-D972B915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D0041-AA7A-45DC-BFC0-77FA2386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4F6F1-6C25-4E39-A71E-DFD5E1C6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14DBE-05DD-4100-91F4-D2DF4E36E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09E8A-7D7C-434B-8F77-F3D372F54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3F522-4DC6-46F8-AFDB-58873C388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22C9E-0176-45C1-A2C7-2658695B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483E5-E04C-4DD4-B45D-AE39FA19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>
              <a:gd name="textAreaLeft" fmla="*/ 178560 w 8764560"/>
              <a:gd name="textAreaRight" fmla="*/ 8586000 w 8764560"/>
              <a:gd name="textAreaTop" fmla="*/ 178560 h 6478560"/>
              <a:gd name="textAreaBottom" fmla="*/ 6300000 h 6478560"/>
            </a:gdLst>
            <a:ahLst/>
            <a:rect l="textAreaLeft" t="textAreaTop" r="textAreaRight" b="textAreaBottom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lnTo>
                  <a:pt x="8764587" y="5868563"/>
                </a:lnTo>
                <a:arcTo wR="610024" hR="610024" stAng="0" swAng="5400000"/>
                <a:lnTo>
                  <a:pt x="0" y="6478587"/>
                </a:lnTo>
                <a:lnTo>
                  <a:pt x="0" y="610024"/>
                </a:lnTo>
                <a:lnTo>
                  <a:pt x="0" y="610024"/>
                </a:lnTo>
                <a:arcTo wR="610024" hR="610024" stAng="-10799994" swAng="5400000"/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FEEC3F-1C60-4D2D-AFEC-92FAC2F076BE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>
              <a:gd name="textAreaLeft" fmla="*/ 178560 w 8764560"/>
              <a:gd name="textAreaRight" fmla="*/ 8586000 w 8764560"/>
              <a:gd name="textAreaTop" fmla="*/ 178560 h 6478560"/>
              <a:gd name="textAreaBottom" fmla="*/ 6300000 h 6478560"/>
            </a:gdLst>
            <a:ahLst/>
            <a:rect l="textAreaLeft" t="textAreaTop" r="textAreaRight" b="textAreaBottom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lnTo>
                  <a:pt x="8764587" y="5868563"/>
                </a:lnTo>
                <a:arcTo wR="610024" hR="610024" stAng="0" swAng="5400000"/>
                <a:lnTo>
                  <a:pt x="0" y="6478587"/>
                </a:lnTo>
                <a:lnTo>
                  <a:pt x="0" y="610024"/>
                </a:lnTo>
                <a:lnTo>
                  <a:pt x="0" y="610024"/>
                </a:lnTo>
                <a:arcTo wR="610024" hR="610024" stAng="-10799994" swAng="5400000"/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91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B549EE-A097-484B-BDA9-F09966434C0D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>
              <a:gd name="textAreaLeft" fmla="*/ 178560 w 8764560"/>
              <a:gd name="textAreaRight" fmla="*/ 8586000 w 8764560"/>
              <a:gd name="textAreaTop" fmla="*/ 178560 h 6478560"/>
              <a:gd name="textAreaBottom" fmla="*/ 6300000 h 6478560"/>
            </a:gdLst>
            <a:ahLst/>
            <a:rect l="textAreaLeft" t="textAreaTop" r="textAreaRight" b="textAreaBottom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lnTo>
                  <a:pt x="8764587" y="5868563"/>
                </a:lnTo>
                <a:arcTo wR="610024" hR="610024" stAng="0" swAng="5400000"/>
                <a:lnTo>
                  <a:pt x="0" y="6478587"/>
                </a:lnTo>
                <a:lnTo>
                  <a:pt x="0" y="610024"/>
                </a:lnTo>
                <a:lnTo>
                  <a:pt x="0" y="610024"/>
                </a:lnTo>
                <a:arcTo wR="610024" hR="610024" stAng="-10799994" swAng="5400000"/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4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428FC5-E911-438A-81C8-2670F0D8FB3A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>
              <a:gd name="textAreaLeft" fmla="*/ 178560 w 8764560"/>
              <a:gd name="textAreaRight" fmla="*/ 8586000 w 8764560"/>
              <a:gd name="textAreaTop" fmla="*/ 178560 h 6478560"/>
              <a:gd name="textAreaBottom" fmla="*/ 6300000 h 6478560"/>
            </a:gdLst>
            <a:ahLst/>
            <a:rect l="textAreaLeft" t="textAreaTop" r="textAreaRight" b="textAreaBottom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lnTo>
                  <a:pt x="8764587" y="5868563"/>
                </a:lnTo>
                <a:arcTo wR="610024" hR="610024" stAng="0" swAng="5400000"/>
                <a:lnTo>
                  <a:pt x="0" y="6478587"/>
                </a:lnTo>
                <a:lnTo>
                  <a:pt x="0" y="610024"/>
                </a:lnTo>
                <a:lnTo>
                  <a:pt x="0" y="610024"/>
                </a:lnTo>
                <a:arcTo wR="610024" hR="610024" stAng="-10799994" swAng="5400000"/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77" name="Picture 8" descr="Overlay-ContentCaption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4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5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6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796327-954C-4E1A-B5AD-816E2A522DCC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>
              <a:gd name="textAreaLeft" fmla="*/ 178560 w 8764560"/>
              <a:gd name="textAreaRight" fmla="*/ 8586000 w 8764560"/>
              <a:gd name="textAreaTop" fmla="*/ 178560 h 6478560"/>
              <a:gd name="textAreaBottom" fmla="*/ 6300000 h 6478560"/>
            </a:gdLst>
            <a:ahLst/>
            <a:rect l="textAreaLeft" t="textAreaTop" r="textAreaRight" b="textAreaBottom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lnTo>
                  <a:pt x="8764587" y="5868563"/>
                </a:lnTo>
                <a:arcTo wR="610024" hR="610024" stAng="0" swAng="5400000"/>
                <a:lnTo>
                  <a:pt x="0" y="6478587"/>
                </a:lnTo>
                <a:lnTo>
                  <a:pt x="0" y="610024"/>
                </a:lnTo>
                <a:lnTo>
                  <a:pt x="0" y="610024"/>
                </a:lnTo>
                <a:arcTo wR="610024" hR="610024" stAng="-10799994" swAng="5400000"/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20" name="Picture 8" descr="Overlay-PictureCaption.png"/>
          <p:cNvPicPr/>
          <p:nvPr/>
        </p:nvPicPr>
        <p:blipFill>
          <a:blip r:embed="rId2"/>
          <a:stretch/>
        </p:blipFill>
        <p:spPr>
          <a:xfrm>
            <a:off x="449280" y="187200"/>
            <a:ext cx="8535960" cy="64836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388584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5866920" y="6288120"/>
            <a:ext cx="267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860A22-58AB-43E3-94F5-4BF622D47839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>
              <a:gd name="textAreaLeft" fmla="*/ 178560 w 8764560"/>
              <a:gd name="textAreaRight" fmla="*/ 8586000 w 8764560"/>
              <a:gd name="textAreaTop" fmla="*/ 178560 h 6478560"/>
              <a:gd name="textAreaBottom" fmla="*/ 6300000 h 6478560"/>
            </a:gdLst>
            <a:ahLst/>
            <a:rect l="textAreaLeft" t="textAreaTop" r="textAreaRight" b="textAreaBottom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lnTo>
                  <a:pt x="8764587" y="5868563"/>
                </a:lnTo>
                <a:arcTo wR="610024" hR="610024" stAng="0" swAng="5400000"/>
                <a:lnTo>
                  <a:pt x="0" y="6478587"/>
                </a:lnTo>
                <a:lnTo>
                  <a:pt x="0" y="610024"/>
                </a:lnTo>
                <a:lnTo>
                  <a:pt x="0" y="610024"/>
                </a:lnTo>
                <a:arcTo wR="610024" hR="610024" stAng="-10799994" swAng="5400000"/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63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FEDA12-2DB1-4A97-9D45-42A68BE0503B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>
              <a:gd name="textAreaLeft" fmla="*/ 178560 w 8764560"/>
              <a:gd name="textAreaRight" fmla="*/ 8586000 w 8764560"/>
              <a:gd name="textAreaTop" fmla="*/ 178560 h 6478560"/>
              <a:gd name="textAreaBottom" fmla="*/ 6300000 h 6478560"/>
            </a:gdLst>
            <a:ahLst/>
            <a:rect l="textAreaLeft" t="textAreaTop" r="textAreaRight" b="textAreaBottom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lnTo>
                  <a:pt x="8764587" y="5868563"/>
                </a:lnTo>
                <a:arcTo wR="610024" hR="610024" stAng="0" swAng="5400000"/>
                <a:lnTo>
                  <a:pt x="0" y="6478587"/>
                </a:lnTo>
                <a:lnTo>
                  <a:pt x="0" y="610024"/>
                </a:lnTo>
                <a:lnTo>
                  <a:pt x="0" y="610024"/>
                </a:lnTo>
                <a:arcTo wR="610024" hR="610024" stAng="-10799994" swAng="5400000"/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06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869795-927B-4FE0-8337-927788AA9397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>
              <a:gd name="textAreaLeft" fmla="*/ 178560 w 8764560"/>
              <a:gd name="textAreaRight" fmla="*/ 8586000 w 8764560"/>
              <a:gd name="textAreaTop" fmla="*/ 178560 h 6478560"/>
              <a:gd name="textAreaBottom" fmla="*/ 6300000 h 6478560"/>
            </a:gdLst>
            <a:ahLst/>
            <a:rect l="textAreaLeft" t="textAreaTop" r="textAreaRight" b="textAreaBottom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lnTo>
                  <a:pt x="8764587" y="5868563"/>
                </a:lnTo>
                <a:arcTo wR="610024" hR="610024" stAng="0" swAng="5400000"/>
                <a:lnTo>
                  <a:pt x="0" y="6478587"/>
                </a:lnTo>
                <a:lnTo>
                  <a:pt x="0" y="610024"/>
                </a:lnTo>
                <a:lnTo>
                  <a:pt x="0" y="610024"/>
                </a:lnTo>
                <a:arcTo wR="610024" hR="610024" stAng="-10799994" swAng="5400000"/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49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FD04EA-0C91-4062-959E-C1DEEEF3BDAA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>
              <a:gd name="textAreaLeft" fmla="*/ 178560 w 8764560"/>
              <a:gd name="textAreaRight" fmla="*/ 8586000 w 8764560"/>
              <a:gd name="textAreaTop" fmla="*/ 178560 h 6478560"/>
              <a:gd name="textAreaBottom" fmla="*/ 6300000 h 6478560"/>
            </a:gdLst>
            <a:ahLst/>
            <a:rect l="textAreaLeft" t="textAreaTop" r="textAreaRight" b="textAreaBottom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lnTo>
                  <a:pt x="8764587" y="5868563"/>
                </a:lnTo>
                <a:arcTo wR="610024" hR="610024" stAng="0" swAng="5400000"/>
                <a:lnTo>
                  <a:pt x="0" y="6478587"/>
                </a:lnTo>
                <a:lnTo>
                  <a:pt x="0" y="610024"/>
                </a:lnTo>
                <a:lnTo>
                  <a:pt x="0" y="610024"/>
                </a:lnTo>
                <a:arcTo wR="610024" hR="610024" stAng="-10799994" swAng="5400000"/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9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4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5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5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EA0C49-168E-42FC-8566-FEC37994B1A8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>
              <a:gd name="textAreaLeft" fmla="*/ 178560 w 8764560"/>
              <a:gd name="textAreaRight" fmla="*/ 8586000 w 8764560"/>
              <a:gd name="textAreaTop" fmla="*/ 178560 h 6478560"/>
              <a:gd name="textAreaBottom" fmla="*/ 6300000 h 6478560"/>
            </a:gdLst>
            <a:ahLst/>
            <a:rect l="textAreaLeft" t="textAreaTop" r="textAreaRight" b="textAreaBottom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lnTo>
                  <a:pt x="8764587" y="5868563"/>
                </a:lnTo>
                <a:arcTo wR="610024" hR="610024" stAng="0" swAng="5400000"/>
                <a:lnTo>
                  <a:pt x="0" y="6478587"/>
                </a:lnTo>
                <a:lnTo>
                  <a:pt x="0" y="610024"/>
                </a:lnTo>
                <a:lnTo>
                  <a:pt x="0" y="610024"/>
                </a:lnTo>
                <a:arcTo wR="610024" hR="610024" stAng="-10799994" swAng="5400000"/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" name="Picture 8" descr="Overlay-TitleSlide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3EC04A-4C06-4F31-8DF0-D4D7BF0E561B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>
              <a:gd name="textAreaLeft" fmla="*/ 178560 w 8764560"/>
              <a:gd name="textAreaRight" fmla="*/ 8586000 w 8764560"/>
              <a:gd name="textAreaTop" fmla="*/ 178560 h 6478560"/>
              <a:gd name="textAreaBottom" fmla="*/ 6300000 h 6478560"/>
            </a:gdLst>
            <a:ahLst/>
            <a:rect l="textAreaLeft" t="textAreaTop" r="textAreaRight" b="textAreaBottom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lnTo>
                  <a:pt x="8764587" y="5868563"/>
                </a:lnTo>
                <a:arcTo wR="610024" hR="610024" stAng="0" swAng="5400000"/>
                <a:lnTo>
                  <a:pt x="0" y="6478587"/>
                </a:lnTo>
                <a:lnTo>
                  <a:pt x="0" y="610024"/>
                </a:lnTo>
                <a:lnTo>
                  <a:pt x="0" y="610024"/>
                </a:lnTo>
                <a:arcTo wR="610024" hR="610024" stAng="-10799994" swAng="5400000"/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6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F05737-18EF-4C2E-8C28-1949999771E6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>
              <a:gd name="textAreaLeft" fmla="*/ 178560 w 8764560"/>
              <a:gd name="textAreaRight" fmla="*/ 8586000 w 8764560"/>
              <a:gd name="textAreaTop" fmla="*/ 178560 h 6478560"/>
              <a:gd name="textAreaBottom" fmla="*/ 6300000 h 6478560"/>
            </a:gdLst>
            <a:ahLst/>
            <a:rect l="textAreaLeft" t="textAreaTop" r="textAreaRight" b="textAreaBottom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lnTo>
                  <a:pt x="8764587" y="5868563"/>
                </a:lnTo>
                <a:arcTo wR="610024" hR="610024" stAng="0" swAng="5400000"/>
                <a:lnTo>
                  <a:pt x="0" y="6478587"/>
                </a:lnTo>
                <a:lnTo>
                  <a:pt x="0" y="610024"/>
                </a:lnTo>
                <a:lnTo>
                  <a:pt x="0" y="610024"/>
                </a:lnTo>
                <a:arcTo wR="610024" hR="610024" stAng="-10799994" swAng="5400000"/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9" name="Picture 8" descr="Overlay-SectionHeader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E7585-0FA9-4DC3-A554-867F241DD90B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>
              <a:gd name="textAreaLeft" fmla="*/ 178560 w 8764560"/>
              <a:gd name="textAreaRight" fmla="*/ 8586000 w 8764560"/>
              <a:gd name="textAreaTop" fmla="*/ 178560 h 6478560"/>
              <a:gd name="textAreaBottom" fmla="*/ 6300000 h 6478560"/>
            </a:gdLst>
            <a:ahLst/>
            <a:rect l="textAreaLeft" t="textAreaTop" r="textAreaRight" b="textAreaBottom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lnTo>
                  <a:pt x="8764587" y="5868563"/>
                </a:lnTo>
                <a:arcTo wR="610024" hR="610024" stAng="0" swAng="5400000"/>
                <a:lnTo>
                  <a:pt x="0" y="6478587"/>
                </a:lnTo>
                <a:lnTo>
                  <a:pt x="0" y="610024"/>
                </a:lnTo>
                <a:lnTo>
                  <a:pt x="0" y="610024"/>
                </a:lnTo>
                <a:arcTo wR="610024" hR="610024" stAng="-10799994" swAng="5400000"/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7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841495-9960-46D6-AACE-940BF1857C2E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>
              <a:gd name="textAreaLeft" fmla="*/ 178560 w 8764560"/>
              <a:gd name="textAreaRight" fmla="*/ 8586000 w 8764560"/>
              <a:gd name="textAreaTop" fmla="*/ 178560 h 6478560"/>
              <a:gd name="textAreaBottom" fmla="*/ 6300000 h 6478560"/>
            </a:gdLst>
            <a:ahLst/>
            <a:rect l="textAreaLeft" t="textAreaTop" r="textAreaRight" b="textAreaBottom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lnTo>
                  <a:pt x="8764587" y="5868563"/>
                </a:lnTo>
                <a:arcTo wR="610024" hR="610024" stAng="0" swAng="5400000"/>
                <a:lnTo>
                  <a:pt x="0" y="6478587"/>
                </a:lnTo>
                <a:lnTo>
                  <a:pt x="0" y="610024"/>
                </a:lnTo>
                <a:lnTo>
                  <a:pt x="0" y="610024"/>
                </a:lnTo>
                <a:arcTo wR="610024" hR="610024" stAng="-10799994" swAng="5400000"/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16" name="Straight Connector 9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Straight Connector 10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Straight Connector 12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0327DD-6798-4B91-AB10-CA309B953A58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>
              <a:gd name="textAreaLeft" fmla="*/ 178560 w 8764560"/>
              <a:gd name="textAreaRight" fmla="*/ 8586000 w 8764560"/>
              <a:gd name="textAreaTop" fmla="*/ 178560 h 6478560"/>
              <a:gd name="textAreaBottom" fmla="*/ 6300000 h 6478560"/>
            </a:gdLst>
            <a:ahLst/>
            <a:rect l="textAreaLeft" t="textAreaTop" r="textAreaRight" b="textAreaBottom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lnTo>
                  <a:pt x="8764587" y="5868563"/>
                </a:lnTo>
                <a:arcTo wR="610024" hR="610024" stAng="0" swAng="5400000"/>
                <a:lnTo>
                  <a:pt x="0" y="6478587"/>
                </a:lnTo>
                <a:lnTo>
                  <a:pt x="0" y="610024"/>
                </a:lnTo>
                <a:lnTo>
                  <a:pt x="0" y="610024"/>
                </a:lnTo>
                <a:arcTo wR="610024" hR="610024" stAng="-10799994" swAng="5400000"/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EA206D-9AD7-4787-98F0-E0F442907DE5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>
              <a:gd name="textAreaLeft" fmla="*/ 178560 w 8764560"/>
              <a:gd name="textAreaRight" fmla="*/ 8586000 w 8764560"/>
              <a:gd name="textAreaTop" fmla="*/ 178560 h 6478560"/>
              <a:gd name="textAreaBottom" fmla="*/ 6300000 h 6478560"/>
            </a:gdLst>
            <a:ahLst/>
            <a:rect l="textAreaLeft" t="textAreaTop" r="textAreaRight" b="textAreaBottom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lnTo>
                  <a:pt x="8764587" y="5868563"/>
                </a:lnTo>
                <a:arcTo wR="610024" hR="610024" stAng="0" swAng="5400000"/>
                <a:lnTo>
                  <a:pt x="0" y="6478587"/>
                </a:lnTo>
                <a:lnTo>
                  <a:pt x="0" y="610024"/>
                </a:lnTo>
                <a:lnTo>
                  <a:pt x="0" y="610024"/>
                </a:lnTo>
                <a:arcTo wR="610024" hR="610024" stAng="-10799994" swAng="5400000"/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429FB9-4952-41C6-9C07-BF247B47D3EC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>
              <a:gd name="textAreaLeft" fmla="*/ 178560 w 8764560"/>
              <a:gd name="textAreaRight" fmla="*/ 8586000 w 8764560"/>
              <a:gd name="textAreaTop" fmla="*/ 178560 h 6478560"/>
              <a:gd name="textAreaBottom" fmla="*/ 6300000 h 6478560"/>
            </a:gdLst>
            <a:ahLst/>
            <a:rect l="textAreaLeft" t="textAreaTop" r="textAreaRight" b="textAreaBottom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lnTo>
                  <a:pt x="8764587" y="5868563"/>
                </a:lnTo>
                <a:arcTo wR="610024" hR="610024" stAng="0" swAng="5400000"/>
                <a:lnTo>
                  <a:pt x="0" y="6478587"/>
                </a:lnTo>
                <a:lnTo>
                  <a:pt x="0" y="610024"/>
                </a:lnTo>
                <a:lnTo>
                  <a:pt x="0" y="610024"/>
                </a:lnTo>
                <a:arcTo wR="610024" hR="610024" stAng="-10799994" swAng="5400000"/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8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CB74DD-38C2-48E7-BB74-CB5F2EA1820C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05920" y="1544400"/>
            <a:ext cx="8751960" cy="1469880"/>
          </a:xfrm>
          <a:prstGeom prst="rect">
            <a:avLst/>
          </a:prstGeom>
          <a:solidFill>
            <a:srgbClr val="bfbfbf">
              <a:alpha val="32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RSVP Resource Sharing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Remote Identification Association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1599840" y="3578400"/>
            <a:ext cx="6762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draft-narayanan-tsvwg-rsvp-resource-sharing-02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rancois Le Faucheur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shok Narayana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ubha Dhesika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ETF 77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Rectangle 13"/>
          <p:cNvGrpSpPr/>
          <p:nvPr/>
        </p:nvGrpSpPr>
        <p:grpSpPr>
          <a:xfrm>
            <a:off x="5857920" y="1616040"/>
            <a:ext cx="2921040" cy="4363920"/>
            <a:chOff x="5857920" y="1616040"/>
            <a:chExt cx="2921040" cy="4363920"/>
          </a:xfrm>
        </p:grpSpPr>
        <p:pic>
          <p:nvPicPr>
            <p:cNvPr id="819" name="Rectangle 13" descr=""/>
            <p:cNvPicPr/>
            <p:nvPr/>
          </p:nvPicPr>
          <p:blipFill>
            <a:blip r:embed="rId1"/>
            <a:stretch/>
          </p:blipFill>
          <p:spPr>
            <a:xfrm>
              <a:off x="5857920" y="1616040"/>
              <a:ext cx="2921040" cy="436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0" name=""/>
            <p:cNvSpPr/>
            <p:nvPr/>
          </p:nvSpPr>
          <p:spPr>
            <a:xfrm>
              <a:off x="5870520" y="1627200"/>
              <a:ext cx="289260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Problem: Symmetric N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549360" y="1599840"/>
            <a:ext cx="5013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Unidirectional flows to the same destination, traversing symmetric N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NAT issues different destination ports to the different sender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haring not possible in RSVP for reservations going to different {L3,L4} destination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3" name="TextBox 6"/>
          <p:cNvSpPr/>
          <p:nvPr/>
        </p:nvSpPr>
        <p:spPr>
          <a:xfrm>
            <a:off x="7010280" y="1905120"/>
            <a:ext cx="685800" cy="5814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rebuchet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4" name="TextBox 7"/>
          <p:cNvSpPr/>
          <p:nvPr/>
        </p:nvSpPr>
        <p:spPr>
          <a:xfrm>
            <a:off x="6324480" y="5079960"/>
            <a:ext cx="685800" cy="5814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rebuchet MS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5" name="TextBox 8"/>
          <p:cNvSpPr/>
          <p:nvPr/>
        </p:nvSpPr>
        <p:spPr>
          <a:xfrm>
            <a:off x="7848720" y="5079960"/>
            <a:ext cx="685800" cy="5814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rebuchet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6" name="Straight Connector 10"/>
          <p:cNvSpPr/>
          <p:nvPr/>
        </p:nvSpPr>
        <p:spPr>
          <a:xfrm flipV="1">
            <a:off x="6629400" y="3381480"/>
            <a:ext cx="380880" cy="1698480"/>
          </a:xfrm>
          <a:prstGeom prst="line">
            <a:avLst/>
          </a:prstGeom>
          <a:ln w="38160">
            <a:solidFill>
              <a:srgbClr val="0c598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7" name="Straight Connector 14"/>
          <p:cNvSpPr/>
          <p:nvPr/>
        </p:nvSpPr>
        <p:spPr>
          <a:xfrm flipH="1" flipV="1">
            <a:off x="7696080" y="3381480"/>
            <a:ext cx="495360" cy="1698480"/>
          </a:xfrm>
          <a:prstGeom prst="line">
            <a:avLst/>
          </a:prstGeom>
          <a:ln w="38160">
            <a:solidFill>
              <a:srgbClr val="0c598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8" name="Straight Connector 18"/>
          <p:cNvSpPr/>
          <p:nvPr/>
        </p:nvSpPr>
        <p:spPr>
          <a:xfrm>
            <a:off x="6324480" y="3798720"/>
            <a:ext cx="457200" cy="5446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9" name="Straight Connector 20"/>
          <p:cNvSpPr/>
          <p:nvPr/>
        </p:nvSpPr>
        <p:spPr>
          <a:xfrm>
            <a:off x="6324480" y="3798720"/>
            <a:ext cx="1676520" cy="5446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0" name="TextBox 25"/>
          <p:cNvSpPr/>
          <p:nvPr/>
        </p:nvSpPr>
        <p:spPr>
          <a:xfrm>
            <a:off x="5876640" y="3429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Share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1" name="TextBox 21"/>
          <p:cNvSpPr/>
          <p:nvPr/>
        </p:nvSpPr>
        <p:spPr>
          <a:xfrm>
            <a:off x="6286680" y="3011400"/>
            <a:ext cx="213336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rebuchet MS"/>
              </a:rPr>
              <a:t>Symmetric N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2" name="Straight Connector 26"/>
          <p:cNvSpPr/>
          <p:nvPr/>
        </p:nvSpPr>
        <p:spPr>
          <a:xfrm flipV="1">
            <a:off x="7350840" y="2490480"/>
            <a:ext cx="3240" cy="522360"/>
          </a:xfrm>
          <a:prstGeom prst="line">
            <a:avLst/>
          </a:prstGeom>
          <a:ln w="38160">
            <a:solidFill>
              <a:srgbClr val="0c598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779040" y="-11124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History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7" name="TextBox 4"/>
          <p:cNvSpPr/>
          <p:nvPr/>
        </p:nvSpPr>
        <p:spPr>
          <a:xfrm>
            <a:off x="331920" y="1163520"/>
            <a:ext cx="4622760" cy="209736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arayanan-tsvwg-rsvp-resource-sharing-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8" name="TextBox 5"/>
          <p:cNvSpPr/>
          <p:nvPr/>
        </p:nvSpPr>
        <p:spPr>
          <a:xfrm>
            <a:off x="5308560" y="1141560"/>
            <a:ext cx="3336840" cy="153648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berger-ccamp-assoc-info-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9" name="Rounded Rectangle 6"/>
          <p:cNvSpPr/>
          <p:nvPr/>
        </p:nvSpPr>
        <p:spPr>
          <a:xfrm>
            <a:off x="5618160" y="1544760"/>
            <a:ext cx="2550960" cy="995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ASSOCIATION Object as defined in RFC 4872 and RFC 4873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0" name="Rounded Rectangle 7"/>
          <p:cNvSpPr/>
          <p:nvPr/>
        </p:nvSpPr>
        <p:spPr>
          <a:xfrm>
            <a:off x="1022400" y="1544760"/>
            <a:ext cx="2550960" cy="995400"/>
          </a:xfrm>
          <a:prstGeom prst="roundRect">
            <a:avLst>
              <a:gd name="adj" fmla="val 16667"/>
            </a:avLst>
          </a:prstGeom>
          <a:solidFill>
            <a:srgbClr val="062c43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Non-GMPLS “Resource Sharing” Association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Upstream Association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Extended Association ID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1" name="Rounded Rectangle 8"/>
          <p:cNvSpPr/>
          <p:nvPr/>
        </p:nvSpPr>
        <p:spPr>
          <a:xfrm>
            <a:off x="1022400" y="2577960"/>
            <a:ext cx="2550960" cy="682920"/>
          </a:xfrm>
          <a:prstGeom prst="roundRect">
            <a:avLst>
              <a:gd name="adj" fmla="val 16667"/>
            </a:avLst>
          </a:prstGeom>
          <a:solidFill>
            <a:srgbClr val="062c43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Resource Sharing Remote Identification Association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2" name="TextBox 9"/>
          <p:cNvSpPr/>
          <p:nvPr/>
        </p:nvSpPr>
        <p:spPr>
          <a:xfrm>
            <a:off x="5346720" y="3924360"/>
            <a:ext cx="3336840" cy="2620800"/>
          </a:xfrm>
          <a:prstGeom prst="rect">
            <a:avLst/>
          </a:prstGeom>
          <a:solidFill>
            <a:srgbClr val="bfbfbf"/>
          </a:solidFill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berger-ccamp-assoc-info-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3" name="Rounded Rectangle 10"/>
          <p:cNvSpPr/>
          <p:nvPr/>
        </p:nvSpPr>
        <p:spPr>
          <a:xfrm>
            <a:off x="5586480" y="4508640"/>
            <a:ext cx="2550960" cy="995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ASSOCIATION Object as defined in RFC 4872 and RFC 4873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4" name="Rounded Rectangle 11"/>
          <p:cNvSpPr/>
          <p:nvPr/>
        </p:nvSpPr>
        <p:spPr>
          <a:xfrm>
            <a:off x="5586480" y="5504040"/>
            <a:ext cx="2550960" cy="995040"/>
          </a:xfrm>
          <a:prstGeom prst="roundRect">
            <a:avLst>
              <a:gd name="adj" fmla="val 16667"/>
            </a:avLst>
          </a:prstGeom>
          <a:solidFill>
            <a:srgbClr val="062c43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Non-GMPLS “Resource Sharing” Association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Upstream Association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Extended Association ID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5" name="TextBox 12"/>
          <p:cNvSpPr/>
          <p:nvPr/>
        </p:nvSpPr>
        <p:spPr>
          <a:xfrm>
            <a:off x="331920" y="3924360"/>
            <a:ext cx="4622760" cy="1579680"/>
          </a:xfrm>
          <a:prstGeom prst="rect">
            <a:avLst/>
          </a:prstGeom>
          <a:solidFill>
            <a:srgbClr val="bfbfbf"/>
          </a:solidFill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arayanan-tsvwg-rsvp-resource-sharing-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6" name="Rounded Rectangle 13"/>
          <p:cNvSpPr/>
          <p:nvPr/>
        </p:nvSpPr>
        <p:spPr>
          <a:xfrm>
            <a:off x="1022400" y="4365720"/>
            <a:ext cx="2550960" cy="682560"/>
          </a:xfrm>
          <a:prstGeom prst="roundRect">
            <a:avLst>
              <a:gd name="adj" fmla="val 16667"/>
            </a:avLst>
          </a:prstGeom>
          <a:solidFill>
            <a:srgbClr val="062c43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Resource Sharing Remote Identification Association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7" name="Freeform 14"/>
          <p:cNvSpPr/>
          <p:nvPr/>
        </p:nvSpPr>
        <p:spPr>
          <a:xfrm>
            <a:off x="8169120" y="2230560"/>
            <a:ext cx="479520" cy="2666880"/>
          </a:xfrm>
          <a:custGeom>
            <a:avLst/>
            <a:gdLst/>
            <a:ahLst/>
            <a:rect l="l" t="t" r="r" b="b"/>
            <a:pathLst>
              <a:path w="480511" h="2665967">
                <a:moveTo>
                  <a:pt x="0" y="0"/>
                </a:moveTo>
                <a:cubicBezTo>
                  <a:pt x="240255" y="504398"/>
                  <a:pt x="480511" y="1008796"/>
                  <a:pt x="480511" y="1453124"/>
                </a:cubicBezTo>
                <a:cubicBezTo>
                  <a:pt x="480511" y="1897452"/>
                  <a:pt x="0" y="2665967"/>
                  <a:pt x="0" y="2665967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stealth" w="med"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8" name="Freeform 16"/>
          <p:cNvSpPr/>
          <p:nvPr/>
        </p:nvSpPr>
        <p:spPr>
          <a:xfrm>
            <a:off x="130320" y="2928960"/>
            <a:ext cx="876240" cy="1739880"/>
          </a:xfrm>
          <a:custGeom>
            <a:avLst/>
            <a:gdLst/>
            <a:ahLst/>
            <a:rect l="l" t="t" r="r" b="b"/>
            <a:pathLst>
              <a:path w="877122" h="2654525">
                <a:moveTo>
                  <a:pt x="877122" y="0"/>
                </a:moveTo>
                <a:cubicBezTo>
                  <a:pt x="446188" y="785678"/>
                  <a:pt x="15254" y="1571356"/>
                  <a:pt x="7627" y="2013777"/>
                </a:cubicBezTo>
                <a:cubicBezTo>
                  <a:pt x="0" y="2456198"/>
                  <a:pt x="831359" y="2654525"/>
                  <a:pt x="831359" y="2654525"/>
                </a:cubicBezTo>
              </a:path>
            </a:pathLst>
          </a:custGeom>
          <a:noFill/>
          <a:ln w="76320">
            <a:solidFill>
              <a:srgbClr val="062c43"/>
            </a:solidFill>
            <a:round/>
            <a:tailEnd len="med" type="stealth" w="med"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9" name="Freeform 19"/>
          <p:cNvSpPr/>
          <p:nvPr/>
        </p:nvSpPr>
        <p:spPr>
          <a:xfrm>
            <a:off x="3592440" y="2104920"/>
            <a:ext cx="1944720" cy="3741840"/>
          </a:xfrm>
          <a:custGeom>
            <a:avLst/>
            <a:gdLst/>
            <a:ahLst/>
            <a:rect l="l" t="t" r="r" b="b"/>
            <a:pathLst>
              <a:path w="1944923" h="3741507">
                <a:moveTo>
                  <a:pt x="0" y="0"/>
                </a:moveTo>
                <a:cubicBezTo>
                  <a:pt x="485277" y="446235"/>
                  <a:pt x="970555" y="892470"/>
                  <a:pt x="1235598" y="1338705"/>
                </a:cubicBezTo>
                <a:cubicBezTo>
                  <a:pt x="1500642" y="1784940"/>
                  <a:pt x="1472040" y="2276942"/>
                  <a:pt x="1590261" y="2677409"/>
                </a:cubicBezTo>
                <a:cubicBezTo>
                  <a:pt x="1708482" y="3077876"/>
                  <a:pt x="1826702" y="3409691"/>
                  <a:pt x="1944923" y="3741507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stealth" w="med"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0" name="TextBox 20"/>
          <p:cNvSpPr/>
          <p:nvPr/>
        </p:nvSpPr>
        <p:spPr>
          <a:xfrm>
            <a:off x="4282920" y="1770120"/>
            <a:ext cx="124128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62c4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ETF 76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1" name="TextBox 21"/>
          <p:cNvSpPr/>
          <p:nvPr/>
        </p:nvSpPr>
        <p:spPr>
          <a:xfrm>
            <a:off x="4054320" y="5616720"/>
            <a:ext cx="124128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62c4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ETF 77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Summary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Extension to draft-berger-ccamp-assoc-info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tandards Track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defines a new association type called "Resource Sharing Remote Identification"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Resource Sharing Remote Identification association 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an be used by the sender to convey to the receiver information that can then be used by the receiver to identify an upstream initiated resource sharing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useful in upstream initiated resource sharing applications where the identification of the resource sharing association is not known a priori by the receiver, and instead is known by the sender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ype-specific association rule: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Resource Sharing Remote Identification association does not create any association across Path states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Resource Sharing Remote Identification association 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757" name="Rectangle 3"/>
          <p:cNvGrpSpPr/>
          <p:nvPr/>
        </p:nvGrpSpPr>
        <p:grpSpPr>
          <a:xfrm>
            <a:off x="798480" y="2597040"/>
            <a:ext cx="938160" cy="506520"/>
            <a:chOff x="798480" y="2597040"/>
            <a:chExt cx="938160" cy="506520"/>
          </a:xfrm>
        </p:grpSpPr>
        <p:pic>
          <p:nvPicPr>
            <p:cNvPr id="758" name="Rectangle 3" descr=""/>
            <p:cNvPicPr/>
            <p:nvPr/>
          </p:nvPicPr>
          <p:blipFill>
            <a:blip r:embed="rId1"/>
            <a:stretch/>
          </p:blipFill>
          <p:spPr>
            <a:xfrm>
              <a:off x="798480" y="2597040"/>
              <a:ext cx="938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"/>
            <p:cNvSpPr/>
            <p:nvPr/>
          </p:nvSpPr>
          <p:spPr>
            <a:xfrm>
              <a:off x="812880" y="2608200"/>
              <a:ext cx="91440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Sender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760" name="Rectangle 4"/>
          <p:cNvGrpSpPr/>
          <p:nvPr/>
        </p:nvGrpSpPr>
        <p:grpSpPr>
          <a:xfrm>
            <a:off x="6718320" y="2114640"/>
            <a:ext cx="1335240" cy="506160"/>
            <a:chOff x="6718320" y="2114640"/>
            <a:chExt cx="1335240" cy="506160"/>
          </a:xfrm>
        </p:grpSpPr>
        <p:pic>
          <p:nvPicPr>
            <p:cNvPr id="761" name="Rectangle 4" descr=""/>
            <p:cNvPicPr/>
            <p:nvPr/>
          </p:nvPicPr>
          <p:blipFill>
            <a:blip r:embed="rId2"/>
            <a:stretch/>
          </p:blipFill>
          <p:spPr>
            <a:xfrm>
              <a:off x="6718320" y="2114640"/>
              <a:ext cx="1335240" cy="50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"/>
            <p:cNvSpPr/>
            <p:nvPr/>
          </p:nvSpPr>
          <p:spPr>
            <a:xfrm>
              <a:off x="6730920" y="2128680"/>
              <a:ext cx="131148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Receiver1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763" name="Oval 7"/>
          <p:cNvGrpSpPr/>
          <p:nvPr/>
        </p:nvGrpSpPr>
        <p:grpSpPr>
          <a:xfrm>
            <a:off x="2895480" y="2335320"/>
            <a:ext cx="2895840" cy="2766960"/>
            <a:chOff x="2895480" y="2335320"/>
            <a:chExt cx="2895840" cy="2766960"/>
          </a:xfrm>
        </p:grpSpPr>
        <p:pic>
          <p:nvPicPr>
            <p:cNvPr id="764" name="Oval 7" descr=""/>
            <p:cNvPicPr/>
            <p:nvPr/>
          </p:nvPicPr>
          <p:blipFill>
            <a:blip r:embed="rId3"/>
            <a:stretch/>
          </p:blipFill>
          <p:spPr>
            <a:xfrm>
              <a:off x="2895480" y="2335320"/>
              <a:ext cx="2895840" cy="27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"/>
            <p:cNvSpPr/>
            <p:nvPr/>
          </p:nvSpPr>
          <p:spPr>
            <a:xfrm>
              <a:off x="3325680" y="2747880"/>
              <a:ext cx="2032200" cy="19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Cloud of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RSVP Routers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766" name="Rectangle 8"/>
          <p:cNvGrpSpPr/>
          <p:nvPr/>
        </p:nvGrpSpPr>
        <p:grpSpPr>
          <a:xfrm>
            <a:off x="6718320" y="3292560"/>
            <a:ext cx="1335240" cy="504720"/>
            <a:chOff x="6718320" y="3292560"/>
            <a:chExt cx="1335240" cy="504720"/>
          </a:xfrm>
        </p:grpSpPr>
        <p:pic>
          <p:nvPicPr>
            <p:cNvPr id="767" name="Rectangle 8" descr=""/>
            <p:cNvPicPr/>
            <p:nvPr/>
          </p:nvPicPr>
          <p:blipFill>
            <a:blip r:embed="rId4"/>
            <a:stretch/>
          </p:blipFill>
          <p:spPr>
            <a:xfrm>
              <a:off x="6718320" y="3292560"/>
              <a:ext cx="1335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"/>
            <p:cNvSpPr/>
            <p:nvPr/>
          </p:nvSpPr>
          <p:spPr>
            <a:xfrm>
              <a:off x="6730920" y="3306600"/>
              <a:ext cx="131148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Receiver2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769" name="Group 19"/>
          <p:cNvGrpSpPr/>
          <p:nvPr/>
        </p:nvGrpSpPr>
        <p:grpSpPr>
          <a:xfrm>
            <a:off x="1751040" y="1727280"/>
            <a:ext cx="4919760" cy="1163520"/>
            <a:chOff x="1751040" y="1727280"/>
            <a:chExt cx="4919760" cy="1163520"/>
          </a:xfrm>
        </p:grpSpPr>
        <p:sp>
          <p:nvSpPr>
            <p:cNvPr id="770" name="Freeform 9"/>
            <p:cNvSpPr/>
            <p:nvPr/>
          </p:nvSpPr>
          <p:spPr>
            <a:xfrm>
              <a:off x="1764000" y="2284200"/>
              <a:ext cx="4906800" cy="606600"/>
            </a:xfrm>
            <a:custGeom>
              <a:avLst/>
              <a:gdLst/>
              <a:ahLst/>
              <a:rect l="l" t="t" r="r" b="b"/>
              <a:pathLst>
                <a:path w="4919512" h="614049">
                  <a:moveTo>
                    <a:pt x="0" y="389025"/>
                  </a:moveTo>
                  <a:cubicBezTo>
                    <a:pt x="556782" y="501537"/>
                    <a:pt x="1113564" y="614049"/>
                    <a:pt x="1933483" y="549212"/>
                  </a:cubicBezTo>
                  <a:cubicBezTo>
                    <a:pt x="2753402" y="484375"/>
                    <a:pt x="4919512" y="0"/>
                    <a:pt x="4919512" y="0"/>
                  </a:cubicBezTo>
                </a:path>
              </a:pathLst>
            </a:custGeom>
            <a:noFill/>
            <a:ln w="5724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771" name="Rectangular Callout 15"/>
            <p:cNvGrpSpPr/>
            <p:nvPr/>
          </p:nvGrpSpPr>
          <p:grpSpPr>
            <a:xfrm>
              <a:off x="1751040" y="1727280"/>
              <a:ext cx="2030760" cy="1041840"/>
              <a:chOff x="1751040" y="1727280"/>
              <a:chExt cx="2030760" cy="1041840"/>
            </a:xfrm>
          </p:grpSpPr>
          <p:pic>
            <p:nvPicPr>
              <p:cNvPr id="772" name="Rectangular Callout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751040" y="1727280"/>
                <a:ext cx="2030760" cy="104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3" name=""/>
              <p:cNvSpPr/>
              <p:nvPr/>
            </p:nvSpPr>
            <p:spPr>
              <a:xfrm>
                <a:off x="1764000" y="1741680"/>
                <a:ext cx="2008440" cy="54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rebuchet MS"/>
                  </a:rPr>
                  <a:t>Path 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ff"/>
                    </a:solidFill>
                    <a:latin typeface="Trebuchet MS"/>
                  </a:rPr>
                  <a:t>(RSRID, ID=S/100)</a:t>
                </a:r>
                <a:endParaRPr b="0" lang="en-US" sz="16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774" name="Group 20"/>
          <p:cNvGrpSpPr/>
          <p:nvPr/>
        </p:nvGrpSpPr>
        <p:grpSpPr>
          <a:xfrm>
            <a:off x="973080" y="2930400"/>
            <a:ext cx="5684760" cy="1222560"/>
            <a:chOff x="973080" y="2930400"/>
            <a:chExt cx="5684760" cy="1222560"/>
          </a:xfrm>
        </p:grpSpPr>
        <p:sp>
          <p:nvSpPr>
            <p:cNvPr id="775" name="Freeform 10"/>
            <p:cNvSpPr/>
            <p:nvPr/>
          </p:nvSpPr>
          <p:spPr>
            <a:xfrm>
              <a:off x="1724400" y="2930400"/>
              <a:ext cx="4933440" cy="667800"/>
            </a:xfrm>
            <a:custGeom>
              <a:avLst/>
              <a:gdLst/>
              <a:ahLst/>
              <a:rect l="l" t="t" r="r" b="b"/>
              <a:pathLst>
                <a:path w="4942393" h="673165">
                  <a:moveTo>
                    <a:pt x="0" y="89628"/>
                  </a:moveTo>
                  <a:cubicBezTo>
                    <a:pt x="646401" y="218349"/>
                    <a:pt x="1292802" y="347071"/>
                    <a:pt x="1876279" y="341350"/>
                  </a:cubicBezTo>
                  <a:cubicBezTo>
                    <a:pt x="2459756" y="335629"/>
                    <a:pt x="2989843" y="0"/>
                    <a:pt x="3500862" y="55302"/>
                  </a:cubicBezTo>
                  <a:cubicBezTo>
                    <a:pt x="4011881" y="110605"/>
                    <a:pt x="4942393" y="673165"/>
                    <a:pt x="4942393" y="673165"/>
                  </a:cubicBezTo>
                </a:path>
              </a:pathLst>
            </a:custGeom>
            <a:noFill/>
            <a:ln w="5724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776" name="Rectangular Callout 16"/>
            <p:cNvGrpSpPr/>
            <p:nvPr/>
          </p:nvGrpSpPr>
          <p:grpSpPr>
            <a:xfrm>
              <a:off x="973080" y="3130920"/>
              <a:ext cx="1880280" cy="1022040"/>
              <a:chOff x="973080" y="3130920"/>
              <a:chExt cx="1880280" cy="1022040"/>
            </a:xfrm>
          </p:grpSpPr>
          <p:pic>
            <p:nvPicPr>
              <p:cNvPr id="777" name="Rectangular Callout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73080" y="3130920"/>
                <a:ext cx="1880280" cy="102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8" name=""/>
              <p:cNvSpPr/>
              <p:nvPr/>
            </p:nvSpPr>
            <p:spPr>
              <a:xfrm>
                <a:off x="982440" y="3598200"/>
                <a:ext cx="1857240" cy="54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rebuchet MS"/>
                  </a:rPr>
                  <a:t>Path 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ff"/>
                    </a:solidFill>
                    <a:latin typeface="Trebuchet MS"/>
                  </a:rPr>
                  <a:t>(RSRIS, ID=S/100)</a:t>
                </a:r>
                <a:endParaRPr b="0" lang="en-US" sz="16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779" name="Group 21"/>
          <p:cNvGrpSpPr/>
          <p:nvPr/>
        </p:nvGrpSpPr>
        <p:grpSpPr>
          <a:xfrm>
            <a:off x="1754280" y="1579680"/>
            <a:ext cx="4919400" cy="1441440"/>
            <a:chOff x="1754280" y="1579680"/>
            <a:chExt cx="4919400" cy="1441440"/>
          </a:xfrm>
        </p:grpSpPr>
        <p:sp>
          <p:nvSpPr>
            <p:cNvPr id="780" name="Freeform 13"/>
            <p:cNvSpPr/>
            <p:nvPr/>
          </p:nvSpPr>
          <p:spPr>
            <a:xfrm>
              <a:off x="1754280" y="2412360"/>
              <a:ext cx="4919400" cy="608760"/>
            </a:xfrm>
            <a:custGeom>
              <a:avLst/>
              <a:gdLst/>
              <a:ahLst/>
              <a:rect l="l" t="t" r="r" b="b"/>
              <a:pathLst>
                <a:path w="4919512" h="614049">
                  <a:moveTo>
                    <a:pt x="0" y="389025"/>
                  </a:moveTo>
                  <a:cubicBezTo>
                    <a:pt x="556782" y="501537"/>
                    <a:pt x="1113564" y="614049"/>
                    <a:pt x="1933483" y="549212"/>
                  </a:cubicBezTo>
                  <a:cubicBezTo>
                    <a:pt x="2753402" y="484375"/>
                    <a:pt x="4919512" y="0"/>
                    <a:pt x="4919512" y="0"/>
                  </a:cubicBezTo>
                </a:path>
              </a:pathLst>
            </a:custGeom>
            <a:noFill/>
            <a:ln w="57240">
              <a:solidFill>
                <a:srgbClr val="623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781" name="Rectangular Callout 17"/>
            <p:cNvGrpSpPr/>
            <p:nvPr/>
          </p:nvGrpSpPr>
          <p:grpSpPr>
            <a:xfrm>
              <a:off x="4572000" y="1579680"/>
              <a:ext cx="1883520" cy="906480"/>
              <a:chOff x="4572000" y="1579680"/>
              <a:chExt cx="1883520" cy="906480"/>
            </a:xfrm>
          </p:grpSpPr>
          <p:pic>
            <p:nvPicPr>
              <p:cNvPr id="782" name="Rectangular Callout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4572000" y="1579680"/>
                <a:ext cx="1883520" cy="90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3" name=""/>
              <p:cNvSpPr/>
              <p:nvPr/>
            </p:nvSpPr>
            <p:spPr>
              <a:xfrm>
                <a:off x="4584240" y="1591560"/>
                <a:ext cx="18604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rebuchet MS"/>
                  </a:rPr>
                  <a:t>Resv 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ff"/>
                    </a:solidFill>
                    <a:latin typeface="Trebuchet MS"/>
                  </a:rPr>
                  <a:t>(RS, ID=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Trebuchet MS"/>
                  </a:rPr>
                  <a:t>S/100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Trebuchet MS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784" name="Group 22"/>
          <p:cNvGrpSpPr/>
          <p:nvPr/>
        </p:nvGrpSpPr>
        <p:grpSpPr>
          <a:xfrm>
            <a:off x="1731960" y="3152880"/>
            <a:ext cx="5929200" cy="1549440"/>
            <a:chOff x="1731960" y="3152880"/>
            <a:chExt cx="5929200" cy="1549440"/>
          </a:xfrm>
        </p:grpSpPr>
        <p:sp>
          <p:nvSpPr>
            <p:cNvPr id="785" name="Freeform 14"/>
            <p:cNvSpPr/>
            <p:nvPr/>
          </p:nvSpPr>
          <p:spPr>
            <a:xfrm>
              <a:off x="1731960" y="3152880"/>
              <a:ext cx="4930560" cy="668520"/>
            </a:xfrm>
            <a:custGeom>
              <a:avLst/>
              <a:gdLst/>
              <a:ahLst/>
              <a:rect l="l" t="t" r="r" b="b"/>
              <a:pathLst>
                <a:path w="4942393" h="673165">
                  <a:moveTo>
                    <a:pt x="0" y="89628"/>
                  </a:moveTo>
                  <a:cubicBezTo>
                    <a:pt x="646401" y="218349"/>
                    <a:pt x="1292802" y="347071"/>
                    <a:pt x="1876279" y="341350"/>
                  </a:cubicBezTo>
                  <a:cubicBezTo>
                    <a:pt x="2459756" y="335629"/>
                    <a:pt x="2989843" y="0"/>
                    <a:pt x="3500862" y="55302"/>
                  </a:cubicBezTo>
                  <a:cubicBezTo>
                    <a:pt x="4011881" y="110605"/>
                    <a:pt x="4942393" y="673165"/>
                    <a:pt x="4942393" y="673165"/>
                  </a:cubicBezTo>
                </a:path>
              </a:pathLst>
            </a:custGeom>
            <a:noFill/>
            <a:ln w="57240">
              <a:solidFill>
                <a:srgbClr val="623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786" name="Rectangular Callout 18"/>
            <p:cNvGrpSpPr/>
            <p:nvPr/>
          </p:nvGrpSpPr>
          <p:grpSpPr>
            <a:xfrm>
              <a:off x="5478120" y="3315600"/>
              <a:ext cx="2183040" cy="1386720"/>
              <a:chOff x="5478120" y="3315600"/>
              <a:chExt cx="2183040" cy="1386720"/>
            </a:xfrm>
          </p:grpSpPr>
          <p:pic>
            <p:nvPicPr>
              <p:cNvPr id="787" name="Rectangular Callout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5478120" y="3315600"/>
                <a:ext cx="2183040" cy="138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8" name=""/>
              <p:cNvSpPr/>
              <p:nvPr/>
            </p:nvSpPr>
            <p:spPr>
              <a:xfrm>
                <a:off x="5792400" y="4147200"/>
                <a:ext cx="1855800" cy="54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rebuchet MS"/>
                  </a:rPr>
                  <a:t>Resv 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ff"/>
                    </a:solidFill>
                    <a:latin typeface="Trebuchet MS"/>
                  </a:rPr>
                  <a:t>(RS, ID=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Trebuchet MS"/>
                  </a:rPr>
                  <a:t>S/100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Trebuchet MS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sp>
        <p:nvSpPr>
          <p:cNvPr id="789" name="TextBox 23"/>
          <p:cNvSpPr/>
          <p:nvPr/>
        </p:nvSpPr>
        <p:spPr>
          <a:xfrm>
            <a:off x="698040" y="5526000"/>
            <a:ext cx="678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RSRID = “Resource Sharing Remote Identification” associa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RS= “Resource Sharing” associa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D= Association Identifica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90" name="Group 26"/>
          <p:cNvGrpSpPr/>
          <p:nvPr/>
        </p:nvGrpSpPr>
        <p:grpSpPr>
          <a:xfrm>
            <a:off x="1434960" y="2608200"/>
            <a:ext cx="2592360" cy="2654280"/>
            <a:chOff x="1434960" y="2608200"/>
            <a:chExt cx="2592360" cy="2654280"/>
          </a:xfrm>
        </p:grpSpPr>
        <p:grpSp>
          <p:nvGrpSpPr>
            <p:cNvPr id="791" name="Oval 24"/>
            <p:cNvGrpSpPr/>
            <p:nvPr/>
          </p:nvGrpSpPr>
          <p:grpSpPr>
            <a:xfrm>
              <a:off x="3267720" y="2608200"/>
              <a:ext cx="319320" cy="1029240"/>
              <a:chOff x="3267720" y="2608200"/>
              <a:chExt cx="319320" cy="1029240"/>
            </a:xfrm>
          </p:grpSpPr>
          <p:pic>
            <p:nvPicPr>
              <p:cNvPr id="792" name="Oval 24" descr=""/>
              <p:cNvPicPr/>
              <p:nvPr/>
            </p:nvPicPr>
            <p:blipFill>
              <a:blip r:embed="rId9"/>
              <a:stretch/>
            </p:blipFill>
            <p:spPr>
              <a:xfrm>
                <a:off x="3267720" y="2608200"/>
                <a:ext cx="319320" cy="102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"/>
              <p:cNvSpPr/>
              <p:nvPr/>
            </p:nvSpPr>
            <p:spPr>
              <a:xfrm>
                <a:off x="3328560" y="2775600"/>
                <a:ext cx="191880" cy="69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794" name="Rectangular Callout 25"/>
            <p:cNvGrpSpPr/>
            <p:nvPr/>
          </p:nvGrpSpPr>
          <p:grpSpPr>
            <a:xfrm>
              <a:off x="1434960" y="3643560"/>
              <a:ext cx="2592360" cy="1618920"/>
              <a:chOff x="1434960" y="3643560"/>
              <a:chExt cx="2592360" cy="1618920"/>
            </a:xfrm>
          </p:grpSpPr>
          <p:pic>
            <p:nvPicPr>
              <p:cNvPr id="795" name="Rectangular Callout 25" descr=""/>
              <p:cNvPicPr/>
              <p:nvPr/>
            </p:nvPicPr>
            <p:blipFill>
              <a:blip r:embed="rId10"/>
              <a:stretch/>
            </p:blipFill>
            <p:spPr>
              <a:xfrm>
                <a:off x="1434960" y="3643560"/>
                <a:ext cx="2592360" cy="161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6" name=""/>
              <p:cNvSpPr/>
              <p:nvPr/>
            </p:nvSpPr>
            <p:spPr>
              <a:xfrm>
                <a:off x="1449000" y="4541040"/>
                <a:ext cx="2563920" cy="71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rebuchet MS"/>
                  </a:rPr>
                  <a:t>Resource Sharing across the two reservations</a:t>
                </a:r>
                <a:endParaRPr b="0" lang="en-US" sz="16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Next Step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Please review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599840" y="2492280"/>
            <a:ext cx="67626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Backup Slide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1599840" y="3967200"/>
            <a:ext cx="67626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Recap of problem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urrently RSVP flows with different SESSION objects cannot share resources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ere are some use cases where this is importan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ymmetric N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VoIP call sharing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Proposed solution: separate resource sharing from SESSION objec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Rectangle 13"/>
          <p:cNvGrpSpPr/>
          <p:nvPr/>
        </p:nvGrpSpPr>
        <p:grpSpPr>
          <a:xfrm>
            <a:off x="5888160" y="1590840"/>
            <a:ext cx="2914560" cy="3822480"/>
            <a:chOff x="5888160" y="1590840"/>
            <a:chExt cx="2914560" cy="3822480"/>
          </a:xfrm>
        </p:grpSpPr>
        <p:pic>
          <p:nvPicPr>
            <p:cNvPr id="804" name="Rectangle 13" descr=""/>
            <p:cNvPicPr/>
            <p:nvPr/>
          </p:nvPicPr>
          <p:blipFill>
            <a:blip r:embed="rId1"/>
            <a:stretch/>
          </p:blipFill>
          <p:spPr>
            <a:xfrm>
              <a:off x="5888160" y="1590840"/>
              <a:ext cx="2914560" cy="38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"/>
            <p:cNvSpPr/>
            <p:nvPr/>
          </p:nvSpPr>
          <p:spPr>
            <a:xfrm>
              <a:off x="5899320" y="1600200"/>
              <a:ext cx="2892240" cy="38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Problem: VoIP features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549360" y="1599840"/>
            <a:ext cx="5013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haring bandwidth between calls currently in call-waiting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hared calls between shared-line extensions at different location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haring not possible in RSVP for reservations going to different {L3,L4} destination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8" name="TextBox 6"/>
          <p:cNvSpPr/>
          <p:nvPr/>
        </p:nvSpPr>
        <p:spPr>
          <a:xfrm>
            <a:off x="7010280" y="1905120"/>
            <a:ext cx="685800" cy="5814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rebuchet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9" name="TextBox 7"/>
          <p:cNvSpPr/>
          <p:nvPr/>
        </p:nvSpPr>
        <p:spPr>
          <a:xfrm>
            <a:off x="6324480" y="4495680"/>
            <a:ext cx="685800" cy="5814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rebuchet MS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0" name="TextBox 8"/>
          <p:cNvSpPr/>
          <p:nvPr/>
        </p:nvSpPr>
        <p:spPr>
          <a:xfrm>
            <a:off x="7848720" y="4495680"/>
            <a:ext cx="685800" cy="5814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rebuchet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1" name="Straight Connector 10"/>
          <p:cNvSpPr/>
          <p:nvPr/>
        </p:nvSpPr>
        <p:spPr>
          <a:xfrm flipV="1">
            <a:off x="6781680" y="2489040"/>
            <a:ext cx="457200" cy="2006640"/>
          </a:xfrm>
          <a:prstGeom prst="line">
            <a:avLst/>
          </a:prstGeom>
          <a:ln w="38160">
            <a:solidFill>
              <a:srgbClr val="0c598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2" name="Straight Connector 12"/>
          <p:cNvSpPr/>
          <p:nvPr/>
        </p:nvSpPr>
        <p:spPr>
          <a:xfrm flipH="1">
            <a:off x="6553080" y="2489040"/>
            <a:ext cx="457200" cy="2006640"/>
          </a:xfrm>
          <a:prstGeom prst="line">
            <a:avLst/>
          </a:prstGeom>
          <a:ln w="38160">
            <a:solidFill>
              <a:srgbClr val="0c598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3" name="Straight Connector 14"/>
          <p:cNvSpPr/>
          <p:nvPr/>
        </p:nvSpPr>
        <p:spPr>
          <a:xfrm flipH="1" flipV="1">
            <a:off x="7467480" y="2489040"/>
            <a:ext cx="533520" cy="2006640"/>
          </a:xfrm>
          <a:prstGeom prst="line">
            <a:avLst/>
          </a:prstGeom>
          <a:ln w="38160">
            <a:solidFill>
              <a:srgbClr val="0c598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4" name="Straight Connector 16"/>
          <p:cNvSpPr/>
          <p:nvPr/>
        </p:nvSpPr>
        <p:spPr>
          <a:xfrm>
            <a:off x="7696080" y="2489040"/>
            <a:ext cx="533520" cy="2006640"/>
          </a:xfrm>
          <a:prstGeom prst="line">
            <a:avLst/>
          </a:prstGeom>
          <a:ln w="38160">
            <a:solidFill>
              <a:srgbClr val="0c598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5" name="Straight Connector 18"/>
          <p:cNvSpPr/>
          <p:nvPr/>
        </p:nvSpPr>
        <p:spPr>
          <a:xfrm>
            <a:off x="6324480" y="2819520"/>
            <a:ext cx="457200" cy="6094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6" name="Straight Connector 20"/>
          <p:cNvSpPr/>
          <p:nvPr/>
        </p:nvSpPr>
        <p:spPr>
          <a:xfrm>
            <a:off x="6324480" y="2819520"/>
            <a:ext cx="1524240" cy="306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7" name="TextBox 25"/>
          <p:cNvSpPr/>
          <p:nvPr/>
        </p:nvSpPr>
        <p:spPr>
          <a:xfrm>
            <a:off x="5876640" y="244944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Share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0T22:48:56Z</dcterms:created>
  <dc:creator>Cisco Employee</dc:creator>
  <dc:description/>
  <dc:language>en-US</dc:language>
  <cp:lastModifiedBy>Dan</cp:lastModifiedBy>
  <dcterms:modified xsi:type="dcterms:W3CDTF">2010-03-20T23:40:55Z</dcterms:modified>
  <cp:revision>37</cp:revision>
  <dc:subject/>
  <dc:title>RSVP Extensions for Flexible Resource Sharing</dc:title>
</cp:coreProperties>
</file>