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47AB-CD8B-4E3F-A38A-F45D77C5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AFA4-1E60-41C3-833D-9F5B6827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EA0E-9733-4586-84FC-05B0EC96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5D48-9315-4B2A-A224-03367D04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3085-D462-4353-87A7-4AA6A961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7FC6-5F93-4A9A-A650-210A91DD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D4EC-F9D6-4A29-8B7A-D4A0C7A8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5DDA-2653-42C5-9250-FE0ACFE2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3155-55A9-4CAB-88F3-8C5523B7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A3BB-A1A3-4252-A4ED-02CD1F0E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230F-312C-4FDF-A981-FE92F6EE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B708-48C4-4B25-A23E-B3139C9E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289B-4A52-4BF6-A78D-AE2285C9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2458-DD3F-4CA0-B9FE-7FB02B4C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D272-C9A9-4FFA-AE05-725B93BB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1ABD-B48E-4541-BE05-8BC1C3B3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AFC7-722D-4DF7-9554-211B16B4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FED5-3773-4F5B-BEB1-57D7349B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7D4A-1D91-4C7C-A043-83721E63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7F2C-02AF-46DE-A87C-0D41D884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5CB4-4DAE-4A45-8917-1CBA2FA8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5021-55D3-46E2-BAE2-4B8D1EC5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31E6-ADF6-4E98-96EA-E8760DB3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BC81-3AA1-4F05-8255-A87D0D63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665B-8F8D-42DD-8E0C-C8CA87ACB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600200"/>
            <a:ext cx="739152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6AA7-9B3F-4A21-893F-6F8800DC6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berger-ccamp-assoc-info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mailto:adrian@DOMAIN.HIDDEN" TargetMode="External"/><Relationship Id="rId4" Type="http://schemas.openxmlformats.org/officeDocument/2006/relationships/hyperlink" Target="mailto:adrian@DOMAIN.HIDDEN" TargetMode="External"/><Relationship Id="rId5" Type="http://schemas.openxmlformats.org/officeDocument/2006/relationships/hyperlink" Target="mailto:adrian@DOMAIN.HIDDEN" TargetMode="External"/><Relationship Id="rId6" Type="http://schemas.openxmlformats.org/officeDocument/2006/relationships/hyperlink" Target="http://www.ietf.org/mail-archive/web/ccamp/current/msg00644.html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89913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sage of The RSVP Association Object</a:t>
            </a:r>
            <a:br>
              <a:rPr sz="3200"/>
            </a:br>
            <a:br>
              <a:rPr sz="1200"/>
            </a:br>
            <a:r>
              <a:rPr b="0" i="1" lang="en-US" sz="4000" spc="-1" strike="noStrike" u="sng">
                <a:solidFill>
                  <a:srgbClr val="e5d093"/>
                </a:solidFill>
                <a:uFillTx/>
                <a:latin typeface="Times New Roman"/>
                <a:hlinkClick r:id="rId1"/>
              </a:rPr>
              <a:t>draft-berger-ccamp-assoc-info-01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0720" y="4876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ou Berger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&lt;lberger@labn.ne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ancois Le Faucheu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&lt;flefauch@cisco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shok Narayan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&lt;ashokn@cisco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CAMP - 77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112E-EB70-4DF8-AC06-F02EB0797B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Genesis of work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7631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covery LSP association -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es it wor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stion raised by Nic Ne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cussed in IETFs 72 &amp; 73 and e-ma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IETF 74: WG agreed to publish individua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formatio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so that perceived issue can be clo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IETF 75&amp;76: this draft present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es the association object look like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to end reco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-B-C-D-E, A-F-G-H-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gment recover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B-G-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4915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4915080"/>
            <a:ext cx="16002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343040" y="4991040"/>
            <a:ext cx="15238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4686480"/>
            <a:ext cx="457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686480"/>
            <a:ext cx="457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38880" y="4686480"/>
            <a:ext cx="457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4686480"/>
            <a:ext cx="457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5981760"/>
            <a:ext cx="457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514368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5981760"/>
            <a:ext cx="457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600200" y="514332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621036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648320" y="62103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95520" y="514368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5067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15000" y="4686480"/>
            <a:ext cx="457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5981760"/>
            <a:ext cx="457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30080" y="4776840"/>
            <a:ext cx="6635880" cy="1700280"/>
            <a:chOff x="730080" y="4776840"/>
            <a:chExt cx="6635880" cy="1700280"/>
          </a:xfrm>
        </p:grpSpPr>
        <p:sp>
          <p:nvSpPr>
            <p:cNvPr id="105" name=""/>
            <p:cNvSpPr/>
            <p:nvPr/>
          </p:nvSpPr>
          <p:spPr>
            <a:xfrm>
              <a:off x="1600200" y="4776840"/>
              <a:ext cx="5673600" cy="71280"/>
            </a:xfrm>
            <a:custGeom>
              <a:avLst/>
              <a:gdLst/>
              <a:ahLst/>
              <a:rect l="l" t="t" r="r" b="b"/>
              <a:pathLst>
                <a:path w="3574" h="45">
                  <a:moveTo>
                    <a:pt x="0" y="39"/>
                  </a:moveTo>
                  <a:cubicBezTo>
                    <a:pt x="260" y="39"/>
                    <a:pt x="520" y="39"/>
                    <a:pt x="816" y="39"/>
                  </a:cubicBezTo>
                  <a:cubicBezTo>
                    <a:pt x="1112" y="39"/>
                    <a:pt x="1448" y="45"/>
                    <a:pt x="1776" y="39"/>
                  </a:cubicBezTo>
                  <a:cubicBezTo>
                    <a:pt x="2104" y="33"/>
                    <a:pt x="2487" y="8"/>
                    <a:pt x="2787" y="4"/>
                  </a:cubicBezTo>
                  <a:cubicBezTo>
                    <a:pt x="3087" y="0"/>
                    <a:pt x="3410" y="14"/>
                    <a:pt x="3574" y="17"/>
                  </a:cubicBezTo>
                </a:path>
              </a:pathLst>
            </a:cu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080" y="5048280"/>
              <a:ext cx="6635880" cy="1428840"/>
            </a:xfrm>
            <a:custGeom>
              <a:avLst/>
              <a:gdLst/>
              <a:ahLst/>
              <a:rect l="l" t="t" r="r" b="b"/>
              <a:pathLst>
                <a:path w="4180" h="900">
                  <a:moveTo>
                    <a:pt x="360" y="29"/>
                  </a:moveTo>
                  <a:cubicBezTo>
                    <a:pt x="383" y="135"/>
                    <a:pt x="0" y="540"/>
                    <a:pt x="500" y="667"/>
                  </a:cubicBezTo>
                  <a:cubicBezTo>
                    <a:pt x="1000" y="794"/>
                    <a:pt x="2750" y="900"/>
                    <a:pt x="3363" y="789"/>
                  </a:cubicBezTo>
                  <a:cubicBezTo>
                    <a:pt x="3976" y="678"/>
                    <a:pt x="4010" y="164"/>
                    <a:pt x="4180" y="0"/>
                  </a:cubicBezTo>
                </a:path>
              </a:pathLst>
            </a:custGeom>
            <a:noFill/>
            <a:ln w="255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371600" y="514368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4838760"/>
            <a:ext cx="2819160" cy="1219320"/>
          </a:xfrm>
          <a:custGeom>
            <a:avLst/>
            <a:gdLst/>
            <a:ahLst/>
            <a:rect l="l" t="t" r="r" b="b"/>
            <a:pathLst>
              <a:path w="1776" h="624">
                <a:moveTo>
                  <a:pt x="0" y="0"/>
                </a:moveTo>
                <a:cubicBezTo>
                  <a:pt x="284" y="312"/>
                  <a:pt x="568" y="624"/>
                  <a:pt x="864" y="624"/>
                </a:cubicBezTo>
                <a:cubicBezTo>
                  <a:pt x="1160" y="624"/>
                  <a:pt x="1468" y="312"/>
                  <a:pt x="1776" y="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AMP - 77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0647-11F6-4816-8016-A17004D40C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-00 Draf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w procedures or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essentially formal write of Adrian’s E-mail on the top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Subjec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Re: Clearing up your misunderstanding of the Association ID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"Adrian Farrel" &lt;</a:t>
            </a:r>
            <a:r>
              <a:rPr b="0" lang="en-US" sz="1600" spc="-1" strike="noStrike" u="sng">
                <a:solidFill>
                  <a:srgbClr val="e5d093"/>
                </a:solidFill>
                <a:uFillTx/>
                <a:latin typeface="Tahoma"/>
                <a:hlinkClick r:id="rId3"/>
              </a:rPr>
              <a:t>adrian</a:t>
            </a:r>
            <a:r>
              <a:rPr b="0" lang="en-US" sz="1600" spc="-1" strike="noStrike" u="sng">
                <a:solidFill>
                  <a:srgbClr val="e5d093"/>
                </a:solidFill>
                <a:uFillTx/>
                <a:latin typeface="Tahoma"/>
                <a:hlinkClick r:id="rId4"/>
              </a:rPr>
              <a:t> at </a:t>
            </a:r>
            <a:r>
              <a:rPr b="0" lang="en-US" sz="1600" spc="-1" strike="noStrike" u="sng">
                <a:solidFill>
                  <a:srgbClr val="e5d093"/>
                </a:solidFill>
                <a:uFillTx/>
                <a:latin typeface="Tahoma"/>
                <a:hlinkClick r:id="rId5"/>
              </a:rPr>
              <a:t>olddog.co.u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gt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D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Tue, 18 Nov 2008 22:34:14 -0000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5d093"/>
                </a:solidFill>
                <a:uFillTx/>
                <a:latin typeface="Tahoma"/>
                <a:hlinkClick r:id="rId6"/>
              </a:rPr>
              <a:t>http://www.ietf.org/mail-archive/web/ccamp/current/msg00644.ht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s ASSOCIATION Object as defined 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4872 and RFC 487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iews object defi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zes conformance (RFC2119) language of e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valid Association ID use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receiver processing to handle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AMP - 77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AAA9-F495-4E52-9291-486B2F4C00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But…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was related work happening in the context of RSV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ft-narayanan-tsvwg-rsvp-resource-sha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IETF 76: Requested to expand association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more general usage MPLS, GMPLS, non-L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Resv / downstream based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AMP - 77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BDA1-EFC2-4B97-860F-C9ABDC8BE4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-01 Chang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Tr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don’t modify usage for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informational guidance from -00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on-Recovery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se recovery r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ch LSPs with identical ASSOCIATION objec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ype, ID, &amp; 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associations are possible all association objects need to examin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for association based on Path or Resv messag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stream Initiated Association (Path state match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stream Initiated Association (Resv state match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ross-direction associ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AMP - 77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9E9E-4395-4C81-8EAC-B3A77C2811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-01 Changes (cont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extended Association Identifi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new C-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ID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AMP - 77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C3FB-88B2-424F-9D81-A2558E8FC5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Next Step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chang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for non-GMPLS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for Downstream Initiated Association (Res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ID C-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osed next ste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G Documen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AMP - 77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777A-95DD-4001-B0D2-14759CB8D6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0:54:37Z</dcterms:created>
  <dc:creator>Lou Berger</dc:creator>
  <dc:description/>
  <dc:language>en-US</dc:language>
  <cp:lastModifiedBy>Lou Berger</cp:lastModifiedBy>
  <dcterms:modified xsi:type="dcterms:W3CDTF">2010-03-21T01:50:32Z</dcterms:modified>
  <cp:revision>156</cp:revision>
  <dc:subject/>
  <dc:title>Usage of The RSVP Association Object</dc:title>
</cp:coreProperties>
</file>