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4B9-DDF9-43C2-B70E-74227209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40E-533C-4D5C-AFBE-771CE59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C58-F02E-4FCD-8C08-4B7F9558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BD8-52B3-41D2-9EAB-9888EED9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17B-0B67-42E1-890D-560049CE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F429-EEB7-479E-9956-3330BA55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D51-9B67-4D3E-BF23-FB3C9277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074-567B-4DE8-9C91-F0A5BFEE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3F4-2CAD-40D9-860B-B8C6A3E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A9E-924F-4611-BDF6-2AD2EFA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205C-6353-463C-B221-6D6EDBA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C47-92A7-44CF-B7D8-66F3367E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E8B5-E626-4DF4-A040-38B79C6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3515-E91C-427F-A532-5DAFBDD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149-BE51-4531-BDB8-9EC90FF7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AF8-A121-4708-AEE1-7D9CF97D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323A-3200-4C69-B197-DDFC8DE5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CB3-E40C-4BF5-B707-DEB6579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57D-1A39-4EE2-8BB3-B045854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E39-2700-401B-AE9F-3F61367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298-F75B-490E-BCB7-6F084EB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FDD-5EDF-4913-A100-77A0B6D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49D-022A-4B9E-ACE2-2F08130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A00-915E-4926-B245-2A07A6C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926-4EE1-4B34-8F08-5B80FB49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81F3-8167-47B1-BF08-8A8EFD09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berger-ccamp-assoc-info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mailto:adrian@DOMAIN.HIDDEN" TargetMode="External"/><Relationship Id="rId4" Type="http://schemas.openxmlformats.org/officeDocument/2006/relationships/hyperlink" Target="mailto:adrian@DOMAIN.HIDDEN" TargetMode="External"/><Relationship Id="rId5" Type="http://schemas.openxmlformats.org/officeDocument/2006/relationships/hyperlink" Target="mailto:adrian@DOMAIN.HIDDEN" TargetMode="External"/><Relationship Id="rId6" Type="http://schemas.openxmlformats.org/officeDocument/2006/relationships/hyperlink" Target="http://www.ietf.org/mail-archive/web/ccamp/current/msg00644.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91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age of The RSVP Association Object</a:t>
            </a:r>
            <a:br>
              <a:rPr sz="3200"/>
            </a:br>
            <a:br>
              <a:rPr sz="1200"/>
            </a:br>
            <a:r>
              <a:rPr b="0" i="1" lang="en-US" sz="40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draft-berger-ccamp-assoc-info-01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u Berg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lberger@labn.ne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ancois Le Faucheu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&lt;flefauch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shok Narayan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&lt;ashokn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4BB-54F8-440D-B639-63461B122B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Genesis of wor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covery LSP association -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 raised by Nic Ne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ussed in IETFs 72 &amp; 73 and e-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IETF 74: WG agreed to publish individua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tio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so that perceived issue can be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IETF 75&amp;76: this draft presen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es the association object look lik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to end reco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-B-C-D-E, A-F-G-H-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gment recove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-G-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915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15080"/>
            <a:ext cx="1600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343040" y="499104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14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00200" y="5143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62103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48320" y="62103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95520" y="5143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506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68648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598176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30080" y="4776840"/>
            <a:ext cx="6635880" cy="1700280"/>
            <a:chOff x="730080" y="4776840"/>
            <a:chExt cx="6635880" cy="1700280"/>
          </a:xfrm>
        </p:grpSpPr>
        <p:sp>
          <p:nvSpPr>
            <p:cNvPr id="105" name=""/>
            <p:cNvSpPr/>
            <p:nvPr/>
          </p:nvSpPr>
          <p:spPr>
            <a:xfrm>
              <a:off x="1600200" y="4776840"/>
              <a:ext cx="5673600" cy="71280"/>
            </a:xfrm>
            <a:custGeom>
              <a:avLst/>
              <a:gdLst/>
              <a:ahLst/>
              <a:rect l="l" t="t" r="r" b="b"/>
              <a:pathLst>
                <a:path w="3574" h="45">
                  <a:moveTo>
                    <a:pt x="0" y="39"/>
                  </a:moveTo>
                  <a:cubicBezTo>
                    <a:pt x="260" y="39"/>
                    <a:pt x="520" y="39"/>
                    <a:pt x="816" y="39"/>
                  </a:cubicBezTo>
                  <a:cubicBezTo>
                    <a:pt x="1112" y="39"/>
                    <a:pt x="1448" y="45"/>
                    <a:pt x="1776" y="39"/>
                  </a:cubicBezTo>
                  <a:cubicBezTo>
                    <a:pt x="2104" y="33"/>
                    <a:pt x="2487" y="8"/>
                    <a:pt x="2787" y="4"/>
                  </a:cubicBezTo>
                  <a:cubicBezTo>
                    <a:pt x="3087" y="0"/>
                    <a:pt x="3410" y="14"/>
                    <a:pt x="3574" y="17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080" y="5048280"/>
              <a:ext cx="6635880" cy="1428840"/>
            </a:xfrm>
            <a:custGeom>
              <a:avLst/>
              <a:gdLst/>
              <a:ahLst/>
              <a:rect l="l" t="t" r="r" b="b"/>
              <a:pathLst>
                <a:path w="4180" h="900">
                  <a:moveTo>
                    <a:pt x="360" y="29"/>
                  </a:moveTo>
                  <a:cubicBezTo>
                    <a:pt x="383" y="135"/>
                    <a:pt x="0" y="540"/>
                    <a:pt x="500" y="667"/>
                  </a:cubicBezTo>
                  <a:cubicBezTo>
                    <a:pt x="1000" y="794"/>
                    <a:pt x="2750" y="900"/>
                    <a:pt x="3363" y="789"/>
                  </a:cubicBezTo>
                  <a:cubicBezTo>
                    <a:pt x="3976" y="678"/>
                    <a:pt x="4010" y="164"/>
                    <a:pt x="4180" y="0"/>
                  </a:cubicBezTo>
                </a:path>
              </a:pathLst>
            </a:custGeom>
            <a:noFill/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1600" y="514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838760"/>
            <a:ext cx="2819160" cy="1219320"/>
          </a:xfrm>
          <a:custGeom>
            <a:avLst/>
            <a:gdLst/>
            <a:ahLst/>
            <a:rect l="l" t="t" r="r" b="b"/>
            <a:pathLst>
              <a:path w="1776" h="624">
                <a:moveTo>
                  <a:pt x="0" y="0"/>
                </a:moveTo>
                <a:cubicBezTo>
                  <a:pt x="284" y="312"/>
                  <a:pt x="568" y="624"/>
                  <a:pt x="864" y="624"/>
                </a:cubicBezTo>
                <a:cubicBezTo>
                  <a:pt x="1160" y="624"/>
                  <a:pt x="1468" y="312"/>
                  <a:pt x="1776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7BB-5954-46F8-BD45-C2AEBA684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0 Draf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w procedures or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essentially formal write of Adrian’s E-mail on the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Re: Clearing up your misunderstanding of the Association I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"Adrian Farrel" &lt;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3"/>
              </a:rPr>
              <a:t>adrian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4"/>
              </a:rPr>
              <a:t> at </a:t>
            </a: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5"/>
              </a:rPr>
              <a:t>olddog.co.u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ue, 18 Nov 2008 22:34:14 -000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093"/>
                </a:solidFill>
                <a:uFillTx/>
                <a:latin typeface="Tahoma"/>
                <a:hlinkClick r:id="rId6"/>
              </a:rPr>
              <a:t>http://www.ietf.org/mail-archive/web/ccamp/current/msg00644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s ASSOCIATION Object as defined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4872 and RFC 48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s object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s conformance (RFC2119) language of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valid Association ID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receiver processing to handl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941-AE19-4A2C-81CA-3668AF0F7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ut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was related work happening in the context of RSV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-narayanan-tsvwg-rsvp-resource-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IETF 76: Requested to expand association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ore general usage MPLS, GMPLS, non-L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Resv / downstream based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F26-9189-42A7-A1B6-729D51A64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1 Cha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don’t modify usage for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informational guidance from -00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on-Recovery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se recovery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 LSPs with identical ASSOCIATION obje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, ID, &amp; 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ssociations are possible all association objects need to exam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association based on Path or Resv messag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stream Initiated Association (Path state match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stream Initiated Association (Resv state match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ross-direction associ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0A2-A823-4C55-BE9F-5AD013046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-01 Changes (cont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extended Association Ident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new C-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ID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949-E401-41C3-8925-AFAAF47C14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non-GMPLS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Downstream Initiated Association (Res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ID C-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7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625-E8C6-48F0-A1CF-261C25BC5A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Lou Berger</dc:creator>
  <dc:description/>
  <dc:language>en-US</dc:language>
  <cp:lastModifiedBy>Lou Berger</cp:lastModifiedBy>
  <dcterms:modified xsi:type="dcterms:W3CDTF">2010-03-21T01:50:32Z</dcterms:modified>
  <cp:revision>156</cp:revision>
  <dc:subject/>
  <dc:title>Usage of The RSVP Association Object</dc:title>
</cp:coreProperties>
</file>