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3D67-6154-4ECB-8306-B7629FF54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2BB6-CFE6-4F1E-BD44-085E4BB8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368C-C5DF-40F5-8813-5DF9E956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D907-0DB4-44E5-8F7C-8EEC3DB98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5C63-5692-419A-8F5B-9212EA86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8F4F-2E8A-4DF6-9548-35046427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0C3A-FC01-467B-91C8-D474E7BD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25F0-304C-4AA3-978A-F921772A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1BB9-DF94-45EC-BA7F-3CC85FFD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B863-7F99-40F7-8FAE-75E160BD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5A0C-120C-47D0-9568-8E446D5E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6D5C-2880-4441-9DAA-09432E80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940B-2E26-4225-AC45-54B45F800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yong@ciena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U-T/OIF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F 77 – Anaheim – Mar’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. Ong (Ciena)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yong@ciena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ks to Malcolm Betts &amp; Kam Lam for ITU-T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F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IF met February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d work on 100G interface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networking pro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layer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-to-end multi-domain rest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 in PCE applications and new OTN ext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Liaisons to IETF CC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F Liai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ed proposal on ASON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to update RFC 5787 work with minor format changes based on testing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believe this should help move ASON routing to standards track due to the presence of running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ong-gmpls-ason-routing-exper-01.txt (review Tuesd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draft on LSP hierarchy for ASON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problem statement for potential GMPLS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to identify client layer in flexible adap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to configure adjacency with client layer controller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to support separation of controller ID and control plane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roch-ccamp-reqts-auto-adj-00.txt (also Tuesd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U-T SG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t Q.12&amp;14/15 Meeting – 3/10 Darmsta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.14/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77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revision ap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s multilayer model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77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 protection discovery – still under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771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 topology dissemination – modeling being discussed in Q.12/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the G.800 and G.8080 multi-layer topologies for multi-layer path computation – study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iaisons to CC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.12/15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.8080 Amd 2 (ASON architec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the concept of transitional links (client-server/server-cli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ieved to be compatible with IETF WSON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ng dissemination of ring maps via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 of ring as subnetwork or RA, including constraints and termination on a single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.872 Amd 2 (OTN architec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ing OTN enhancements and updating OTN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elated Liaison to CC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Q.12/15 Liaison to CCA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.12/15 is updating G.872 (OTN Architecture) as described in report to IETF 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 ch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U is a single layer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bit rate is a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a number of new requirements on control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new ODU rates ODU0, ODU4 and ODUF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new server layer (OTU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advertise maximum payload bandwidth on link as well as available B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, largest ODUFlex rate that can be supported this may be less than total available BW due to fragmentation across component li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ce between service rate and link rate used for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indicate payload bit rate for the call so that number of TS required and location of stuff opportunities can be computed per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21:54:55Z</dcterms:created>
  <dc:creator>CIENA Corporation</dc:creator>
  <dc:description/>
  <dc:language>en-US</dc:language>
  <cp:lastModifiedBy>lyong</cp:lastModifiedBy>
  <dcterms:modified xsi:type="dcterms:W3CDTF">2010-03-18T19:16:26Z</dcterms:modified>
  <cp:revision>68</cp:revision>
  <dc:subject/>
  <dc:title>ITU/OIF Report</dc:title>
</cp:coreProperties>
</file>