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227-F2AA-4F7B-A760-20654743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1E5-F3D2-4BFF-88DB-A5848640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871-5AC0-4130-A822-7651A3A9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55F-67E7-4A5B-8328-850D85B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C37-6CBF-433B-AB9A-77D60C3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F99-29D5-4685-AFB8-531219D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B61-0F32-41C0-91FC-9D2455C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D69-064D-4ECA-9EE9-CFCB0731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12A-795C-4FBD-8C88-43E64B09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908-296B-4371-A292-5EE8AEF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B72-DC9F-41E3-A59E-1C9D60C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9C5-63AA-4E27-8C4A-92363E3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D2FB-965E-41F4-ADBD-6F90EBAF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-T/OI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alcolm Betts &amp; Kam Lam for ITU-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F met Februar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work on 100G interfac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etworking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ay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multi-domain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in PCE applications and new OTN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iaisons to IETF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posal on ASO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o update RFC 5787 work with minor format changes based on testing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believe this should help move ASON routing to standards track due to the presence of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ong-gmpls-ason-routing-exper-01.txt (review Tues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raft on LSP hierarchy for AS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problem statement for potential GMPL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identify client layer in flexible 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configure adjacency with client layer controll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support separation of controller ID and control plan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roch-ccamp-reqts-auto-adj-00.txt (also Tues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Q.12&amp;14/15 Meeting – 3/10 Darm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.14/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vision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multilayer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 protection discovery – still unde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 topology dissemination – modeling being discussed in Q.12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G.800 and G.8080 multi-layer topologies for multi-layer path computation – study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aisons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12/15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8080 Amd 2 (ASON archit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the concept of transitional links (client-server/server-cl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to be compatible with IETF WS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dissemination of ring maps via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ring as subnetwork or RA, including constraints and termination on a sing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872 Amd 2 (OTN archit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ing OTN enhancements and updating OT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lated Liaison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.12/15 Liaison to 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12/15 is updating G.872 (OTN Architecture) as described in report to IETF 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U is a single lay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it rate i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number of new requirements on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new ODU rates ODU0, ODU4 and 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new server layer (OTU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vertise maximum payload bandwidth on link as well as available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largest ODUFlex rate that can be supported this may be less than total available BW due to fragmentation across componen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 between service rate and link rate us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ndicate payload bit rate for the call so that number of TS required and location of stuff opportunities can be computed per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18T19:16:26Z</dcterms:modified>
  <cp:revision>68</cp:revision>
  <dc:subject/>
  <dc:title>ITU/OIF Report</dc:title>
</cp:coreProperties>
</file>