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A5F2-DCBE-43CC-8DA4-E0196A389C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ordinate draft of the DPPM d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测量报文格式（时标、序号的携带），以及测试的过程等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0DCA-F25E-4111-8D16-8FBDBFFC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FDF-90CA-46A8-AA14-BCCCB905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2EF-33A0-468C-B6F7-5759A264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A580-A935-4C90-810A-5B4323FD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E74-F8B5-4959-B9B2-256313C0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0091-F2B0-416F-A132-99E4C0A5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BB0-0523-47A4-A1C9-5B9D75D3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C5E-037B-40D0-ADB0-0830602C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5AEA-DB66-4A9D-9CFF-965BC4EA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7CF-C391-4A87-8FA6-059D1F5D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DC6-26FE-4755-96EE-CC6B4206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73A-7DAA-4CA9-89F6-B2F469AF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D979-3C69-4CE8-B9CF-AC09703878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3996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sun-ccamp-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p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01.t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80880" y="1828800"/>
            <a:ext cx="9524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bel Switched Path (LSP)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a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h Delay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ric in Generalized MPLS/MPLS-TE Network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209680" y="3962520"/>
            <a:ext cx="55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DPPM author 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uoying Zha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 zhangguoying@mail.ritt.com.cn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-sun-ccamp-dpm-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Work on the DPPM draft is now complet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w RFC 5814, a proposed standar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  defines metrics and methodologies for control plane LSP delay, with the following assumptio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mplementations are conformant with RSVP-TE spec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ata paths are ready to forward traffic at respective signaling points [2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 errors occurs in cross-connect programm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For some reasons, implementations may be less than ideal [1]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ipelined cross-connect programm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ifficult to get programming statu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ation deficienc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urpose of the DMP draf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verify data path </a:t>
            </a: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availability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upon completion of signal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measure </a:t>
            </a: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delay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e.g., delay between completion of signaling and when data path is avail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919080" y="5938920"/>
            <a:ext cx="31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draft-shiomoto-ccamp-switch-program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-sun-ccamp-dpm-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ses the same document framework as RFC58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ngle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tisti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only difference is that we define Sample in a general way, so no need to define Samples for different Singleton values separatel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duced length, increased readabil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fines three data path related metr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RRF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the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ay from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V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ceived to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rward data path becomes avail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RSR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the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ay from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V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t to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versed data path becomes avail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PRF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the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ay from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H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ceived to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rward data path becomes avail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in the -01 re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orporated some comments we received for the DPPM draft during the WGLC and IESG review process, mostly editori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[A singleton metric is]Either a real number or an undefined number of milli-seconds.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[A singleton metric is] Either a real number of milli-seconds or undefin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i-directional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idirectio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riched Security Considerations s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on the intended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tandards track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nformation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as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used a general term “error free signal” for all possible data plane implement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specific data plane technology is addressed in det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us more suitable for informational stat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, we want to reduce the time to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504d"/>
                </a:solidFill>
                <a:latin typeface="Calibri"/>
              </a:rPr>
              <a:t>One more reas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Calibri"/>
              </a:rPr>
              <a:t>We are considering composing another draft, for DPM measurement  in the special case of packet capable interfa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need to specify a “measurement protocol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ope that the WG could take on it as a working i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se the draft according feedbacks from the W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cit comments/suggestions on the necessity of composing a standard track draft for DPM on packet interf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11:53Z</dcterms:created>
  <dc:creator>Weiqiang Sun</dc:creator>
  <dc:description/>
  <dc:language>en-US</dc:language>
  <cp:lastModifiedBy>zhangguoying</cp:lastModifiedBy>
  <dcterms:modified xsi:type="dcterms:W3CDTF">2010-03-22T16:56:57Z</dcterms:modified>
  <cp:revision>15</cp:revision>
  <dc:subject/>
  <dc:title>draft-sun-ccamp-dpm-01.txt</dc:title>
</cp:coreProperties>
</file>