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83C6-33F3-41EE-8309-22E0AEC73B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ordinate draft of the DPPM d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测量报文格式（时标、序号的携带），以及测试的过程等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438-B602-45E5-87A6-F372B5AB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2ED-2357-4DDE-A775-DE0A4898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488-F346-4332-875E-A209DDAB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CD1-BA7E-49E5-9FC8-45DF4CF3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578-50E4-48E9-BB8C-8E0DE8B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CA5-4BB9-4204-BD38-A4D8514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DF4-91C0-4AC0-9CE7-0365F8CD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D93-5D37-462E-9C16-23BCD6FB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6F5-19F0-4366-9E2D-C093AABD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D83-19BE-4303-BD8D-D64DC3E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6D9-5F83-41F9-AD6D-2C873B9F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46F-6C14-4F6F-A4E4-F6EF605C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6205-6E5B-4EE9-BD55-86F0F1B299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399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sun-ccamp-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p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01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80880" y="182880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el Switched Path (LSP)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h Dela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ric in Generalized MPLS/MPLS-TE Network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09680" y="3962520"/>
            <a:ext cx="55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PPM author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oying Zha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 zhangguoying@mail.ritt.com.cn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-sun-ccamp-dpm-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ork on the DPPM draft is now comple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w RFC 5814, a proposed standar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  defines metrics and methodologies for control plane LSP delay, with the following assump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mplementations are conformant with RSVP-TE spe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paths are ready to forward traffic at respective signaling points [2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 errors occurs in cross-connect programm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For some reasons, implementations may be less than ideal [1]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ipelined cross-connect programm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fficult to get programming statu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ation deficienc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rpose of the DMP draf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verify data path 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availabilit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upon completion of signal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measure 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dela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e.g., delay between completion of signaling and when data path is avail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919080" y="5938920"/>
            <a:ext cx="31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draft-shiomoto-ccamp-switch-progra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-sun-ccamp-dpm-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s the same document framework as RFC58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ngle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nly difference is that we define Sample in a general way, so no need to define Samples for different Singleton values separatel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duced length, increased reada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fines three data path related metr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RF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ay from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eived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ward data path becomes avail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SR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ay from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t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ersed data path becomes avail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PRF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ay from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H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eived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ward data path becomes avail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the -01 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porated some comments we received for the DPPM draft during the WGLC and IESG review process, mostly editor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[A singleton metric is]Either a real number or an undefined number of milli-seconds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[A singleton metric is] Either a real number of milli-seconds or undefin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-direction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direct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riched Security Considerations s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on the intended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tandards trac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format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s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used a general term “error free signal” for all possible data plane implemen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data plane technology is addressed in det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us more suitable for informational stat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, we want to reduce the time to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Calibri"/>
              </a:rPr>
              <a:t>One more reas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We are considering composing another draft, for DPM measurement  in the special case of packet capable interfa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need to specify a “measurement protocol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ope that the WG could take on it as a working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the draft according feedbacks from the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 comments/suggestions on the necessity of composing a standard track draft for DPM on packet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11:53Z</dcterms:created>
  <dc:creator>Weiqiang Sun</dc:creator>
  <dc:description/>
  <dc:language>en-US</dc:language>
  <cp:lastModifiedBy>zhangguoying</cp:lastModifiedBy>
  <dcterms:modified xsi:type="dcterms:W3CDTF">2010-03-22T16:56:57Z</dcterms:modified>
  <cp:revision>15</cp:revision>
  <dc:subject/>
  <dc:title>draft-sun-ccamp-dpm-01.txt</dc:title>
</cp:coreProperties>
</file>