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A31-42AF-4490-AE44-26725B1C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C3E-4F3B-41ED-8148-3087D906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F52-9A2D-4317-B803-25A1FC6C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C83-1D41-443B-B7BE-CB006545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4D9-C5FE-46CD-82EB-756F0A01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764-47DF-4582-8BF1-422D08A6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482-A194-4A38-A5FD-99710890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B48-9AB9-4AFF-B29E-E8F49B61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7DB-0BB8-49C8-ADE9-0BF6B986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95E-460B-4519-9D0C-323AD1EC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FD0-DA1F-44B6-A7C2-233B70E9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117-908F-4E7D-851F-C33782A6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2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2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2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025C-5434-4B48-8B57-3E052AAA5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mallBlue" descr=""/>
          <p:cNvPicPr/>
          <p:nvPr/>
        </p:nvPicPr>
        <p:blipFill>
          <a:blip r:embed="rId2"/>
          <a:stretch/>
        </p:blipFill>
        <p:spPr>
          <a:xfrm>
            <a:off x="8294760" y="668988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42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xtfooterCopy"/>
          <p:cNvSpPr/>
          <p:nvPr/>
        </p:nvSpPr>
        <p:spPr>
          <a:xfrm>
            <a:off x="76320" y="6622920"/>
            <a:ext cx="2539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6360" y="2394000"/>
            <a:ext cx="8531280" cy="16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9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takacs-ccamp-revertive-ps-04.txt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GMPLS RSVP-TE Recovery Extension for data plane initiated reversion and protection timer signalling</a:t>
            </a:r>
            <a:br>
              <a:rPr sz="3600"/>
            </a:br>
            <a:br>
              <a:rPr sz="1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takacs-ccamp-revertive-ps-04.tx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Attila Takacs – Ericsson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258"/>
                </a:solidFill>
                <a:latin typeface="Arial"/>
              </a:rPr>
              <a:t>Francesco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3258"/>
                </a:solidFill>
                <a:latin typeface="Arial"/>
              </a:rPr>
              <a:t>Fondelli – Ericsson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258"/>
                </a:solidFill>
                <a:latin typeface="Arial"/>
              </a:rPr>
              <a:t>Benoit Tremblay – Ericsson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6216480"/>
            <a:ext cx="2133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ETF-77 Anahe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EF2-7059-4BE6-A99B-F50DB369D0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09487"/>
                </a:solidFill>
                <a:latin typeface="Arial"/>
              </a:rPr>
              <a:t>Background, Motivation and Objectives</a:t>
            </a:r>
            <a:endParaRPr b="0" lang="en-US" sz="36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64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Currently RSVP-TE extensions do not address the configuration of protection switching timers neither provide information on the protection switching operation mode (i.e., revertive or non- revertive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-37476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Hold-off time (HOFF) [RFC4427]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2" marL="1828800" indent="-362880">
              <a:lnSpc>
                <a:spcPct val="80000"/>
              </a:lnSpc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ime between the reporting of signal fail or degrade, and the initialization of the recovery switching operation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828800" indent="0">
              <a:lnSpc>
                <a:spcPct val="8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-37476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it-to-Restore time (WTR) [RFC4427]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2" marL="1828800" indent="-362880">
              <a:lnSpc>
                <a:spcPct val="80000"/>
              </a:lnSpc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ime that must elapse after a recovered fault before an LSP can be used again to transport the normal traffic and/or to select the normal traffic from the LSP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828800" indent="0">
              <a:lnSpc>
                <a:spcPct val="8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-37476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Reversion refers to the process of moving normal traffic back to the original working LSP after the failure is cleared and the path is repaired [RFC4427]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These parameters are important for recovery in any transport network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-37476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GMPLS RSVP-TE signaling should be able to carry the necessary information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-37476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Also required for MPLS-TP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Proposal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Update Protection Object format (C-Type 2) allowing sub-TLVs 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Eases future extensions of the Protection Objec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Length             | Class-Num(37) | C-Type(2 IANA)|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S|P|N|O| Reserved  | LSP Flags |      Reserved     | Link Flags|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I|R|     Reserved  | Seg.Flags |          Reserved             | 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                           sub-TLVs                           ~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ntroduce WTR and HOFF sub-TLV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819520"/>
            <a:ext cx="1676520" cy="457200"/>
          </a:xfrm>
          <a:prstGeom prst="ellipse">
            <a:avLst/>
          </a:prstGeom>
          <a:noFill/>
          <a:ln w="28440">
            <a:solidFill>
              <a:srgbClr val="0094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191120"/>
            <a:ext cx="1676160" cy="457200"/>
          </a:xfrm>
          <a:prstGeom prst="ellipse">
            <a:avLst/>
          </a:prstGeom>
          <a:noFill/>
          <a:ln w="28440">
            <a:solidFill>
              <a:srgbClr val="0094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dentified in MPLS-TP Control Plane Framework as needed extension to fulfill TP requirement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abfb-mpls-tp-control-plane-framework-02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Adopt as WG document or progress the proposal together with other protection extension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4:10:15Z</dcterms:created>
  <dc:creator/>
  <dc:description>Rev PA1</dc:description>
  <cp:keywords/>
  <dc:language>en-US</dc:language>
  <cp:lastModifiedBy>Attila Takacs</cp:lastModifiedBy>
  <dcterms:modified xsi:type="dcterms:W3CDTF">2010-03-22T05:37:02Z</dcterms:modified>
  <cp:revision>2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7-1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/>
  </property>
  <property fmtid="{D5CDD505-2E9C-101B-9397-08002B2CF9AE}" pid="12" name="MiddleFooterField">
    <vt:lpwstr>Ericsson Confidential</vt:lpwstr>
  </property>
  <property fmtid="{D5CDD505-2E9C-101B-9397-08002B2CF9AE}" pid="13" name="Pages">
    <vt:bool>0</vt:bool>
  </property>
  <property fmtid="{D5CDD505-2E9C-101B-9397-08002B2CF9AE}" pid="14" name="Prepared">
    <vt:lpwstr/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7-15</vt:lpwstr>
  </property>
  <property fmtid="{D5CDD505-2E9C-101B-9397-08002B2CF9AE}" pid="19" name="SecurityClass">
    <vt:lpwstr>Ericsson Confidential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/A</vt:lpwstr>
  </property>
  <property fmtid="{D5CDD505-2E9C-101B-9397-08002B2CF9AE}" pid="23" name="TemplateVersion2">
    <vt:lpwstr>R1A/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Version">
    <vt:r8>1</vt:r8>
  </property>
  <property fmtid="{D5CDD505-2E9C-101B-9397-08002B2CF9AE}" pid="27" name="White">
    <vt:bool>1</vt:bool>
  </property>
  <property fmtid="{D5CDD505-2E9C-101B-9397-08002B2CF9AE}" pid="28" name="chkMetaData">
    <vt:bool>0</vt:bool>
  </property>
  <property fmtid="{D5CDD505-2E9C-101B-9397-08002B2CF9AE}" pid="29" name="chkTaglines">
    <vt:bool>1</vt:bool>
  </property>
  <property fmtid="{D5CDD505-2E9C-101B-9397-08002B2CF9AE}" pid="30" name="optEnterText1">
    <vt:bool>0</vt:bool>
  </property>
  <property fmtid="{D5CDD505-2E9C-101B-9397-08002B2CF9AE}" pid="31" name="optEnterText2">
    <vt:bool>0</vt:bool>
  </property>
  <property fmtid="{D5CDD505-2E9C-101B-9397-08002B2CF9AE}" pid="32" name="optEnterText3">
    <vt:bool>0</vt:bool>
  </property>
  <property fmtid="{D5CDD505-2E9C-101B-9397-08002B2CF9AE}" pid="33" name="optEnterText4">
    <vt:bool>0</vt:bool>
  </property>
  <property fmtid="{D5CDD505-2E9C-101B-9397-08002B2CF9AE}" pid="34" name="optFooterCVLConfLabel">
    <vt:bool>1</vt:bool>
  </property>
  <property fmtid="{D5CDD505-2E9C-101B-9397-08002B2CF9AE}" pid="35" name="optFooterCVLCopyright">
    <vt:bool>0</vt:bool>
  </property>
  <property fmtid="{D5CDD505-2E9C-101B-9397-08002B2CF9AE}" pid="36" name="optFooterCVLDate">
    <vt:bool>1</vt:bool>
  </property>
  <property fmtid="{D5CDD505-2E9C-101B-9397-08002B2CF9AE}" pid="37" name="optFooterCVLDocNo">
    <vt:bool>1</vt:bool>
  </property>
  <property fmtid="{D5CDD505-2E9C-101B-9397-08002B2CF9AE}" pid="38" name="optFooterCVLPrep">
    <vt:bool>0</vt:bool>
  </property>
  <property fmtid="{D5CDD505-2E9C-101B-9397-08002B2CF9AE}" pid="39" name="optFooterCVLTitle">
    <vt:bool>1</vt:bool>
  </property>
  <property fmtid="{D5CDD505-2E9C-101B-9397-08002B2CF9AE}" pid="40" name="optUseConfClass">
    <vt:bool>1</vt:bool>
  </property>
  <property fmtid="{D5CDD505-2E9C-101B-9397-08002B2CF9AE}" pid="41" name="optUseConfLabel">
    <vt:bool>0</vt:bool>
  </property>
  <property fmtid="{D5CDD505-2E9C-101B-9397-08002B2CF9AE}" pid="42" name="txtConfLabel">
    <vt:lpwstr>Ericsson Confidential</vt:lpwstr>
  </property>
  <property fmtid="{D5CDD505-2E9C-101B-9397-08002B2CF9AE}" pid="43" name="x">
    <vt:lpwstr>1</vt:lpwstr>
  </property>
</Properties>
</file>