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6360" y="2394000"/>
            <a:ext cx="8531280" cy="16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6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7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kern-ccamp-rsvpte-hop-attributes-00.tx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117880"/>
            <a:ext cx="853416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Use Cases and Alternatives for Configuring Intermediate Nodes using RSVP-TE</a:t>
            </a:r>
            <a:br>
              <a:rPr sz="3200"/>
            </a:br>
            <a:r>
              <a:rPr b="0" lang="en-US" sz="2400" spc="-1" strike="noStrike" u="sng">
                <a:solidFill>
                  <a:srgbClr val="0094d2"/>
                </a:solidFill>
                <a:uFillTx/>
                <a:latin typeface="Arial"/>
              </a:rPr>
              <a:t>draft-kern-ccamp-intermediate-node-config-00</a:t>
            </a:r>
            <a:br>
              <a:rPr sz="2400"/>
            </a:b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&amp;</a:t>
            </a:r>
            <a:br>
              <a:rPr sz="3200"/>
            </a:b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 Encoding of Attributes of LSP Intermediate Hops using RSVP-TE</a:t>
            </a:r>
            <a:br>
              <a:rPr sz="3200"/>
            </a:b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4d2"/>
                </a:solidFill>
                <a:uFillTx/>
                <a:latin typeface="Arial"/>
              </a:rPr>
              <a:t>draft-kern-ccamp-rsvpte-hop-attributes-00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41148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3258"/>
                </a:solidFill>
                <a:latin typeface="Arial"/>
              </a:rPr>
              <a:t>András Kern – Ericsson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258"/>
                </a:solidFill>
                <a:latin typeface="Arial"/>
              </a:rPr>
              <a:t>Attila Ta</a:t>
            </a:r>
            <a:r>
              <a:rPr b="1" i="1" lang="hu-HU" sz="2400" spc="-1" strike="noStrike">
                <a:solidFill>
                  <a:srgbClr val="003258"/>
                </a:solidFill>
                <a:latin typeface="Arial"/>
              </a:rPr>
              <a:t>kács – Ericsson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71560" y="64911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ETF-77 Anaheim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09487"/>
                </a:solidFill>
                <a:latin typeface="Arial"/>
                <a:ea typeface="Arial"/>
              </a:rPr>
              <a:t>Background, Motivation and Objectives</a:t>
            </a:r>
            <a:endParaRPr b="0" lang="en-US" sz="36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Multiple use-cases identified requiring specific configuration at intermediate nodes of an LSP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OAM Configuration of Non-Intrusive Monitoring Entitie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OAM Configuration for Tandem Connection Monitoring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WSON Regeneration, modulation type, FEC code change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lnSpc>
                <a:spcPct val="90000"/>
              </a:lnSpc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bernstein-ccamp-wson-signaling-06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PLS FRR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lnSpc>
                <a:spcPct val="90000"/>
              </a:lnSpc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dong-ccamp-rsvp-te-plr-designation-00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0">
              <a:lnSpc>
                <a:spcPct val="9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LSP Attributes  (RFC5420) primarily deals with attributes that are relevant to the whole LSP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urrently, it is not possible to declare and signal attributes to a specific intermediate hop of the LSP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3962520"/>
            <a:ext cx="8077320" cy="685800"/>
          </a:xfrm>
          <a:prstGeom prst="rect">
            <a:avLst/>
          </a:prstGeom>
          <a:solidFill>
            <a:srgbClr val="ffffc9"/>
          </a:solidFill>
          <a:ln w="38160">
            <a:solidFill>
              <a:srgbClr val="0032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calability issues raised in Hiroshima about adding a new “HOP_ATTRIBUTES” sub-object to the ERO to carry hop specified configuration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s document summarizes use cases and collects extension options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Using the LSP_ATTRIBUTES Object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Using the HOP_ATTRIBUTES Sub-Object in ERO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ombination of LSP_ATTRIBUTES and ERO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Using multiple message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908000" indent="-380880"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ultiple messages with semantic fragmentation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908000" indent="-380880"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Using other signaling messages/procedures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55960" y="396252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Discussed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in Hiroshima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urther discussion on alternatives…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For intermediate node configuration two methods may be needed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Support cases where path setup and intermediate node configuration need to be done congruently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For simple configurations only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Use the ERO with a new HOP_ATTRIBUTES Sub-Object 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draft-kern-ccamp-rsvpte-hop-attributes-00.txt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For complex configurations we may need to rely on multiple message exchanges to scale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Something along the lines of semantic fragmentation described for P2MP LSPs may be useful 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olicit feedback and comments from the WG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Other use-cases?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4:10:15Z</dcterms:created>
  <dc:creator/>
  <dc:description>Rev PA1</dc:description>
  <cp:keywords/>
  <dc:language>en-US</dc:language>
  <cp:lastModifiedBy>Attila Takacs</cp:lastModifiedBy>
  <dcterms:modified xsi:type="dcterms:W3CDTF">2010-03-22T05:54:34Z</dcterms:modified>
  <cp:revision>2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7-1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/>
  </property>
  <property fmtid="{D5CDD505-2E9C-101B-9397-08002B2CF9AE}" pid="12" name="MiddleFooterField">
    <vt:lpwstr>Ericsson Confidential</vt:lpwstr>
  </property>
  <property fmtid="{D5CDD505-2E9C-101B-9397-08002B2CF9AE}" pid="13" name="Pages">
    <vt:bool>0</vt:bool>
  </property>
  <property fmtid="{D5CDD505-2E9C-101B-9397-08002B2CF9AE}" pid="14" name="Prepared">
    <vt:lpwstr/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7-15</vt:lpwstr>
  </property>
  <property fmtid="{D5CDD505-2E9C-101B-9397-08002B2CF9AE}" pid="19" name="SecurityClass">
    <vt:lpwstr>Ericsson Confidential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/A</vt:lpwstr>
  </property>
  <property fmtid="{D5CDD505-2E9C-101B-9397-08002B2CF9AE}" pid="23" name="TemplateVersion2">
    <vt:lpwstr>R1A/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Version">
    <vt:r8>1</vt:r8>
  </property>
  <property fmtid="{D5CDD505-2E9C-101B-9397-08002B2CF9AE}" pid="27" name="White">
    <vt:bool>1</vt:bool>
  </property>
  <property fmtid="{D5CDD505-2E9C-101B-9397-08002B2CF9AE}" pid="28" name="chkMetaData">
    <vt:bool>0</vt:bool>
  </property>
  <property fmtid="{D5CDD505-2E9C-101B-9397-08002B2CF9AE}" pid="29" name="chkTaglines">
    <vt:bool>1</vt:bool>
  </property>
  <property fmtid="{D5CDD505-2E9C-101B-9397-08002B2CF9AE}" pid="30" name="optEnterText1">
    <vt:bool>0</vt:bool>
  </property>
  <property fmtid="{D5CDD505-2E9C-101B-9397-08002B2CF9AE}" pid="31" name="optEnterText2">
    <vt:bool>0</vt:bool>
  </property>
  <property fmtid="{D5CDD505-2E9C-101B-9397-08002B2CF9AE}" pid="32" name="optEnterText3">
    <vt:bool>0</vt:bool>
  </property>
  <property fmtid="{D5CDD505-2E9C-101B-9397-08002B2CF9AE}" pid="33" name="optEnterText4">
    <vt:bool>0</vt:bool>
  </property>
  <property fmtid="{D5CDD505-2E9C-101B-9397-08002B2CF9AE}" pid="34" name="optFooterCVLConfLabel">
    <vt:bool>1</vt:bool>
  </property>
  <property fmtid="{D5CDD505-2E9C-101B-9397-08002B2CF9AE}" pid="35" name="optFooterCVLCopyright">
    <vt:bool>0</vt:bool>
  </property>
  <property fmtid="{D5CDD505-2E9C-101B-9397-08002B2CF9AE}" pid="36" name="optFooterCVLDate">
    <vt:bool>1</vt:bool>
  </property>
  <property fmtid="{D5CDD505-2E9C-101B-9397-08002B2CF9AE}" pid="37" name="optFooterCVLDocNo">
    <vt:bool>1</vt:bool>
  </property>
  <property fmtid="{D5CDD505-2E9C-101B-9397-08002B2CF9AE}" pid="38" name="optFooterCVLPrep">
    <vt:bool>0</vt:bool>
  </property>
  <property fmtid="{D5CDD505-2E9C-101B-9397-08002B2CF9AE}" pid="39" name="optFooterCVLTitle">
    <vt:bool>1</vt:bool>
  </property>
  <property fmtid="{D5CDD505-2E9C-101B-9397-08002B2CF9AE}" pid="40" name="optUseConfClass">
    <vt:bool>1</vt:bool>
  </property>
  <property fmtid="{D5CDD505-2E9C-101B-9397-08002B2CF9AE}" pid="41" name="optUseConfLabel">
    <vt:bool>0</vt:bool>
  </property>
  <property fmtid="{D5CDD505-2E9C-101B-9397-08002B2CF9AE}" pid="42" name="txtConfLabel">
    <vt:lpwstr>Ericsson Confidential</vt:lpwstr>
  </property>
  <property fmtid="{D5CDD505-2E9C-101B-9397-08002B2CF9AE}" pid="43" name="x">
    <vt:lpwstr>1</vt:lpwstr>
  </property>
</Properties>
</file>