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67E-8E92-4F37-9162-CD71EA49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427-6E0F-4188-AB74-98CC9D60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A7E-FF47-42AE-A907-247F0D8F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F4E-2BAC-46DD-BB09-4CF789D1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F79-157A-48E6-BE77-ED43A6AB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5DA-4837-4BC0-94B4-88C6F333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0B1-A577-4C05-901E-582C70CB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865-193F-4B0B-A6D5-30DEE7BF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CB29-63F7-4A8A-A0CC-088DDCAB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234C-4AE3-44DD-8ED6-6ABB4C75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BEB-741A-4198-A0AE-0DF09D09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BEF-1884-45EC-8319-20D65DD5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0B54-9DA6-478A-A2FB-8500DA87A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6024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SVP-TE Extensions to Realize Dynamic Binding of Associated Bidirectional L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4130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LS/CCAMP WG, IETF 77th, Anaheim, 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raft-zhang-mpls-tp-rsvpte-ext-associated-lsp-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5791320" y="4749840"/>
            <a:ext cx="3352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Fei Zh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Fan Y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ZTE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55280" y="816120"/>
            <a:ext cx="6185160" cy="44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lem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1840" y="1691280"/>
            <a:ext cx="871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quiremen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FC5654/TP-CP-Frame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The end poi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f an associated bidirectional transport path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MUS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e aware of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the pairing relationshi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f the forward and backward paths used to support the bidirectional serv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des on the path of an associated bidirectional transport path where both the forward and backward direction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transit the same 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n the same (sub)layer as the path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SHOULD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e aware of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the pairing relationshi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f the forward and the backward directions of the transport pa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69960" y="290160"/>
            <a:ext cx="618480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sibl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5"/>
          <p:cNvSpPr/>
          <p:nvPr/>
        </p:nvSpPr>
        <p:spPr>
          <a:xfrm>
            <a:off x="208080" y="1225440"/>
            <a:ext cx="81676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GMPLS call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FC4974) may serve as the foundation (TP-CP-Framew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egotiate  call ID (notify mess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sociation 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 flipV="1">
            <a:off x="5878440" y="4380840"/>
            <a:ext cx="1117800" cy="330120"/>
          </a:xfrm>
          <a:prstGeom prst="wedgeRectCallout">
            <a:avLst>
              <a:gd name="adj1" fmla="val -145740"/>
              <a:gd name="adj2" fmla="val -931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24"/>
          <p:cNvSpPr/>
          <p:nvPr/>
        </p:nvSpPr>
        <p:spPr>
          <a:xfrm>
            <a:off x="5288040" y="4983120"/>
            <a:ext cx="2450880" cy="343080"/>
          </a:xfrm>
          <a:prstGeom prst="wedgeRectCallout">
            <a:avLst>
              <a:gd name="adj1" fmla="val -71180"/>
              <a:gd name="adj2" fmla="val 18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23"/>
          <p:cNvSpPr/>
          <p:nvPr/>
        </p:nvSpPr>
        <p:spPr>
          <a:xfrm>
            <a:off x="1165320" y="3284640"/>
            <a:ext cx="3695760" cy="622080"/>
          </a:xfrm>
          <a:prstGeom prst="wedgeRectCallout">
            <a:avLst>
              <a:gd name="adj1" fmla="val -17611"/>
              <a:gd name="adj2" fmla="val 2066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55"/>
          <p:cNvSpPr/>
          <p:nvPr/>
        </p:nvSpPr>
        <p:spPr>
          <a:xfrm>
            <a:off x="684360" y="2897280"/>
            <a:ext cx="566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new defined Association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ssociation (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aster/slave m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ssociation (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eer m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19"/>
          <p:cNvGraphicFramePr/>
          <p:nvPr/>
        </p:nvGraphicFramePr>
        <p:xfrm>
          <a:off x="438120" y="3992400"/>
          <a:ext cx="4597560" cy="15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3992400"/>
                    <a:ext cx="459756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21"/>
          <p:cNvSpPr/>
          <p:nvPr/>
        </p:nvSpPr>
        <p:spPr>
          <a:xfrm>
            <a:off x="5294520" y="498168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nnel Sender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5901480" y="436572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nnel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12"/>
          <p:cNvGrpSpPr/>
          <p:nvPr/>
        </p:nvGrpSpPr>
        <p:grpSpPr>
          <a:xfrm>
            <a:off x="3506760" y="3921120"/>
            <a:ext cx="4062600" cy="519120"/>
            <a:chOff x="3506760" y="3921120"/>
            <a:chExt cx="4062600" cy="519120"/>
          </a:xfrm>
        </p:grpSpPr>
        <p:sp>
          <p:nvSpPr>
            <p:cNvPr id="58" name="AutoShape 110"/>
            <p:cNvSpPr/>
            <p:nvPr/>
          </p:nvSpPr>
          <p:spPr>
            <a:xfrm>
              <a:off x="3506760" y="3944880"/>
              <a:ext cx="4051440" cy="495360"/>
            </a:xfrm>
            <a:prstGeom prst="wedgeRectCallout">
              <a:avLst>
                <a:gd name="adj1" fmla="val -36833"/>
                <a:gd name="adj2" fmla="val -4070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111"/>
            <p:cNvSpPr/>
            <p:nvPr/>
          </p:nvSpPr>
          <p:spPr>
            <a:xfrm>
              <a:off x="3508560" y="3921120"/>
              <a:ext cx="4051080" cy="495360"/>
            </a:xfrm>
            <a:prstGeom prst="wedgeRectCallout">
              <a:avLst>
                <a:gd name="adj1" fmla="val -74453"/>
                <a:gd name="adj2" fmla="val -46346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109"/>
            <p:cNvSpPr/>
            <p:nvPr/>
          </p:nvSpPr>
          <p:spPr>
            <a:xfrm>
              <a:off x="3517920" y="3930480"/>
              <a:ext cx="4051440" cy="495360"/>
            </a:xfrm>
            <a:prstGeom prst="wedgeRectCallout">
              <a:avLst>
                <a:gd name="adj1" fmla="val 18337"/>
                <a:gd name="adj2" fmla="val -43012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1" name="Object 108"/>
            <p:cNvGraphicFramePr/>
            <p:nvPr/>
          </p:nvGraphicFramePr>
          <p:xfrm>
            <a:off x="3565800" y="3963960"/>
            <a:ext cx="3790800" cy="41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" name="Object 10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65800" y="3963960"/>
                      <a:ext cx="379080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82840" y="0"/>
            <a:ext cx="61214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 (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ster/slave m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00"/>
          <p:cNvGraphicFramePr/>
          <p:nvPr/>
        </p:nvGraphicFramePr>
        <p:xfrm>
          <a:off x="1811160" y="1509840"/>
          <a:ext cx="4964400" cy="253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0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11160" y="1509840"/>
                    <a:ext cx="4964400" cy="25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" name="Group 104"/>
          <p:cNvGrpSpPr/>
          <p:nvPr/>
        </p:nvGrpSpPr>
        <p:grpSpPr>
          <a:xfrm>
            <a:off x="965160" y="527040"/>
            <a:ext cx="1371600" cy="922320"/>
            <a:chOff x="965160" y="527040"/>
            <a:chExt cx="1371600" cy="922320"/>
          </a:xfrm>
        </p:grpSpPr>
        <p:sp>
          <p:nvSpPr>
            <p:cNvPr id="67" name="AutoShape 102"/>
            <p:cNvSpPr/>
            <p:nvPr/>
          </p:nvSpPr>
          <p:spPr>
            <a:xfrm>
              <a:off x="965160" y="527040"/>
              <a:ext cx="1371600" cy="393840"/>
            </a:xfrm>
            <a:prstGeom prst="wedgeRectCallout">
              <a:avLst>
                <a:gd name="adj1" fmla="val 27546"/>
                <a:gd name="adj2" fmla="val 2056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" name="Object 101"/>
            <p:cNvGraphicFramePr/>
            <p:nvPr/>
          </p:nvGraphicFramePr>
          <p:xfrm>
            <a:off x="1131840" y="574920"/>
            <a:ext cx="1014480" cy="23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" name="Object 10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31840" y="574920"/>
                      <a:ext cx="1014480" cy="23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Rectangle 103"/>
            <p:cNvSpPr/>
            <p:nvPr/>
          </p:nvSpPr>
          <p:spPr>
            <a:xfrm>
              <a:off x="981720" y="10810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ig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组合 15"/>
          <p:cNvGrpSpPr/>
          <p:nvPr/>
        </p:nvGrpSpPr>
        <p:grpSpPr>
          <a:xfrm>
            <a:off x="1990800" y="1082520"/>
            <a:ext cx="5545080" cy="2543400"/>
            <a:chOff x="1990800" y="1082520"/>
            <a:chExt cx="5545080" cy="2543400"/>
          </a:xfrm>
        </p:grpSpPr>
        <p:graphicFrame>
          <p:nvGraphicFramePr>
            <p:cNvPr id="72" name="Object 106"/>
            <p:cNvGraphicFramePr/>
            <p:nvPr/>
          </p:nvGraphicFramePr>
          <p:xfrm>
            <a:off x="2030400" y="1082520"/>
            <a:ext cx="4626000" cy="641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3" name="Object 10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30400" y="1082520"/>
                      <a:ext cx="4626000" cy="64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Object 107"/>
            <p:cNvGraphicFramePr/>
            <p:nvPr/>
          </p:nvGraphicFramePr>
          <p:xfrm>
            <a:off x="1990800" y="1796760"/>
            <a:ext cx="5545080" cy="1829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5" name="Object 10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990800" y="1796760"/>
                      <a:ext cx="5545080" cy="182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6" name="Rectangle 3"/>
          <p:cNvSpPr/>
          <p:nvPr/>
        </p:nvSpPr>
        <p:spPr>
          <a:xfrm>
            <a:off x="85680" y="4394160"/>
            <a:ext cx="89251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P1/LSP2 already exist, bound together by Path refresh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P1/LSP2 triggered at the same time, can not bind togeth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1) comparing the Router I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2)The bigger one sends Path refresh message, carrying the Association object of the reverse LS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bound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4"/>
          <p:cNvGrpSpPr/>
          <p:nvPr/>
        </p:nvGrpSpPr>
        <p:grpSpPr>
          <a:xfrm>
            <a:off x="3262320" y="4344840"/>
            <a:ext cx="4084560" cy="503280"/>
            <a:chOff x="3262320" y="4344840"/>
            <a:chExt cx="4084560" cy="503280"/>
          </a:xfrm>
        </p:grpSpPr>
        <p:sp>
          <p:nvSpPr>
            <p:cNvPr id="78" name="AutoShape 3"/>
            <p:cNvSpPr/>
            <p:nvPr/>
          </p:nvSpPr>
          <p:spPr>
            <a:xfrm>
              <a:off x="3273120" y="4346640"/>
              <a:ext cx="4051440" cy="495000"/>
            </a:xfrm>
            <a:prstGeom prst="wedgeRectCallout">
              <a:avLst>
                <a:gd name="adj1" fmla="val -70453"/>
                <a:gd name="adj2" fmla="val -46281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AutoShape 19"/>
            <p:cNvSpPr/>
            <p:nvPr/>
          </p:nvSpPr>
          <p:spPr>
            <a:xfrm>
              <a:off x="3262320" y="4344840"/>
              <a:ext cx="4051080" cy="495360"/>
            </a:xfrm>
            <a:prstGeom prst="wedgeRectCallout">
              <a:avLst>
                <a:gd name="adj1" fmla="val -24138"/>
                <a:gd name="adj2" fmla="val -47051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AutoShape 20"/>
            <p:cNvSpPr/>
            <p:nvPr/>
          </p:nvSpPr>
          <p:spPr>
            <a:xfrm>
              <a:off x="3270240" y="4352760"/>
              <a:ext cx="4051080" cy="495360"/>
            </a:xfrm>
            <a:prstGeom prst="wedgeRectCallout">
              <a:avLst>
                <a:gd name="adj1" fmla="val 25236"/>
                <a:gd name="adj2" fmla="val -466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1" name="Object 22"/>
            <p:cNvGraphicFramePr/>
            <p:nvPr/>
          </p:nvGraphicFramePr>
          <p:xfrm>
            <a:off x="3284280" y="4433760"/>
            <a:ext cx="4062600" cy="40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" name="Object 2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84280" y="4433760"/>
                      <a:ext cx="406260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3" name="Object 15"/>
          <p:cNvGraphicFramePr/>
          <p:nvPr/>
        </p:nvGraphicFramePr>
        <p:xfrm>
          <a:off x="1824120" y="1792440"/>
          <a:ext cx="4964040" cy="277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4120" y="1792440"/>
                    <a:ext cx="496404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3120" y="380520"/>
            <a:ext cx="61214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 (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er m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9"/>
          <p:cNvGrpSpPr/>
          <p:nvPr/>
        </p:nvGrpSpPr>
        <p:grpSpPr>
          <a:xfrm>
            <a:off x="1019160" y="1003320"/>
            <a:ext cx="1371600" cy="922320"/>
            <a:chOff x="1019160" y="1003320"/>
            <a:chExt cx="1371600" cy="922320"/>
          </a:xfrm>
        </p:grpSpPr>
        <p:sp>
          <p:nvSpPr>
            <p:cNvPr id="87" name="AutoShape 10"/>
            <p:cNvSpPr/>
            <p:nvPr/>
          </p:nvSpPr>
          <p:spPr>
            <a:xfrm>
              <a:off x="1019160" y="1003320"/>
              <a:ext cx="1371600" cy="393840"/>
            </a:xfrm>
            <a:prstGeom prst="wedgeRectCallout">
              <a:avLst>
                <a:gd name="adj1" fmla="val 27546"/>
                <a:gd name="adj2" fmla="val 2056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" name="Object 11"/>
            <p:cNvGraphicFramePr/>
            <p:nvPr/>
          </p:nvGraphicFramePr>
          <p:xfrm>
            <a:off x="1185840" y="1051200"/>
            <a:ext cx="1014480" cy="23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" name="Object 1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85840" y="1051200"/>
                      <a:ext cx="1014480" cy="23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Rectangle 12"/>
            <p:cNvSpPr/>
            <p:nvPr/>
          </p:nvSpPr>
          <p:spPr>
            <a:xfrm>
              <a:off x="1035720" y="1557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ig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组合 15"/>
          <p:cNvGrpSpPr/>
          <p:nvPr/>
        </p:nvGrpSpPr>
        <p:grpSpPr>
          <a:xfrm>
            <a:off x="1990800" y="1476360"/>
            <a:ext cx="5465520" cy="2527200"/>
            <a:chOff x="1990800" y="1476360"/>
            <a:chExt cx="5465520" cy="2527200"/>
          </a:xfrm>
        </p:grpSpPr>
        <p:graphicFrame>
          <p:nvGraphicFramePr>
            <p:cNvPr id="92" name="Object 16"/>
            <p:cNvGraphicFramePr/>
            <p:nvPr/>
          </p:nvGraphicFramePr>
          <p:xfrm>
            <a:off x="1990800" y="1476360"/>
            <a:ext cx="4647960" cy="685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3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90800" y="1476360"/>
                      <a:ext cx="46479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Object 18"/>
            <p:cNvGraphicFramePr/>
            <p:nvPr/>
          </p:nvGraphicFramePr>
          <p:xfrm>
            <a:off x="2163600" y="2284200"/>
            <a:ext cx="5292720" cy="1719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5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63600" y="2284200"/>
                      <a:ext cx="5292720" cy="17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6" name="Rectangle 3"/>
          <p:cNvSpPr/>
          <p:nvPr/>
        </p:nvSpPr>
        <p:spPr>
          <a:xfrm>
            <a:off x="60480" y="5318280"/>
            <a:ext cx="893736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P1/LSP2 already exist, bound together by Path refresh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P1/LSP2 triggered at the same time, do not need to send Path refresh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1680" y="387000"/>
            <a:ext cx="618480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ociation VS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1512720"/>
          <a:ext cx="9144000" cy="3654720"/>
        </p:xfrm>
        <a:graphic>
          <a:graphicData uri="http://schemas.openxmlformats.org/drawingml/2006/table">
            <a:tbl>
              <a:tblPr/>
              <a:tblGrid>
                <a:gridCol w="2428920"/>
                <a:gridCol w="3314520"/>
                <a:gridCol w="340056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oc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edge n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(Association ob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(Call I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ame transit n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(Association ob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(Call I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ociation/connection setting 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ent (Path messa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pendent (Notify messa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eting the binding, not affect the LS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(by Path refres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 Support (change the Session ob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ociation between existing LS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(by Path refres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 support  (change the Session ob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Rectangle 61"/>
          <p:cNvSpPr/>
          <p:nvPr/>
        </p:nvSpPr>
        <p:spPr>
          <a:xfrm>
            <a:off x="0" y="5680080"/>
            <a:ext cx="79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ociation object or GMPLS call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GMPLS  calls to get call ID, then putting call ID into Association objec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553680"/>
            <a:ext cx="71118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2082960"/>
            <a:ext cx="914400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feedback and comments from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comments are welc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lyiky</cp:lastModifiedBy>
  <dcterms:modified xsi:type="dcterms:W3CDTF">2010-03-22T04:32:11Z</dcterms:modified>
  <cp:revision>9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237343711</vt:lpwstr>
  </property>
</Properties>
</file>