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3A6-59D1-4671-A480-CE9DBD74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3FF-9E6D-470A-9F7A-935E07C6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F43-B010-4EA7-BFC8-0FCA7925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9FE-AD3E-4937-987F-790BBD17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2C2-E3FA-4BA7-9859-E196566D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B54-9ECE-4288-8C0C-61740181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7B9-B3DF-4D74-B091-6AA41090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F94-0AB0-457D-821F-862AA21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73C-4562-4C4B-8695-496730D8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819-22A2-4164-A10A-946DED4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558-8C8A-429A-BA92-57D7EC8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616-1789-46EE-96E5-9998AE23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5175-B233-48A6-9D98-313C5FC4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drew.g.malis@verizon.com" TargetMode="External"/><Relationship Id="rId2" Type="http://schemas.openxmlformats.org/officeDocument/2006/relationships/hyperlink" Target="mailto:lyong@ciena.com" TargetMode="External"/><Relationship Id="rId3" Type="http://schemas.openxmlformats.org/officeDocument/2006/relationships/hyperlink" Target="mailto:remi.theillaud@marben-products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PF ASON Routing Extensio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ong-gmpls-ason-routing-exper-0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7 – Anaheim – Mar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s (Verizon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drew.g.malis@verizo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yong@cien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 Theillaud (Marben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mi.theillaud@marben-product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determines GMPLS/OSP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F on track to adopt IETF ASON routing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updates are requested based on testing and implementation, i.e., runn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F experimentation started well before IETF work (2002 vs. 2006) – no deliberate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F contributed to IETF ASON reqts and eval work leading to RFCs 4258 (2005) and 4652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ing on IETF to complete ASON routing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ON routing work is Experim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AMP ASON Routing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ccamp-gmpls-ason-routing-ospf-09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to be RFC 5787 (Experim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d back by lack of implementation an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F experimental routing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ong-gmpls-ason-routing-exper-01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he local/remote TE Router_ID and Address Prefix work in CCAMP draft, plus TDM BW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vely implemented and tested – 8 examples of running code, 5 interop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bine thi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: Use tested formats to move ASON routing to 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cations involved are 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F: members can adopt standard rapidly, spend les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/RemoteTE Router_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1 2 3 4 5 6 7 8 9 0 1 2 3 4 5 6 7 8 9 0 1 2 3 4 5 6 7 8 9 0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|           Type              |           Length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|                    Local TE Router_ID  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1 2 3 4 5 6 7 8 9 0 1 2 3 4 5 6 7 8 9 0 1 2 3 4 5 6 7 8 9 0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|           Type              |           Length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|                    Remote TE Router_ID 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b-T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ntains one TE Router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TE Router_ID format is reused for address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Type             |          Length (8)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Local TE Router Identifier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Remote TE Router Identifier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ub-T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2 TE Router_IDs (local and rem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Type              |          Length (variable)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Local TE_Router_Id sub-TLV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IPv4 or IPv6 Reachable Address sub-TLV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                       . . .                            /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Type (tbd)       |          Length (variable)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Pref_length  |                Reserved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IPv4 Reachable Address Prefix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 address prefix sub-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-based prefi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words p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not implemented but easily added as sub-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0 1 2 3 4 5 6 7 8 9 0 1 2 3 4 5 6 7 8 9 0 1 2 3 4 5 6 7 8 9 0 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Type             |         Length (8 x n)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Network Mask 1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IPv4 Address 1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//                             ...                              //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Network Mask n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IPv4 Address n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 1 2 3 4 5 6 7 8 9 0 1 2 3 4 5 6 7 8 9 0 1 2 3 4 5 6 7 8 9 0 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Type             |            Length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PrefixLength  | PrefixOptions |             (0)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   IPv6 Address Prefix 1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k-based prefixing for 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-based for 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words p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DM Bandwidth Adverti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420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SCD per “lay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 1 2 3 4 5 6 7 8 9 0 1 2 3 4 5 6 7 8 9 0 1 2 3 4 5 6 7 8 9 0 1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Type              |          Length (variable)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Switching Cap |   Encoding    |           Reserved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0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1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2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3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4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5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6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7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inimum LSP Bandwidth          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Indication  |                 Padding         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Type              |          Length (variable)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Switching Cap |   Encoding    |           Reserved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0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1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2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3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4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5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6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7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inimum LSP Bandwidth          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Indication  |                 Padding         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193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d link component availability (LCA) sub-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Type (tbd)             |        Length = 4 + n*4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Switching Cap |   Encoding    |           Reserved    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ignal Type  |        Number of Unallocated Timeslots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ignal Type  |        Number of Unallocated Timeslots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                       . . .                             //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ignal Type  |        Number of Unallocated Timeslots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per 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s 48 bytes per signal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192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type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4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to IS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1 ISCD, 1 L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ON networks do not need 8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LCA-Px if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formats for ASON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bis-version of draft-ietf/RFC 5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for Standards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updated formats;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draft-ong-… as an updating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for Standards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ing a subset of ASON Routing functions with runn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3-20T00:39:17Z</dcterms:modified>
  <cp:revision>72</cp:revision>
  <dc:subject/>
  <dc:title>ITU/OIF Report</dc:title>
</cp:coreProperties>
</file>