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C1F-D713-4CD2-B91E-EB675AB0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B04-C8ED-432D-B748-3B9613A3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2E30-FF13-47C0-8FAF-F75CC717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1ED-D260-47EB-92F0-1A9A03C7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656-6AEF-4546-809E-891BACD6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690-BF00-486E-92B6-4B802BB2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1CE-9E75-499C-81E8-7B0AE4BA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7AF8-E2B3-4ABA-BA98-C7824287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BC9-E7B6-45E3-857D-9E20A7BD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5B62-0763-4F1B-A4B8-2F9932C4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1DB-49BF-485E-A45C-5174C151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CBBD-520F-45CC-A82D-2A3B82E4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80E3-DDE4-40E8-936A-734BE04A7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ndrew.g.malis@verizon.com" TargetMode="External"/><Relationship Id="rId2" Type="http://schemas.openxmlformats.org/officeDocument/2006/relationships/hyperlink" Target="mailto:lyong@ciena.com" TargetMode="External"/><Relationship Id="rId3" Type="http://schemas.openxmlformats.org/officeDocument/2006/relationships/hyperlink" Target="mailto:remi.theillaud@marben-products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PF ASON Routing Extensions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ong-gmpls-ason-routing-exper-01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77 – Anaheim – Mar’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is (Verizon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drew.g.malis@verizon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. Ong (Ciena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yong@ciena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. Theillaud (Marben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mi.theillaud@marben-products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F determines GMPLS/OSPF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F on track to adopt IETF ASON routing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 updates are requested based on testing and implementation, i.e., running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F experimentation started well before IETF work (2002 vs. 2006) – no deliberate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F contributed to IETF ASON reqts and eval work leading to RFCs 4258 (2005) and 4652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ing on IETF to complete ASON routing standa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ON routing work is Experime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AMP ASON Routing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ccamp-gmpls-ason-routing-ospf-09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n to be RFC 5787 (Experimen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d back by lack of implementation and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IF experimental routing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ong-gmpls-ason-routing-exper-01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the local/remote TE Router_ID and Address Prefix work in CCAMP draft, plus TDM BW 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sively implemented and tested – 8 examples of running code, 5 interop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bine thi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TF: Use tested formats to move ASON routing to Standards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cations involved are 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F: members can adopt standard rapidly, spend less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/RemoteTE Router_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0                   1                   2                   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0 1 2 3 4 5 6 7 8 9 0 1 2 3 4 5 6 7 8 9 0 1 2 3 4 5 6 7 8 9 0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|           Type              |           Length            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|                    Local TE Router_ID                     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0                   1                   2                   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0 1 2 3 4 5 6 7 8 9 0 1 2 3 4 5 6 7 8 9 0 1 2 3 4 5 6 7 8 9 0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|           Type              |           Length            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|                    Remote TE Router_ID                    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sub-TL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ntains one TE Router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TE Router_ID format is reused for address pre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0                   1                   2                   3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 0 1 2 3 4 5 6 7 8 9 0 1 2 3 4 5 6 7 8 9 0 1 2 3 4 5 6 7 8 9 0 1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Type             |          Length (8)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 Local TE Router Identifier 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 Remote TE Router Identifier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sub-TL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2 TE Router_IDs (local and remo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 Pre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Type              |          Length (variable)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Local TE_Router_Id sub-TLV               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IPv4 or IPv6 Reachable Address sub-TLV         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                           . . .                            /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Type (tbd)       |          Length (variable)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Pref_length  |                Reserved                   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IPv4 Reachable Address Prefix               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4 address prefix sub-T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-based prefi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words per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not implemented but easily added as sub-T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0 1 2 3 4 5 6 7 8 9 0 1 2 3 4 5 6 7 8 9 0 1 2 3 4 5 6 7 8 9 0 1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|              Type             |         Length (8 x n)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|                         Network Mask 1     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|                         IPv4 Address 1     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|                                            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//                             ...                              //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|                                            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|                         Network Mask n     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|                         IPv4 Address n     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0 1 2 3 4 5 6 7 8 9 0 1 2 3 4 5 6 7 8 9 0 1 2 3 4 5 6 7 8 9 0 1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Type             |            Length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PrefixLength  | PrefixOptions |             (0)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                          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   IPv6 Address Prefix 1  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                          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                                             |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k-based prefixing for 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-based for IPv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words per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DM Bandwidth Advertis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 420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SCD per “lay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0 1 2 3 4 5 6 7 8 9 0 1 2 3 4 5 6 7 8 9 0 1 2 3 4 5 6 7 8 9 0 1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Type              |          Length (variable)    |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Switching Cap |   Encoding    |           Reserved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0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1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2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3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4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5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6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7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inimum LSP Bandwidth          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Indication  |                 Padding         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Type              |          Length (variable)    |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Switching Cap |   Encoding    |           Reserved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0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1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2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3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4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5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6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ax LSP Bandwidth at priority 7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     Minimum LSP Bandwidth          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Indication  |                 Padding                       |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-+-+-+-+-+-+-+-+-+-+-+-+-+-+-+-+-+-+-+-+-+-+-+-+-+-+-+-+-+-+-+-+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4193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ed link component availability (LCA) sub-T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Type (tbd)             |        Length = 4 + n*4       |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| Switching Cap |   Encoding    |           Reserved            |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|  Signal Type  |        Number of Unallocated Timeslots        |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|  Signal Type  |        Number of Unallocated Timeslots        |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//                            . . .                             //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|  Signal Type  |        Number of Unallocated Timeslots        |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bytes per signal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aces 48 bytes per signal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192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types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40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ementary to IS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1 ISCD, 1 L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or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ON networks do not need 8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have LCA-Px if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formats for ASON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bis-version of draft-ietf/RFC 57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ded for Standards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updated formats;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draft-ong-… as an updating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ded for Standards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ing a subset of ASON Routing functions with running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21:54:55Z</dcterms:created>
  <dc:creator>CIENA Corporation</dc:creator>
  <dc:description/>
  <dc:language>en-US</dc:language>
  <cp:lastModifiedBy>lyong</cp:lastModifiedBy>
  <dcterms:modified xsi:type="dcterms:W3CDTF">2010-03-20T00:39:17Z</dcterms:modified>
  <cp:revision>72</cp:revision>
  <dc:subject/>
  <dc:title>ITU/OIF Report</dc:title>
</cp:coreProperties>
</file>