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E0DB-86F1-49C2-98BA-4951D146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D3AE-94E2-409D-883F-2FFDBD84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7871-A945-42CC-90A7-AB709FB5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E01B-FCAA-474E-AA07-C8FD3FFB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274A-EAC8-4240-AA11-DBA6846E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BF32-96A9-486C-A95F-A6F0C5D4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A22F-B810-49B3-9205-B27F7430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1366-0E57-466D-AB47-4A4E525E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431-EC7C-4902-9BBF-1DB508BF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341-FF5A-4122-9E38-4F871705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8A3-2C96-409C-AFF6-EBD7FDD7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A651-8CE7-43DB-9D1C-FB36ECFC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F13B-BB97-47E8-88FB-043098BBB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roch@ciena.com" TargetMode="External"/><Relationship Id="rId2" Type="http://schemas.openxmlformats.org/officeDocument/2006/relationships/hyperlink" Target="mailto:thierry.marcot@orange-ftgroup.com" TargetMode="External"/><Relationship Id="rId3" Type="http://schemas.openxmlformats.org/officeDocument/2006/relationships/hyperlink" Target="mailto:lyong@ciena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quirements for auto-config of control plane adjacency</a:t>
            </a: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roch-ccamp-reqts-auto-adj-00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77 – Anaheim – Mar’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Roch (Ciena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roch@ciena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. Marcot (France Telecom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ierry.marcot@orange-ftgroup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. Ong (Ciena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yong@ciena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of dynamically signaled hierarchical L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in draft-ietf-ccamp-lsp-hierarchy-bis-07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and under A-D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additional requirements for applying this to multilayer control in ASON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ted on behalf of O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aluation by CC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is within CCAMP scop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protocol extensions needed to support the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layer ASON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layer LSP established via LSP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e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layer interface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 (advertised or n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I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ndle and component 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O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support flexible client adap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client layers may be supported by the server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support flexible control plan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lane resource id vs. control plane entity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plane routing entity id vs. signaling entity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plane entity id vs. its control plane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itial evaluation of current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7772400" cy="3708360"/>
        </p:xfrm>
        <a:graphic>
          <a:graphicData uri="http://schemas.openxmlformats.org/drawingml/2006/table">
            <a:tbl>
              <a:tblPr/>
              <a:tblGrid>
                <a:gridCol w="4648320"/>
                <a:gridCol w="3124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Layer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 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 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 Bundle 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Layer 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Layer Signaling Controller 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Layer Signaling Controller 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Layer Routing Controller 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Layer Routing Controller 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AMP to evaluate problem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questions back to OIF or auth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if this is in scope for C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if extensions are needed to LSP Hierarc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additional TLVs in the LSP_Tunnel_Interface_ID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21:54:55Z</dcterms:created>
  <dc:creator>CIENA Corporation</dc:creator>
  <dc:description/>
  <dc:language>en-US</dc:language>
  <cp:lastModifiedBy>lyong</cp:lastModifiedBy>
  <dcterms:modified xsi:type="dcterms:W3CDTF">2010-03-22T04:13:10Z</dcterms:modified>
  <cp:revision>81</cp:revision>
  <dc:subject/>
  <dc:title>ITU/OIF Report</dc:title>
</cp:coreProperties>
</file>