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C9F9-94D9-4878-8B58-44724B32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8DFD-1130-43C1-A694-6774AB1D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6A7-B301-4059-9370-F8DA486C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4CFC-0561-48DE-93F9-36F08765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BC96-BABC-4216-BEEE-6A169131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1F64-85E3-4CC2-A942-C68F3A92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A65-EE6B-4E97-915A-DD4CA70C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2F85-D92C-4CF1-BEEB-6D651C0E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CCE-FF7D-4350-8C66-FA81FE59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831-0E35-4549-B9E2-B172AC93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72EA-E2F2-4072-A7C0-76AB2AE7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C12-AD3F-4D63-B363-F7D84A3B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7A5A-0465-4027-94E0-17B4784790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1440" y="15998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LR Designation in RSVP-TE FR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43160" y="5029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J. Dong, M. Chen, C. Li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AMP, March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9280" y="3276720"/>
            <a:ext cx="61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dong-ccamp-rsvp-te-plr-designation-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Thank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ress node can specify protection requirement for the protected L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flags in SESSION ATTRIBUT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protection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recording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style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width protection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protection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protection style is at the granularity of the whole L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flex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necessa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FC 4090 FRR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LSRs (except egress) must follow the PL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ny as (N-1) Backup L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e need backup LSPs everyw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nodes/links are reliable enough at LSP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omputing, Establishing &amp; Maintaining backup L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reserved for backup L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5029200"/>
            <a:ext cx="83808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5029200"/>
            <a:ext cx="91440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5029200"/>
            <a:ext cx="106668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6019920"/>
            <a:ext cx="990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5029200"/>
            <a:ext cx="76176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477120" y="5181120"/>
            <a:ext cx="83808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4419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4419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4419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443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10440" y="4476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6172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6172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809880" y="5181120"/>
            <a:ext cx="91440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876920" y="5105520"/>
            <a:ext cx="0" cy="76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5181480"/>
            <a:ext cx="0" cy="685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5105520"/>
            <a:ext cx="1143000" cy="838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24360" y="5172120"/>
            <a:ext cx="838080" cy="68580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52520" y="5105520"/>
            <a:ext cx="1143000" cy="76176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5067360"/>
            <a:ext cx="1143000" cy="83808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419880" y="5133600"/>
            <a:ext cx="838080" cy="76212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162920" y="4756320"/>
            <a:ext cx="533160" cy="509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724280" y="6172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809880" y="6019920"/>
            <a:ext cx="9144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5715000"/>
            <a:ext cx="533160" cy="509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V="1">
            <a:off x="3733920" y="5105520"/>
            <a:ext cx="0" cy="76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743200" y="5181120"/>
            <a:ext cx="91440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438280" y="4748040"/>
            <a:ext cx="533520" cy="509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895480" y="5181480"/>
            <a:ext cx="838440" cy="68580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809520" y="5105520"/>
            <a:ext cx="1143000" cy="76176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619520" y="4724280"/>
            <a:ext cx="533520" cy="509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505320" y="4724280"/>
            <a:ext cx="533160" cy="509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3429000" y="5715000"/>
            <a:ext cx="533520" cy="509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324480" y="5181480"/>
            <a:ext cx="0" cy="76212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6019920" y="4724280"/>
            <a:ext cx="533160" cy="509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6019920" y="5715000"/>
            <a:ext cx="533160" cy="509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0" y="4832280"/>
            <a:ext cx="533520" cy="29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66"/>
                </a:solidFill>
                <a:latin typeface="Arial"/>
              </a:rPr>
              <a:t>PL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4832280"/>
            <a:ext cx="533520" cy="29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66"/>
                </a:solidFill>
                <a:latin typeface="Arial"/>
              </a:rPr>
              <a:t>PL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4832280"/>
            <a:ext cx="533520" cy="29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66"/>
                </a:solidFill>
                <a:latin typeface="Arial"/>
              </a:rPr>
              <a:t>PL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4832280"/>
            <a:ext cx="533520" cy="29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66"/>
                </a:solidFill>
                <a:latin typeface="Arial"/>
              </a:rPr>
              <a:t>PL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253120"/>
            <a:ext cx="38124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80880" y="5709960"/>
            <a:ext cx="381240" cy="468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5105520"/>
            <a:ext cx="1523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mary LS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5562720"/>
            <a:ext cx="1523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ackup LS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can be requirement to specify protection style at the granularity of LS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ors can have more control on backup L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LSRs need to behave as PLRs of the protected 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signaling and bandwidth sav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re flexible fast reroute signaling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4302000"/>
            <a:ext cx="83808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4302000"/>
            <a:ext cx="91440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4302000"/>
            <a:ext cx="106668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1320" y="5292720"/>
            <a:ext cx="990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4302000"/>
            <a:ext cx="76176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162920" y="4454640"/>
            <a:ext cx="838080" cy="76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5920" y="3963960"/>
            <a:ext cx="2979720" cy="1332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 Poli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: link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: node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, R4: no protection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3692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3692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3692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3716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96240" y="37497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2560" y="5445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5454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495680" y="4454640"/>
            <a:ext cx="914400" cy="76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562720" y="4377960"/>
            <a:ext cx="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4454640"/>
            <a:ext cx="0" cy="685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4378320"/>
            <a:ext cx="1143000" cy="838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705720" y="3997440"/>
            <a:ext cx="533160" cy="509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10160" y="4444920"/>
            <a:ext cx="838080" cy="68580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4454640"/>
            <a:ext cx="0" cy="60948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4340160"/>
            <a:ext cx="1143000" cy="83844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105680" y="4406400"/>
            <a:ext cx="838080" cy="76212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848720" y="4029120"/>
            <a:ext cx="533160" cy="509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305320" y="3997440"/>
            <a:ext cx="533520" cy="509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705720" y="4987800"/>
            <a:ext cx="533160" cy="50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H="1">
            <a:off x="4514760" y="5330880"/>
            <a:ext cx="9144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438800" y="4416120"/>
            <a:ext cx="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3448080" y="4492800"/>
            <a:ext cx="914400" cy="76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133880" y="4997520"/>
            <a:ext cx="533520" cy="509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3124080" y="4021200"/>
            <a:ext cx="533520" cy="509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4191120" y="3997440"/>
            <a:ext cx="533160" cy="509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5334120" y="4987800"/>
            <a:ext cx="533160" cy="509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781680" y="5445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 Statement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4114800"/>
            <a:ext cx="533520" cy="29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66"/>
                </a:solidFill>
                <a:latin typeface="Arial"/>
              </a:rPr>
              <a:t>PL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4114800"/>
            <a:ext cx="533520" cy="29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66"/>
                </a:solidFill>
                <a:latin typeface="Arial"/>
              </a:rPr>
              <a:t>PL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475240"/>
            <a:ext cx="38124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80880" y="5770440"/>
            <a:ext cx="381240" cy="504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5327640"/>
            <a:ext cx="1523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mary LS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5622840"/>
            <a:ext cx="1523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ackup LS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O IPv4/IPv6 Sub-objects Exten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reserved field in sub-objects as Fl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4 prefix sub-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 prefix sub-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71760" y="2878200"/>
          <a:ext cx="581976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2878200"/>
                    <a:ext cx="58197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600200" y="4389480"/>
          <a:ext cx="5819760" cy="18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389480"/>
                    <a:ext cx="581976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posed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bit: Hop Local Protection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: local protection is determined by local protection flag in SESSION ATTRIBUT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 local protection is not desired on this n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bit: Hop Node Protection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: protection style is determined by node protection flag in SESSION ATTRIBUT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 node protection is desired on this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posed Solu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new flags are set to 0, the behavior is the same as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LSR can not recognize the new flags, local protection is still based on existing flags in SESSION ATTRIBUT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52600" y="3657600"/>
          <a:ext cx="8076960" cy="2643120"/>
        </p:xfrm>
        <a:graphic>
          <a:graphicData uri="http://schemas.openxmlformats.org/drawingml/2006/table">
            <a:tbl>
              <a:tblPr/>
              <a:tblGrid>
                <a:gridCol w="1876320"/>
                <a:gridCol w="2009880"/>
                <a:gridCol w="761760"/>
                <a:gridCol w="838440"/>
                <a:gridCol w="2590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ession local protection des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ession node protection des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 bi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 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op Protection 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 Prot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Link Prot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de Prot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 Prot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de Prot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 Prot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posed Solu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ments from mailing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we need to specify per-hop protection sty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flexible signaling for TE F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better control on backup L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bandwidth and resource sa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 4873 (GMPLS Segment Recovery) has similar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validates the requirement of PLR desig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cket switch network, we can use RFC 4090 or RFC 4873 for local protection, mostly will use RFC 40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raft is a backward compatible enhancement to RFC 40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ng comments &amp; feed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 the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docu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ujumao</cp:lastModifiedBy>
  <dcterms:modified xsi:type="dcterms:W3CDTF">2010-03-20T02:09:23Z</dcterms:modified>
  <cp:revision>4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268985395</vt:lpwstr>
  </property>
</Properties>
</file>