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B92-B210-4685-854F-6CB6C83F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6E1-874E-4458-A57C-DF9A4552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8D6-4D81-4BB1-8386-1B5ABAD3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4E6-F847-40CD-9235-01BDDDCD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748-2D70-4B57-850F-A717D164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731-2713-4316-8E4B-BE589579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E92-2819-4017-8188-8E3AF25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944-FBE2-4594-B02F-2B924220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E6D-07EB-4592-A50F-9F0CE257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347-6625-45F9-A2DB-45B63D57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786-B52F-44B8-B982-E9D98BA1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669-ADEB-4214-BB36-9A06B15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9920-C73C-478E-BAC0-AC99C0048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1440" y="1599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R Designation in RSVP-TE F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43160" y="5029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J. Dong, M. Chen, C. Li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AMP,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9280" y="3276720"/>
            <a:ext cx="61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dong-ccamp-rsvp-te-plr-designation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Thank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ss node can specify protection requirement for the protected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flags in SESSION ATTRIBUT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tection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recording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tyle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protection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protection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protection style is at the granularity of the whole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ecessa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FC 4090 FR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SRs (except egress) must follow the PL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as (N-1) Backup L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need backup LSPs every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odes/links are reliable enough at LSP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omputing, Establishing &amp; Maintaining backup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reserved for backup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5029200"/>
            <a:ext cx="8380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5029200"/>
            <a:ext cx="91440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029200"/>
            <a:ext cx="10666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6019920"/>
            <a:ext cx="99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5029200"/>
            <a:ext cx="76176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77120" y="5181120"/>
            <a:ext cx="83808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443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10440" y="4476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6172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6172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809880" y="5181120"/>
            <a:ext cx="91440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76920" y="5105520"/>
            <a:ext cx="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5181480"/>
            <a:ext cx="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105520"/>
            <a:ext cx="114300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5172120"/>
            <a:ext cx="838080" cy="68580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2520" y="5105520"/>
            <a:ext cx="1143000" cy="76176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067360"/>
            <a:ext cx="1143000" cy="83808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19880" y="5133600"/>
            <a:ext cx="838080" cy="7621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62920" y="4756320"/>
            <a:ext cx="533160" cy="50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24280" y="6172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809880" y="601992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57150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3733920" y="5105520"/>
            <a:ext cx="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743200" y="5181120"/>
            <a:ext cx="91440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438280" y="4748040"/>
            <a:ext cx="533520" cy="50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5181480"/>
            <a:ext cx="838440" cy="68580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09520" y="5105520"/>
            <a:ext cx="1143000" cy="76176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19520" y="472428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429000" y="5715000"/>
            <a:ext cx="533520" cy="509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324480" y="5181480"/>
            <a:ext cx="0" cy="7621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6019920" y="47242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6019920" y="57150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0" y="483228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3228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83228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83228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253120"/>
            <a:ext cx="3812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80880" y="5709960"/>
            <a:ext cx="381240" cy="468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10552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mary LS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56272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can be requirement to specify protection style at the granularity of LS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s can have more control on backup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LSRs need to behave as PLRs of the protected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signaling and bandwidth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re flexible fast reroute signaling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4302000"/>
            <a:ext cx="8380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4302000"/>
            <a:ext cx="91440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4302000"/>
            <a:ext cx="10666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5292720"/>
            <a:ext cx="99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4302000"/>
            <a:ext cx="76176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162920" y="4454640"/>
            <a:ext cx="83808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5920" y="3963960"/>
            <a:ext cx="2979720" cy="1332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Poli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: link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: node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, R4: no protection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69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369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69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716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96240" y="37497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2560" y="544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454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95680" y="4454640"/>
            <a:ext cx="91440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562720" y="4377960"/>
            <a:ext cx="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4454640"/>
            <a:ext cx="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378320"/>
            <a:ext cx="114300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05720" y="3997440"/>
            <a:ext cx="533160" cy="509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10160" y="4444920"/>
            <a:ext cx="838080" cy="68580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4454640"/>
            <a:ext cx="0" cy="60948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340160"/>
            <a:ext cx="1143000" cy="83844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105680" y="4406400"/>
            <a:ext cx="838080" cy="7621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848720" y="4029120"/>
            <a:ext cx="533160" cy="50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05320" y="399744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705720" y="49878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4514760" y="533088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438800" y="4416120"/>
            <a:ext cx="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448080" y="4492800"/>
            <a:ext cx="91440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133880" y="499752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124080" y="402120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4191120" y="3997440"/>
            <a:ext cx="533160" cy="509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334120" y="49878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81680" y="544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 Statemen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411480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11480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75240"/>
            <a:ext cx="3812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0880" y="5770440"/>
            <a:ext cx="381240" cy="504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32764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mary LS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62284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O IPv4/IPv6 Sub-objects Exte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eserved field in sub-objects as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prefix sub-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prefix sub-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71760" y="2878200"/>
          <a:ext cx="581976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2878200"/>
                    <a:ext cx="58197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600200" y="4389480"/>
          <a:ext cx="5819760" cy="18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389480"/>
                    <a:ext cx="581976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bit: Hop Local Protection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 local protection is determined by local protection flag in SESSION ATTRIBUT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local protection is not desired on this n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bit: Hop Node Protection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 protection style is determined by node protection flag in SESSION ATTRIBUT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node protection is desired on this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posed Solu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ew flags are set to 0, the behavior is the same a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SR can not recognize the new flags, local protection is still based on existing flags in SESSION ATTRIBUT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52600" y="3657600"/>
          <a:ext cx="8076960" cy="2643120"/>
        </p:xfrm>
        <a:graphic>
          <a:graphicData uri="http://schemas.openxmlformats.org/drawingml/2006/table">
            <a:tbl>
              <a:tblPr/>
              <a:tblGrid>
                <a:gridCol w="1876320"/>
                <a:gridCol w="2009880"/>
                <a:gridCol w="761760"/>
                <a:gridCol w="838440"/>
                <a:gridCol w="2590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ssion local protection des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ssion node protection des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 bi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op Protection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ink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de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de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posed Solu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ents from mailing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o specify per-hop protection sty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lexible signaling for TE F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better control on backup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bandwidth and resource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4873 (GMPLS Segment Recovery) has simila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validates the requirement of PLR desig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cket switch network, we can use RFC 4090 or RFC 4873 for local protection, mostly will use RFC 4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raft is a backward compatible enhancement to RFC 40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ng comments &amp; feed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th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doc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jumao</cp:lastModifiedBy>
  <dcterms:modified xsi:type="dcterms:W3CDTF">2010-03-20T02:09:23Z</dcterms:modified>
  <cp:revision>4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68985395</vt:lpwstr>
  </property>
</Properties>
</file>