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21C21F7-0B0B-4D50-B9F9-70325B0D832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0DF3149-D234-4400-81C7-E05FFEB4423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C872487-7A16-4CF7-9600-665F6810B74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240" y="681120"/>
            <a:ext cx="9147240" cy="24264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727280" y="6590880"/>
            <a:ext cx="56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77th IETF, CCAMP WG, Anaheim, CA, USA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3056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EF3BD86-D32B-49B5-8B8B-681292100E8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2160" y="662940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77th IETF, CCAMP WG, Anaheim, CA, USA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7360" algn="ctr">
              <a:spcBef>
                <a:spcPts val="1250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2a547e"/>
              </a:buClr>
              <a:buFont typeface="Wingdings" charset="2"/>
              <a:buChar char="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7840" y="2498760"/>
            <a:ext cx="8788320" cy="1860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gnaling RSVP-TE P2MP LSPs in an Inter-domain Environmen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ft-ali-mpls-inter-domain-p2mp-rsvp-te-lsp-03.txt  </a:t>
            </a:r>
            <a:br>
              <a:rPr sz="2200"/>
            </a:br>
            <a:br>
              <a:rPr sz="2600"/>
            </a:br>
            <a:br>
              <a:rPr sz="2600"/>
            </a:br>
            <a:br>
              <a:rPr sz="900"/>
            </a:br>
            <a:br>
              <a:rPr sz="1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far Ali, Cisco System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. Neate, Data Connection Lt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44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quirements for inter-domain P2MP tree comput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276200"/>
            <a:ext cx="83311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-to-end Path has to be remerged free (may also need to be cross-over free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2MP LSPs may need to be stitched at the border nodes, or hierarchical P2MP LS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se hop expansion at the border node such that overall P2MP LSP is remerge f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4875 (RSVP-TE extensions for P2MP TE) does not address inter-domain requireme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5151 (inter-domain RSVP-TE extensions) does not address P2MP LSP set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4920 does not address crankbacks for P2MP LS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Straight Arrow Connector 161"/>
          <p:cNvCxnSpPr>
            <a:stCxn id="90" idx="10"/>
            <a:endCxn id="91" idx="10"/>
          </p:cNvCxnSpPr>
          <p:nvPr/>
        </p:nvCxnSpPr>
        <p:spPr>
          <a:xfrm flipH="1" flipV="1">
            <a:off x="1442160" y="1703160"/>
            <a:ext cx="38196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Straight Arrow Connector 108"/>
          <p:cNvCxnSpPr>
            <a:stCxn id="93" idx="10"/>
            <a:endCxn id="94" idx="10"/>
          </p:cNvCxnSpPr>
          <p:nvPr/>
        </p:nvCxnSpPr>
        <p:spPr>
          <a:xfrm flipH="1" flipV="1">
            <a:off x="3881160" y="22222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Straight Arrow Connector 158"/>
          <p:cNvCxnSpPr>
            <a:stCxn id="96" idx="10"/>
            <a:endCxn id="91" idx="11"/>
          </p:cNvCxnSpPr>
          <p:nvPr/>
        </p:nvCxnSpPr>
        <p:spPr>
          <a:xfrm flipV="1">
            <a:off x="1366560" y="1702800"/>
            <a:ext cx="7668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Straight Arrow Connector 144"/>
          <p:cNvCxnSpPr/>
          <p:nvPr/>
        </p:nvCxnSpPr>
        <p:spPr>
          <a:xfrm flipH="1">
            <a:off x="2576160" y="1995480"/>
            <a:ext cx="434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Straight Arrow Connector 148"/>
          <p:cNvCxnSpPr/>
          <p:nvPr/>
        </p:nvCxnSpPr>
        <p:spPr>
          <a:xfrm flipV="1">
            <a:off x="2538360" y="1493640"/>
            <a:ext cx="712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Straight Arrow Connector 154"/>
          <p:cNvCxnSpPr>
            <a:stCxn id="100" idx="10"/>
            <a:endCxn id="101" idx="10"/>
          </p:cNvCxnSpPr>
          <p:nvPr/>
        </p:nvCxnSpPr>
        <p:spPr>
          <a:xfrm>
            <a:off x="3239640" y="1474560"/>
            <a:ext cx="24372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Straight Arrow Connector 139"/>
          <p:cNvCxnSpPr>
            <a:stCxn id="103" idx="10"/>
            <a:endCxn id="90" idx="11"/>
          </p:cNvCxnSpPr>
          <p:nvPr/>
        </p:nvCxnSpPr>
        <p:spPr>
          <a:xfrm flipH="1" flipV="1">
            <a:off x="1823760" y="20998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Straight Arrow Connector 104"/>
          <p:cNvCxnSpPr>
            <a:stCxn id="105" idx="10"/>
            <a:endCxn id="93" idx="11"/>
          </p:cNvCxnSpPr>
          <p:nvPr/>
        </p:nvCxnSpPr>
        <p:spPr>
          <a:xfrm flipH="1" flipV="1">
            <a:off x="4595400" y="2318760"/>
            <a:ext cx="8294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Straight Arrow Connector 96"/>
          <p:cNvCxnSpPr>
            <a:stCxn id="107" idx="10"/>
            <a:endCxn id="105" idx="11"/>
          </p:cNvCxnSpPr>
          <p:nvPr/>
        </p:nvCxnSpPr>
        <p:spPr>
          <a:xfrm flipH="1">
            <a:off x="5471280" y="2160720"/>
            <a:ext cx="1143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Straight Arrow Connector 435"/>
          <p:cNvCxnSpPr>
            <a:stCxn id="94" idx="11"/>
            <a:endCxn id="109" idx="10"/>
          </p:cNvCxnSpPr>
          <p:nvPr/>
        </p:nvCxnSpPr>
        <p:spPr>
          <a:xfrm>
            <a:off x="3881520" y="222228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Straight Arrow Connector 372"/>
          <p:cNvCxnSpPr/>
          <p:nvPr/>
        </p:nvCxnSpPr>
        <p:spPr>
          <a:xfrm flipV="1">
            <a:off x="3881160" y="1745640"/>
            <a:ext cx="214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Straight Arrow Connector 395"/>
          <p:cNvCxnSpPr>
            <a:stCxn id="107" idx="11"/>
            <a:endCxn id="112" idx="10"/>
          </p:cNvCxnSpPr>
          <p:nvPr/>
        </p:nvCxnSpPr>
        <p:spPr>
          <a:xfrm flipH="1" flipV="1">
            <a:off x="5562000" y="1931400"/>
            <a:ext cx="10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Straight Arrow Connector 397"/>
          <p:cNvCxnSpPr>
            <a:stCxn id="114" idx="10"/>
            <a:endCxn id="107" idx="12"/>
          </p:cNvCxnSpPr>
          <p:nvPr/>
        </p:nvCxnSpPr>
        <p:spPr>
          <a:xfrm flipV="1">
            <a:off x="6372360" y="2160360"/>
            <a:ext cx="24336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Straight Arrow Connector 390"/>
          <p:cNvCxnSpPr>
            <a:stCxn id="116" idx="10"/>
            <a:endCxn id="112" idx="11"/>
          </p:cNvCxnSpPr>
          <p:nvPr/>
        </p:nvCxnSpPr>
        <p:spPr>
          <a:xfrm>
            <a:off x="4595400" y="1785960"/>
            <a:ext cx="9183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Flowchart: Connector 33"/>
          <p:cNvSpPr/>
          <p:nvPr/>
        </p:nvSpPr>
        <p:spPr>
          <a:xfrm>
            <a:off x="264960" y="302256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53"/>
          <p:cNvCxnSpPr>
            <a:stCxn id="119" idx="10"/>
            <a:endCxn id="120" idx="10"/>
          </p:cNvCxnSpPr>
          <p:nvPr/>
        </p:nvCxnSpPr>
        <p:spPr>
          <a:xfrm flipV="1">
            <a:off x="518760" y="2928240"/>
            <a:ext cx="57204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Straight Arrow Connector 60"/>
          <p:cNvCxnSpPr>
            <a:stCxn id="122" idx="10"/>
            <a:endCxn id="119" idx="11"/>
          </p:cNvCxnSpPr>
          <p:nvPr/>
        </p:nvCxnSpPr>
        <p:spPr>
          <a:xfrm flipH="1" flipV="1">
            <a:off x="518760" y="3698640"/>
            <a:ext cx="12578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Flowchart: Connector 70"/>
          <p:cNvSpPr/>
          <p:nvPr/>
        </p:nvSpPr>
        <p:spPr>
          <a:xfrm>
            <a:off x="3084480" y="13460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98"/>
          <p:cNvCxnSpPr>
            <a:stCxn id="96" idx="11"/>
            <a:endCxn id="120" idx="11"/>
          </p:cNvCxnSpPr>
          <p:nvPr/>
        </p:nvCxnSpPr>
        <p:spPr>
          <a:xfrm flipH="1">
            <a:off x="1137600" y="2727360"/>
            <a:ext cx="1530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Straight Arrow Connector 138"/>
          <p:cNvCxnSpPr>
            <a:stCxn id="126" idx="10"/>
            <a:endCxn id="94" idx="12"/>
          </p:cNvCxnSpPr>
          <p:nvPr/>
        </p:nvCxnSpPr>
        <p:spPr>
          <a:xfrm flipV="1">
            <a:off x="3424320" y="22219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Straight Arrow Connector 141"/>
          <p:cNvCxnSpPr>
            <a:stCxn id="94" idx="13"/>
            <a:endCxn id="116" idx="11"/>
          </p:cNvCxnSpPr>
          <p:nvPr/>
        </p:nvCxnSpPr>
        <p:spPr>
          <a:xfrm flipV="1">
            <a:off x="3881520" y="1855080"/>
            <a:ext cx="76248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Straight Arrow Connector 229"/>
          <p:cNvCxnSpPr/>
          <p:nvPr/>
        </p:nvCxnSpPr>
        <p:spPr>
          <a:xfrm flipV="1">
            <a:off x="3000240" y="1936440"/>
            <a:ext cx="51192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Straight Arrow Connector 286"/>
          <p:cNvCxnSpPr>
            <a:stCxn id="101" idx="11"/>
            <a:endCxn id="94" idx="14"/>
          </p:cNvCxnSpPr>
          <p:nvPr/>
        </p:nvCxnSpPr>
        <p:spPr>
          <a:xfrm>
            <a:off x="3530160" y="1977840"/>
            <a:ext cx="35136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Freeform 290"/>
          <p:cNvSpPr/>
          <p:nvPr/>
        </p:nvSpPr>
        <p:spPr>
          <a:xfrm>
            <a:off x="4532400" y="1727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3"/>
          <p:cNvSpPr/>
          <p:nvPr/>
        </p:nvSpPr>
        <p:spPr>
          <a:xfrm>
            <a:off x="3419640" y="18493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94"/>
          <p:cNvSpPr/>
          <p:nvPr/>
        </p:nvSpPr>
        <p:spPr>
          <a:xfrm>
            <a:off x="449280" y="3632040"/>
            <a:ext cx="272880" cy="273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96"/>
          <p:cNvSpPr/>
          <p:nvPr/>
        </p:nvSpPr>
        <p:spPr>
          <a:xfrm>
            <a:off x="3770280" y="20923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02"/>
          <p:cNvSpPr/>
          <p:nvPr/>
        </p:nvSpPr>
        <p:spPr>
          <a:xfrm>
            <a:off x="2884320" y="1908000"/>
            <a:ext cx="358920" cy="35892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05"/>
          <p:cNvSpPr/>
          <p:nvPr/>
        </p:nvSpPr>
        <p:spPr>
          <a:xfrm>
            <a:off x="33130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06"/>
          <p:cNvSpPr/>
          <p:nvPr/>
        </p:nvSpPr>
        <p:spPr>
          <a:xfrm>
            <a:off x="42274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09"/>
          <p:cNvSpPr/>
          <p:nvPr/>
        </p:nvSpPr>
        <p:spPr>
          <a:xfrm>
            <a:off x="1027080" y="2870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17"/>
          <p:cNvSpPr/>
          <p:nvPr/>
        </p:nvSpPr>
        <p:spPr>
          <a:xfrm>
            <a:off x="1712880" y="3784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59"/>
          <p:cNvSpPr/>
          <p:nvPr/>
        </p:nvSpPr>
        <p:spPr>
          <a:xfrm>
            <a:off x="3983040" y="1558800"/>
            <a:ext cx="244440" cy="244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387"/>
          <p:cNvSpPr/>
          <p:nvPr/>
        </p:nvSpPr>
        <p:spPr>
          <a:xfrm>
            <a:off x="5452920" y="14828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92"/>
          <p:cNvSpPr/>
          <p:nvPr/>
        </p:nvSpPr>
        <p:spPr>
          <a:xfrm>
            <a:off x="5450040" y="18032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93"/>
          <p:cNvSpPr/>
          <p:nvPr/>
        </p:nvSpPr>
        <p:spPr>
          <a:xfrm>
            <a:off x="6504120" y="2031840"/>
            <a:ext cx="244440" cy="24480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94"/>
          <p:cNvSpPr/>
          <p:nvPr/>
        </p:nvSpPr>
        <p:spPr>
          <a:xfrm>
            <a:off x="6259680" y="25495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91"/>
          <p:cNvSpPr/>
          <p:nvPr/>
        </p:nvSpPr>
        <p:spPr>
          <a:xfrm>
            <a:off x="5361120" y="233676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2"/>
          <p:cNvSpPr/>
          <p:nvPr/>
        </p:nvSpPr>
        <p:spPr>
          <a:xfrm>
            <a:off x="4532400" y="22604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23"/>
          <p:cNvSpPr/>
          <p:nvPr/>
        </p:nvSpPr>
        <p:spPr>
          <a:xfrm>
            <a:off x="1027080" y="122400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24"/>
          <p:cNvCxnSpPr>
            <a:stCxn id="96" idx="12"/>
            <a:endCxn id="90" idx="12"/>
          </p:cNvCxnSpPr>
          <p:nvPr/>
        </p:nvCxnSpPr>
        <p:spPr>
          <a:xfrm flipV="1">
            <a:off x="1366920" y="20995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Straight Arrow Connector 125"/>
          <p:cNvCxnSpPr>
            <a:stCxn id="91" idx="12"/>
            <a:endCxn id="136" idx="10"/>
          </p:cNvCxnSpPr>
          <p:nvPr/>
        </p:nvCxnSpPr>
        <p:spPr>
          <a:xfrm>
            <a:off x="1395000" y="1633320"/>
            <a:ext cx="113436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Freeform 128"/>
          <p:cNvSpPr/>
          <p:nvPr/>
        </p:nvSpPr>
        <p:spPr>
          <a:xfrm>
            <a:off x="2465280" y="16048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1"/>
          <p:cNvSpPr/>
          <p:nvPr/>
        </p:nvSpPr>
        <p:spPr>
          <a:xfrm>
            <a:off x="1712880" y="19717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33"/>
          <p:cNvSpPr/>
          <p:nvPr/>
        </p:nvSpPr>
        <p:spPr>
          <a:xfrm>
            <a:off x="1255680" y="2519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37"/>
          <p:cNvSpPr/>
          <p:nvPr/>
        </p:nvSpPr>
        <p:spPr>
          <a:xfrm>
            <a:off x="2475000" y="213840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7"/>
          <p:cNvSpPr/>
          <p:nvPr/>
        </p:nvSpPr>
        <p:spPr>
          <a:xfrm>
            <a:off x="1332000" y="1574640"/>
            <a:ext cx="244440" cy="2448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420840" y="166680"/>
            <a:ext cx="804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sues with Loose ERO expansion for P2MP L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6"/>
          <p:cNvSpPr/>
          <p:nvPr/>
        </p:nvSpPr>
        <p:spPr>
          <a:xfrm>
            <a:off x="3132000" y="1392120"/>
            <a:ext cx="452520" cy="34308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tent Placeholder 2"/>
          <p:cNvSpPr/>
          <p:nvPr/>
        </p:nvSpPr>
        <p:spPr>
          <a:xfrm>
            <a:off x="1879560" y="4632480"/>
            <a:ext cx="7015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VP-TE signaling based solutions to address these requirements are not defined in RFC487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ove mentioned situation can even lead to infinite signaling loop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2640" y="1612800"/>
            <a:ext cx="601560" cy="527040"/>
          </a:xfrm>
          <a:custGeom>
            <a:avLst/>
            <a:gdLst/>
            <a:ahLst/>
            <a:rect l="l" t="t" r="r" b="b"/>
            <a:pathLst>
              <a:path w="250" h="195">
                <a:moveTo>
                  <a:pt x="0" y="0"/>
                </a:moveTo>
                <a:cubicBezTo>
                  <a:pt x="21" y="30"/>
                  <a:pt x="42" y="60"/>
                  <a:pt x="61" y="83"/>
                </a:cubicBezTo>
                <a:cubicBezTo>
                  <a:pt x="80" y="106"/>
                  <a:pt x="97" y="118"/>
                  <a:pt x="114" y="136"/>
                </a:cubicBezTo>
                <a:cubicBezTo>
                  <a:pt x="131" y="154"/>
                  <a:pt x="137" y="195"/>
                  <a:pt x="160" y="189"/>
                </a:cubicBezTo>
                <a:cubicBezTo>
                  <a:pt x="183" y="183"/>
                  <a:pt x="216" y="140"/>
                  <a:pt x="250" y="9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9720" y="1974960"/>
            <a:ext cx="2165400" cy="444240"/>
          </a:xfrm>
          <a:custGeom>
            <a:avLst/>
            <a:gdLst/>
            <a:ahLst/>
            <a:rect l="l" t="t" r="r" b="b"/>
            <a:pathLst>
              <a:path w="1364" h="280">
                <a:moveTo>
                  <a:pt x="0" y="105"/>
                </a:moveTo>
                <a:cubicBezTo>
                  <a:pt x="49" y="91"/>
                  <a:pt x="99" y="77"/>
                  <a:pt x="144" y="90"/>
                </a:cubicBezTo>
                <a:cubicBezTo>
                  <a:pt x="189" y="103"/>
                  <a:pt x="232" y="151"/>
                  <a:pt x="272" y="181"/>
                </a:cubicBezTo>
                <a:cubicBezTo>
                  <a:pt x="312" y="211"/>
                  <a:pt x="323" y="280"/>
                  <a:pt x="386" y="272"/>
                </a:cubicBezTo>
                <a:cubicBezTo>
                  <a:pt x="449" y="264"/>
                  <a:pt x="561" y="178"/>
                  <a:pt x="651" y="135"/>
                </a:cubicBezTo>
                <a:cubicBezTo>
                  <a:pt x="741" y="92"/>
                  <a:pt x="805" y="28"/>
                  <a:pt x="924" y="14"/>
                </a:cubicBezTo>
                <a:cubicBezTo>
                  <a:pt x="1043" y="0"/>
                  <a:pt x="1291" y="46"/>
                  <a:pt x="1364" y="52"/>
                </a:cubicBezTo>
              </a:path>
            </a:pathLst>
          </a:custGeom>
          <a:noFill/>
          <a:ln w="38160">
            <a:solidFill>
              <a:srgbClr val="3399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58880" y="2255760"/>
            <a:ext cx="2558880" cy="1449360"/>
            <a:chOff x="758880" y="2255760"/>
            <a:chExt cx="2558880" cy="1449360"/>
          </a:xfrm>
        </p:grpSpPr>
        <p:sp>
          <p:nvSpPr>
            <p:cNvPr id="142" name=""/>
            <p:cNvSpPr/>
            <p:nvPr/>
          </p:nvSpPr>
          <p:spPr>
            <a:xfrm>
              <a:off x="758880" y="2255760"/>
              <a:ext cx="2222640" cy="1449360"/>
            </a:xfrm>
            <a:custGeom>
              <a:avLst/>
              <a:gdLst/>
              <a:ahLst/>
              <a:rect l="l" t="t" r="r" b="b"/>
              <a:pathLst>
                <a:path w="1530" h="952">
                  <a:moveTo>
                    <a:pt x="0" y="952"/>
                  </a:moveTo>
                  <a:cubicBezTo>
                    <a:pt x="118" y="798"/>
                    <a:pt x="237" y="644"/>
                    <a:pt x="318" y="536"/>
                  </a:cubicBezTo>
                  <a:cubicBezTo>
                    <a:pt x="399" y="428"/>
                    <a:pt x="427" y="386"/>
                    <a:pt x="485" y="301"/>
                  </a:cubicBezTo>
                  <a:cubicBezTo>
                    <a:pt x="543" y="216"/>
                    <a:pt x="565" y="56"/>
                    <a:pt x="667" y="28"/>
                  </a:cubicBezTo>
                  <a:cubicBezTo>
                    <a:pt x="769" y="0"/>
                    <a:pt x="967" y="128"/>
                    <a:pt x="1099" y="134"/>
                  </a:cubicBezTo>
                  <a:cubicBezTo>
                    <a:pt x="1231" y="140"/>
                    <a:pt x="1394" y="82"/>
                    <a:pt x="1462" y="66"/>
                  </a:cubicBezTo>
                  <a:cubicBezTo>
                    <a:pt x="1530" y="50"/>
                    <a:pt x="1502" y="39"/>
                    <a:pt x="1508" y="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9200" y="25509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3440" y="1239840"/>
            <a:ext cx="3039840" cy="2356920"/>
            <a:chOff x="433440" y="1239840"/>
            <a:chExt cx="3039840" cy="2356920"/>
          </a:xfrm>
        </p:grpSpPr>
        <p:sp>
          <p:nvSpPr>
            <p:cNvPr id="145" name=""/>
            <p:cNvSpPr/>
            <p:nvPr/>
          </p:nvSpPr>
          <p:spPr>
            <a:xfrm>
              <a:off x="433440" y="1447560"/>
              <a:ext cx="2719440" cy="2149200"/>
            </a:xfrm>
            <a:custGeom>
              <a:avLst/>
              <a:gdLst/>
              <a:ahLst/>
              <a:rect l="l" t="t" r="r" b="b"/>
              <a:pathLst>
                <a:path w="1713" h="1354">
                  <a:moveTo>
                    <a:pt x="0" y="1354"/>
                  </a:moveTo>
                  <a:cubicBezTo>
                    <a:pt x="155" y="1189"/>
                    <a:pt x="310" y="1025"/>
                    <a:pt x="387" y="899"/>
                  </a:cubicBezTo>
                  <a:cubicBezTo>
                    <a:pt x="464" y="773"/>
                    <a:pt x="446" y="694"/>
                    <a:pt x="462" y="596"/>
                  </a:cubicBezTo>
                  <a:cubicBezTo>
                    <a:pt x="478" y="498"/>
                    <a:pt x="477" y="389"/>
                    <a:pt x="485" y="308"/>
                  </a:cubicBezTo>
                  <a:cubicBezTo>
                    <a:pt x="493" y="227"/>
                    <a:pt x="469" y="160"/>
                    <a:pt x="508" y="111"/>
                  </a:cubicBezTo>
                  <a:cubicBezTo>
                    <a:pt x="547" y="62"/>
                    <a:pt x="652" y="26"/>
                    <a:pt x="720" y="13"/>
                  </a:cubicBezTo>
                  <a:cubicBezTo>
                    <a:pt x="788" y="0"/>
                    <a:pt x="848" y="30"/>
                    <a:pt x="917" y="35"/>
                  </a:cubicBezTo>
                  <a:cubicBezTo>
                    <a:pt x="986" y="40"/>
                    <a:pt x="1079" y="37"/>
                    <a:pt x="1137" y="43"/>
                  </a:cubicBezTo>
                  <a:cubicBezTo>
                    <a:pt x="1195" y="49"/>
                    <a:pt x="1224" y="67"/>
                    <a:pt x="1266" y="73"/>
                  </a:cubicBezTo>
                  <a:cubicBezTo>
                    <a:pt x="1308" y="79"/>
                    <a:pt x="1313" y="88"/>
                    <a:pt x="1387" y="81"/>
                  </a:cubicBezTo>
                  <a:cubicBezTo>
                    <a:pt x="1461" y="74"/>
                    <a:pt x="1657" y="38"/>
                    <a:pt x="1713" y="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720" y="12398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43000" y="1803240"/>
            <a:ext cx="354240" cy="1987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944360"/>
            <a:ext cx="131760" cy="98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285920"/>
            <a:ext cx="312840" cy="2221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3400" y="1467000"/>
            <a:ext cx="190440" cy="1634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8"/>
          <p:cNvSpPr/>
          <p:nvPr/>
        </p:nvSpPr>
        <p:spPr>
          <a:xfrm>
            <a:off x="4352760" y="106200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176388"/>
              <a:gd name="adj4" fmla="val -54166"/>
            </a:avLst>
          </a:prstGeom>
          <a:solidFill>
            <a:srgbClr val="ff0000">
              <a:alpha val="54000"/>
            </a:srgbClr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rge happens at (C) in domai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4560" y="4237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4360" y="11336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85880" y="28814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36680" y="281448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24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5880" y="1306440"/>
            <a:ext cx="8105760" cy="472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339999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ess selects the same domain border node for ERO expansion for all siblings transiting a given domain. Domain border nodes expands EROs for all siblings S2L such that the overall path taken by these siblings in the domain is remerge fre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339999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nkback Signaling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not require selection of same domain border node for all siblings transiting a given domai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iblings that have failed the LSP setup, on receipt of a PathErr a domain border node may hold the PathErr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omain border node may try to signal an alternate path through the domain, for siblings that have failed the LSP setup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 subsequent attempt is successful, the domain border node discards the held PathErr messag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ll subsequent attempts are unsuccessful, the domain border node send a PathErr with a new cause to the Ingress nod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s node tries to find an alternate domain for the siblings failed the setup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7680" y="2087640"/>
            <a:ext cx="8369280" cy="244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ould like to request chairs of CCAMP and MPLS WG to decide where this work will belon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ould like to make this document a WG Docum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28400" y="2460600"/>
            <a:ext cx="4660920" cy="968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186840" indent="0">
              <a:lnSpc>
                <a:spcPct val="110000"/>
              </a:lnSpc>
              <a:spcBef>
                <a:spcPts val="24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0:17:15Z</dcterms:created>
  <dc:creator>Cisco User</dc:creator>
  <dc:description/>
  <cp:keywords/>
  <dc:language>en-US</dc:language>
  <cp:lastModifiedBy>Cisco Systems, Inc.</cp:lastModifiedBy>
  <cp:lastPrinted>1999-01-27T00:54:54Z</cp:lastPrinted>
  <dcterms:modified xsi:type="dcterms:W3CDTF">2010-03-23T15:26:36Z</dcterms:modified>
  <cp:revision>785</cp:revision>
  <dc:subject>Guide for Creating Powerpoint Presentations</dc:subject>
  <dc:title>PRESENTATION TITLE/SIZE 30 </dc:title>
</cp:coreProperties>
</file>