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F72E-37E6-4822-9F47-022AA3E3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2F7-085E-49B8-ADA5-0D8FC21A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6082-49A4-484E-8EBC-C3558B55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BB84-589B-4371-8372-0F2AA00B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AEC-D3CC-4E8F-ACA1-21B75ABB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1F7F-E4BF-46F7-8262-325EB80C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FA8-64E4-4D0D-98C1-D453814A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C65-5E71-4980-B502-30310677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F59-3C2D-416D-8BF6-5A589ADB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907-27F3-4D21-A740-1DBEF6ED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6424-EB1A-4C9C-9116-0687000A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13BA-DE09-4F45-9FDE-3F2BCD8D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BA05-E06D-4641-A127-45C1F2E7D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qzhao@huawei.com" TargetMode="External"/><Relationship Id="rId2" Type="http://schemas.openxmlformats.org/officeDocument/2006/relationships/hyperlink" Target="mailto:Huaimochen@huawei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9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RSVP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ns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Muti-Topology Support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45320" y="4114800"/>
            <a:ext cx="442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uintin Zhao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qzhao@huawe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uaimo Chen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uaimochen@huawe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uyuang Fang, lufang@cis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o Zhou, czhou@cis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anyuan Li, lilianyuan@chinamobi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in Huang, huangxin@chinamobi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35080" y="3200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zhao-rsvp-multi-topology-extension-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31680" y="33120"/>
            <a:ext cx="715644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Background: IGP Support M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843120"/>
            <a:ext cx="895356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IGP is extended to support Multi-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OSPF is extended to support Multi-Topology, RFC 49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ISIS is extended to support Multi-Topology, RFC 5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T-ID (a 12bit value) to identify logical topologies that overlay one physical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P (OSPF or IS-IS) computes separate SPF tree for each logical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1680" y="33120"/>
            <a:ext cx="715644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Extensions to RSVP-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080" y="685440"/>
            <a:ext cx="895356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Add MT Information into SESSION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Extended P2P SESSION object for IPv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4320" y="2289240"/>
            <a:ext cx="7158240" cy="19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4320" y="2844720"/>
            <a:ext cx="715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4320" y="3522600"/>
            <a:ext cx="715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2438280"/>
            <a:ext cx="339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Hei"/>
              </a:rPr>
              <a:t>IPv4 Tunnel End Addr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3240" y="3594240"/>
            <a:ext cx="339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Hei"/>
              </a:rPr>
              <a:t>Extended Tunnel 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19880" y="304632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Hei"/>
              </a:rPr>
              <a:t>Tunnel 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40040" y="3046320"/>
            <a:ext cx="206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Hei"/>
              </a:rPr>
              <a:t>MT-ID (12 bit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394160" y="2844360"/>
            <a:ext cx="0" cy="6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9400" y="2844720"/>
            <a:ext cx="0" cy="6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4320" y="3046320"/>
            <a:ext cx="9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Hei"/>
              </a:rPr>
              <a:t>Res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840" y="4191120"/>
            <a:ext cx="470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tended P2MP SESSION object for IPv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800600"/>
            <a:ext cx="7158240" cy="19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356080"/>
            <a:ext cx="715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6033960"/>
            <a:ext cx="715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68680" y="4950000"/>
            <a:ext cx="19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Hei"/>
              </a:rPr>
              <a:t>P2MP 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97360" y="6105600"/>
            <a:ext cx="339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Hei"/>
              </a:rPr>
              <a:t>Extended Tunnel 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43640" y="555768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Hei"/>
              </a:rPr>
              <a:t>Tunnel 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63800" y="5557680"/>
            <a:ext cx="206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Hei"/>
              </a:rPr>
              <a:t>MT-ID (12 bit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417920" y="5355720"/>
            <a:ext cx="0" cy="6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03520" y="5356080"/>
            <a:ext cx="0" cy="6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55576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Hei"/>
              </a:rPr>
              <a:t>Res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1680" y="33120"/>
            <a:ext cx="715644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MPLS Forwarding in M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843120"/>
            <a:ext cx="895356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Option 1: MT is implied by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On a LSR, same FEC with different MT-ID are  mapped to different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dvantages: N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hanges on the forwarding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isadvantages: Label space is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Option 2: MT is indicated by stacked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One extra label is stacked to indicate a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dvantages: Each topology has a full label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isadvantages: Forwarding is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Next Ste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ook for suggestions and comment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7:02:55Z</dcterms:created>
  <dc:creator>Z73671</dc:creator>
  <dc:description/>
  <dc:language>en-US</dc:language>
  <cp:lastModifiedBy>Z73671</cp:lastModifiedBy>
  <dcterms:modified xsi:type="dcterms:W3CDTF">2010-03-23T06:07:50Z</dcterms:modified>
  <cp:revision>13</cp:revision>
  <dc:subject/>
  <dc:title>MPLS Extension  for Muti-Topology Support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9306111</vt:lpwstr>
  </property>
</Properties>
</file>