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380880"/>
            <a:ext cx="7010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ETF – Anaheim, California,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95280"/>
            <a:ext cx="76320" cy="472464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066680"/>
            <a:ext cx="8077320" cy="7632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4008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age - </a:t>
            </a:r>
            <a:fld id="{4FFCCEB1-C4D5-4459-BD18-9656958CAE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lee@huawei.com" TargetMode="External"/><Relationship Id="rId2" Type="http://schemas.openxmlformats.org/officeDocument/2006/relationships/hyperlink" Target="mailto:gregb@grotto-networking.com" TargetMode="External"/><Relationship Id="rId3" Type="http://schemas.openxmlformats.org/officeDocument/2006/relationships/hyperlink" Target="mailto:imajuku.wataru@lab.ntt.co.jp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ramework for GMPLS and PCE Control of Wavelength Switched Optical Network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WS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28880" y="403848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ng L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/>
              </a:rPr>
              <a:t>ylee@huawe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uaw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g Bernste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regb@grotto-networking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tto 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taru Imajuk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imajuku.wataru@lab.ntt.co.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82400" y="342900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aft-ietf-ccamp-rwa-wson-framework-05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uthors/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nigdho Bardalai (Fujits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reg Bernste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Grotto Network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ego Caviglia  (Erics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taru Imajuk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NT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niel King (Old Dog Consult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ng L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Huawe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n Li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taru Nishioka (NEC Corp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yndon Ong (Ci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ierre Peloso (Alcatel-Luc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onathan Sadler (Tellab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rk Schroetter (Cisco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SON RWA Framework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ntrol plane models for key wavelength switched optical network subsystems and processes. The subsystems includ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avelength division multiplexed links, tunable laser transmitte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configurable optical add/drop multiplexers (ROADM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generat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wavelength conver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RWA process is reviewed and the information requirements are presented, along with alternative implementation architectu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lectro-optical network elements and their compatibility constraints relative to optical signal parameters are characte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mitations: focuses on topological elements and path selection constraints that are common across different WSON environments and does not address optical impair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ed and enhanced sections on signal type and network element compat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d section 3.2.1 into section 3.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d new section 3.3 on Optical signals with material from [WSON-Compat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d new section 3.5 on Electro-Optical systems with material from [WSON-Compat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d new section 3.7 on Characterizing Electro-Optical Network Elements with material from [WSON-Compat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d new section 5.5 on Electro-Optical Networking Scenarios with material from [WSON-Compat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d new section 6.1.2 on WSON Signals and Network Element Processing with material from [WSON-Compat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d new section 6.3.2. Electro-Optical Related PCEP Extensions with material from [WSON-Compat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90560" y="243828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epare for Last C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21:08:18Z</dcterms:created>
  <dc:creator>Dr. Greg M. Bernstein</dc:creator>
  <dc:description/>
  <dc:language>en-US</dc:language>
  <cp:lastModifiedBy>l73682</cp:lastModifiedBy>
  <dcterms:modified xsi:type="dcterms:W3CDTF">2010-03-15T17:54:20Z</dcterms:modified>
  <cp:revision>133</cp:revision>
  <dc:subject/>
  <dc:title>Optical Network Control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8664228</vt:lpwstr>
  </property>
</Properties>
</file>