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FEBAD3AD-0163-4B19-B9FA-75661962E9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ee@huawei.com" TargetMode="External"/><Relationship Id="rId2" Type="http://schemas.openxmlformats.org/officeDocument/2006/relationships/hyperlink" Target="mailto:gregb@grotto-networking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otto-networking.com/sites/default/files/ModelingSwitchesConvertersRegensV02f_0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Model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962520"/>
            <a:ext cx="7086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560" y="33526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wson-info-07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formation for RWA in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ins high level path computation info model for W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 management info model, bu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th computation inform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scope of applicability as WSON RWA Framework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moved encoding specific text from Section 4.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moved encoding specific text from Section 3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umbered sections for clar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arated Generic model from WSON specif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ed signal compatibility model (WSON specific)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ified information model for WSON specifics, by combining similar fields and introducing simpler aggregate information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Material: Mode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of models against real and proposed systems can be foun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M. Bernstein, Y. Lee, A. Gavler, and J. Martensson, “Modeling WDM Wavelength Switching Systems for Use in GMPLS and Automated Path Computation,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urnal of Optical Communications and Networ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ol. 1, Jun. 2009, pp. 187-195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Bernstein, Y. Lee, “A WSON GMPLS Model for Signal Compatibility and Switching Systems including Wavelength Converters and Regenerators”, preprint 2010 available at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grotto-networking.com/sites/default/files/ModelingSwitchesConvertersRegensV02f_0.pd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Young Lee</dc:creator>
  <dc:description/>
  <dc:language>en-US</dc:language>
  <cp:lastModifiedBy>Greg M. Bernstein</cp:lastModifiedBy>
  <dcterms:modified xsi:type="dcterms:W3CDTF">2010-03-15T23:29:15Z</dcterms:modified>
  <cp:revision>137</cp:revision>
  <dc:subject/>
  <dc:title>WSON Info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4228</vt:lpwstr>
  </property>
</Properties>
</file>