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D986FDF3-E2B6-47D5-A741-8E26C6F8C9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b@grotto-networking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uting and Wavelength Assignment Information Encoding for Wavelength Switched Opt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419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9200" y="3352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rwa-wson-encode-04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ianrui (Rebecca) Han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ncoding RWA Info in W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p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s 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WSON specific aspe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f the RWA WSON Framework and Info Model drafts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(scope red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document provides efficient, protocol-agnostic encodings for the WSON specific information elements. It is intended that protocol-specific documents will reference this memo to describe how information is carried for specific u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from Encoding 03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moved encodings for general concepts to [Gen-Encode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ized &amp; Simplified Resource 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 “Resource block” terminology to refer to either wavelength converters, regenerators, or othe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 blocks” can contain multiple identical resourc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etter for encoding OEO switches, regular regenera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ed in WSON signal compatibility and processing capability information encodings from ietf-ccamp-signal-compatibility-ospf-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 block info sub-T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ted sub-sub-TLVs: Input Modulation, Input FEC, Input Bit Rate, Input client signal types, Processing Capabilities, Output modulation types, Output FEC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ool Information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ode_Info&gt; ::= &lt;Node_ID&gt;[Other GMPLS sub-TLVs] [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P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][&lt;RBPoolState&gt;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P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::= &lt;ResourceBlockInfo&gt;... [&lt;ResourceBlockAccessibility&gt;...] [&lt;ResourceWaveConstraints&gt;...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ool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895480"/>
          <a:ext cx="289548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8954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52400" y="4600440"/>
          <a:ext cx="290520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00" y="4600440"/>
                    <a:ext cx="290520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529280" y="42955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Shared by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05520" y="1066680"/>
          <a:ext cx="2990880" cy="127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66680"/>
                    <a:ext cx="29908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52880" y="2819520"/>
          <a:ext cx="3038760" cy="164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2819520"/>
                    <a:ext cx="30387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05520" y="4495680"/>
          <a:ext cx="2543040" cy="175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4495680"/>
                    <a:ext cx="25430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580400" y="60926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Shared by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26400" y="248256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 “Half Clea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30040" y="6095520"/>
            <a:ext cx="39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d) “Shared by Wavelength”, W=5, M=3, p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8080" y="1143000"/>
          <a:ext cx="3200400" cy="1714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1143000"/>
                    <a:ext cx="32004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rot="16200000">
            <a:off x="360" y="164052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l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ool Encoding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95160" y="1114560"/>
          <a:ext cx="296244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114560"/>
                    <a:ext cx="29624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2819520"/>
          <a:ext cx="296208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19520"/>
                    <a:ext cx="29620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4695840"/>
          <a:ext cx="2962440" cy="14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695840"/>
                    <a:ext cx="29624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81480" y="1295280"/>
          <a:ext cx="2971800" cy="17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1295280"/>
                    <a:ext cx="297180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952880" y="3657600"/>
          <a:ext cx="3000600" cy="216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3657600"/>
                    <a:ext cx="30006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175760" y="243792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) Shared with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0280" y="426672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) Shared with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30760" y="609552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) Shared with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12800" y="3047760"/>
            <a:ext cx="31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) OEO switch with DWDM op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25400" y="57146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 Regenerators on a DWDM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y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the “Resource Block sub-TLV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 block info sub-T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ddresses the compatibility and capabilities of the resources in a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-sub-TLVs: Extracted from OSPF WSON compatibility d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4120" y="2057400"/>
          <a:ext cx="3352680" cy="312408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Resource Block Set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Input Mod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Input F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Input Bi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Input client signal 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Processing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Output modulation typ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Output FEC typ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sh, refine, prepare for last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Greg M. Bernstein</cp:lastModifiedBy>
  <dcterms:modified xsi:type="dcterms:W3CDTF">2010-03-18T15:40:25Z</dcterms:modified>
  <cp:revision>161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841750</vt:lpwstr>
  </property>
</Properties>
</file>