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8D32FC52-6C3B-4BB4-B96A-752675F891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Network Element Constraint Encoding for GMPLS Controll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3800" y="335268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general-constraint-encode-01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Constraint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MPLS can be used to control a wide variety of technologies. In some of these technologies network elements and links may impose additional routing constraints such as asymmetric switch connectivity, label limitation and label availability on link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provides efficient, protocol-agnostic encodings for general information elements representing connectivity and label constraints as well as label availability. These encodings are applicable to a wide range of technologies and not limited to W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spe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RWA WSON Framework and Info Model drafts that maybe useful to other technologies. Text extracted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-ietf-ccamp-rwa-wson-encode-03, no new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ext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rwa-wson-encode-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ub-TL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vailable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Backup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nectivit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ort Label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ink Se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abel Se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sh, 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3-15T16:30:20Z</dcterms:modified>
  <cp:revision>156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95307</vt:lpwstr>
  </property>
</Properties>
</file>