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7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 IETF – Anaheim, California,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Page - </a:t>
            </a:r>
            <a:fld id="{FEFB4C67-AF82-40DE-805B-3ABE2212F9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b@grotto-networking.com" TargetMode="External"/><Relationship Id="rId2" Type="http://schemas.openxmlformats.org/officeDocument/2006/relationships/hyperlink" Target="mailto:ylee@huawei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General Network Element Constraint Encoding for GMPLS Controlle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28880" y="44197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Young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uaw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3800" y="335268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raft-ietf-ccamp-general-constraint-encode-01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reg Berns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Grotto Net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Diego Caviglia  (Erics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nder Gavler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Jianrui (Rebecca) Han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Young 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Dan 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Wataru Imaju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N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Jonas Martensson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taru Nishioka (NEC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General Constraint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MPLS can be used to control a wide variety of technologies. In some of these technologies network elements and links may impose additional routing constraints such as asymmetric switch connectivity, label limitation and label availability on link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document provides efficient, protocol-agnostic encodings for general information elements representing connectivity and label constraints as well as label availability. These encodings are applicable to a wide range of technologies and not limited to W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cop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s 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spe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RWA WSON Framework and Info Model drafts that maybe useful to other technologies. Text extracted 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-ietf-ccamp-rwa-wson-encode-03, no new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ext f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ccamp-rwa-wson-encode-0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Sub-TL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vailable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Backup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Connectivity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Port Label Rest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Link Set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Label Set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sh, refine, prepare for last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Dr. Greg M. Bernstein</dc:creator>
  <dc:description/>
  <dc:language>en-US</dc:language>
  <cp:lastModifiedBy>Greg M. Bernstein</cp:lastModifiedBy>
  <dcterms:modified xsi:type="dcterms:W3CDTF">2010-03-15T16:30:20Z</dcterms:modified>
  <cp:revision>156</cp:revision>
  <dc:subject/>
  <dc:title>Optical Network Control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47595307</vt:lpwstr>
  </property>
</Properties>
</file>