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8792-EE40-4D89-A485-13A99A1949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C0F4-7384-42D2-8AAC-99418C0223DC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F986-A416-4471-B06B-4785A60C503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6C7BC18B-B95F-4A6B-B997-A01B4AC6B7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767320" y="6381720"/>
            <a:ext cx="37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7th IETF – Anaheim, California,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kern-ccamp-rsvpte-hop-attributes-00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gnal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Extensions for Wavelength Switched Optical Net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9440" y="2460600"/>
            <a:ext cx="604512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raft-bernstein-ccamp-wson-signaling-06.t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643120" y="3429000"/>
            <a:ext cx="400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eg Bernste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otto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oung L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uaw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ugang Xu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N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Hiroaki Harai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N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SON Signaling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vide extensions to Generalized Multi-Protocol Label Switching  (GMPLS) signaling for control of Wavelength Switched Optical Networks (WSON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nges from 0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igned with updated draft “draft-ietf-ccamp-rwa-wson-framework-05.txt” with inclusion of regenerators, OEO switches, and wavelength converters. This used to point to the “compatibility draft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Attributes and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99700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tion Type (TL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all ITU-T optical tributary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vendor specific modulation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 Type (TL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all ITU-T standard F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vendor specific FEC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neration Processing (TL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ndicate that regeneration is to be performed on the signal at a particular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0560" y="1268280"/>
            <a:ext cx="78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o be included as a subobject within an ERO or via some other mechanism. See Attila’s draf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tools.ietf.org/html/draft-kern-ccamp-rsvpte-hop-attributes-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opt as a WG docu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eep aligned with WSON framework, info and encoding dr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vise encodings as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23:25:13Z</dcterms:created>
  <dc:creator>daniel.king</dc:creator>
  <dc:description/>
  <dc:language>en-US</dc:language>
  <cp:lastModifiedBy>l73682</cp:lastModifiedBy>
  <dcterms:modified xsi:type="dcterms:W3CDTF">2010-03-15T18:20:04Z</dcterms:modified>
  <cp:revision>150</cp:revision>
  <dc:subject/>
  <dc:title>Signaling Extensions for Wavelength Switched Optical Network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664228</vt:lpwstr>
  </property>
</Properties>
</file>