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44981-C41B-4D4F-9F8A-8B882990324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C904E-510E-4761-8E0C-C85038760249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96F01-61C7-46A5-B22A-E566BDD895B2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47560" y="380880"/>
            <a:ext cx="70102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295280"/>
            <a:ext cx="76320" cy="4724640"/>
          </a:xfrm>
          <a:prstGeom prst="rect">
            <a:avLst/>
          </a:prstGeom>
          <a:solidFill>
            <a:srgbClr val="0000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1066680"/>
            <a:ext cx="8077320" cy="76320"/>
          </a:xfrm>
          <a:prstGeom prst="rect">
            <a:avLst/>
          </a:prstGeom>
          <a:solidFill>
            <a:srgbClr val="0000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533520" y="640080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age - </a:t>
            </a:r>
            <a:fld id="{B9D0FFD7-5834-4284-95D5-0846B289088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767320" y="6381720"/>
            <a:ext cx="376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77th IETF – Anaheim, California,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tools.ietf.org/html/draft-kern-ccamp-rsvpte-hop-attributes-00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0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ignalin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Extensions for Wavelength Switched Optical Networ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49440" y="2460600"/>
            <a:ext cx="6045120" cy="59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raft-bernstein-ccamp-wson-signaling-06.tx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2643120" y="3429000"/>
            <a:ext cx="4000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Greg Bernste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Grotto Networ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Young Le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uaw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Sugang Xu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N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Hiroaki Harai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N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SON Signaling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rovide extensions to Generalized Multi-Protocol Label Switching  (GMPLS) signaling for control of Wavelength Switched Optical Networks (WSON)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hanges from 05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ligned with updated draft “draft-ietf-ccamp-rwa-wson-framework-05.txt” with inclusion of regenerators, OEO switches, and wavelength converters. This used to point to the “compatibility draft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al Attributes and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997000"/>
            <a:ext cx="77724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tion Type (TL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s all ITU-T optical tributary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for vendor specific modulation forma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C Type (TL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s all ITU-T standard FE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for vendor specific FEC 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eneration Processing (TL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to indicate that regeneration is to be performed on the signal at a particular no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90560" y="1268280"/>
            <a:ext cx="788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To be included as a subobject within an ERO or via some other mechanism. See Attila’s draft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tools.ietf.org/html/draft-kern-ccamp-rsvpte-hop-attributes-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920" y="380880"/>
            <a:ext cx="7010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dopt as a WG documen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Keep aligned with WSON framework, info and encoding draf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evise encodings as necess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3T23:25:13Z</dcterms:created>
  <dc:creator>daniel.king</dc:creator>
  <dc:description/>
  <dc:language>en-US</dc:language>
  <cp:lastModifiedBy>l73682</cp:lastModifiedBy>
  <dcterms:modified xsi:type="dcterms:W3CDTF">2010-03-15T18:20:04Z</dcterms:modified>
  <cp:revision>150</cp:revision>
  <dc:subject/>
  <dc:title>Signaling Extensions for Wavelength Switched Optical Network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268664228</vt:lpwstr>
  </property>
</Properties>
</file>