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D9C-3A01-4F31-BA93-F944E1C0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D68-3DE7-47A3-9AF6-7E1C99A9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569-CB5B-4CC9-AE18-A97AC003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57F-8912-4185-9291-163D0CC3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CCF-9CE2-419B-A93F-82ACF62C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F27-A3FB-4A28-B9A9-31ECCBA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BDA-3827-4A54-BB91-A44BC94F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C02-4814-4562-8DF7-4F552BF2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494-DA0A-4A4D-AA94-00A07DE2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4B0-3405-458E-AF4A-F2DF1A0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8B5-8790-4C2D-9C2F-D7454A61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D76-3A1C-4DCF-86CB-8F606D42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A93-934C-4447-86B4-8EDE4BAD21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SPF Extensions in Support of RWA in WS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8800" y="2450880"/>
            <a:ext cx="80521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CCAMP WG, IETF 77th,  Anaheim, California, US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aft-zhang-ccamp-rwa-wson-routing-ospf-03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Fatai Zhang (zhangfatai@huawe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oung Lee(ylee@huawe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ianrui Han(hanjianrui@huawe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eg Bernstein (gregb@grotto-networking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unbin Xu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xuyunbin@mail.ritt.com.c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nges from 02.t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480" y="1461960"/>
            <a:ext cx="760284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based on [GEN-Encode]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ft-ietf-ccamp-general-constraint-encode-01.t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Scope: Only deal with OSPF extension to align with [GEN-Encode] (i.e., removed Wavelength Converter Inf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 extension about signal compatibility constraints is addressed in separate document [WSON-COMP-OSPF]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ft-ietf-ccamp-wson-signal-compatibility-ospf-0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editori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oved Wavelength Converter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8480" y="1068480"/>
            <a:ext cx="8039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velength Converter inf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Wavelength Converter Accessibil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b-TLV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Wavelength Conversion Range sub-TL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WC Usage State sub-TL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s remov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is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ngth Converter Info is generalized as Resource Block Info, which is described in [WSON-COMP-OSPF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lig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d with [GEN-Encode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8840" y="1335240"/>
            <a:ext cx="7786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Information (sub-TLV of Node Attribute TL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nectivity Matr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k Information (sub-TLVs of TE Link TLV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Port Labe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Available Lab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Shared Backup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8480" y="1372680"/>
            <a:ext cx="8039160" cy="30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dopt it as a WG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efine it according to the feedback from the meeting or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atai</cp:lastModifiedBy>
  <dcterms:modified xsi:type="dcterms:W3CDTF">2010-03-19T07:54:48Z</dcterms:modified>
  <cp:revision>8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sflag">
    <vt:lpwstr>1268636256</vt:lpwstr>
  </property>
</Properties>
</file>