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1C8-FBEC-4DAC-89FD-EE7F9A5A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6AB-98A5-46FA-A2D6-ADCE261F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4A9-8969-4E1C-8A71-36595235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F05-AFA7-498F-8251-8BD493BD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227-3DE4-4F5E-9EF5-1681D232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EB3-7505-4D34-9E10-8C33A191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462-BCBC-4B10-8995-F2C1BE9E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FE3-F3BE-41C9-89B9-155EB38D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6B7-A7D8-420E-AC7F-2815FCF9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A44-0765-4CA6-8350-58D390B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17B-DDEC-4ADE-B882-F336887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BFD-7E73-4B36-AE33-3DB315F7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AC88-82C5-4C99-87D0-020AFFC634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SPF Extensions in Support of RWA in WS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8800" y="2450880"/>
            <a:ext cx="805212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CCAMP WG, IETF 77th,  Anaheim, California, US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raft-zhang-ccamp-rwa-wson-routing-ospf-03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Fatai Zhang (zhangfatai@huawei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oung Lee(ylee@huawei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ianrui Han(hanjianrui@huawei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eg Bernstein (gregb@grotto-networking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unbin Xu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xuyunbin@mail.ritt.com.c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nges from 02.t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480" y="1461960"/>
            <a:ext cx="760284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based on [GEN-Encode]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aft-ietf-ccamp-general-constraint-encode-01.t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Scope: Only deal with OSPF extension to align with [GEN-Encode] (i.e., removed Wavelength Converter Inf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PF extension about signal compatibility constraints is addressed in separate document [WSON-COMP-OSPF]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aft-ietf-ccamp-wson-signal-compatibility-ospf-0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me editori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moved Wavelength Converter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8480" y="1068480"/>
            <a:ext cx="8039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velength Converter inf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Wavelength Converter Accessibil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b-TLV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Wavelength Conversion Range sub-TL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WC Usage State sub-TL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is remov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is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ngth Converter Info is generalized as Resource Block Info, which is described in [WSON-COMP-OSPF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lig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d with [GEN-Encode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8840" y="1335240"/>
            <a:ext cx="7786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 Information (sub-TLV of Node Attribute TL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nectivity Matr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k Information (sub-TLVs of TE Link TLV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Port Label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Available Lab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Shared Backup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8480" y="1372680"/>
            <a:ext cx="8039160" cy="30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dopt it as a WG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efine it according to the feedback from the meeting or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Fatai</cp:lastModifiedBy>
  <dcterms:modified xsi:type="dcterms:W3CDTF">2010-03-19T07:54:48Z</dcterms:modified>
  <cp:revision>8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sflag">
    <vt:lpwstr>1268636256</vt:lpwstr>
  </property>
</Properties>
</file>