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8421-4249-44BF-8A12-2D5E6E444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A37D-7F52-4439-B424-6E823008A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6E3F-D1B0-4363-9ACE-389B53914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24AC-A77E-46BE-AD9A-45CA1BB9C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08D9-5FE5-4612-89DD-429765900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27BE-1525-44FA-AB14-879EBE82E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C85-0B95-45A4-9E77-72B44F76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27E-0FC0-4F55-8B0D-714924F4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FB0-FCC4-4478-BBBF-3A893A85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4C0-7506-409A-A3C5-3C884FB3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AF6B-6862-4CEB-AAC4-737C4A6E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432B-E87B-4287-A1C2-3013FCB2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420B-08FE-4AE4-99CF-12ADD68E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5695-2FE8-4E9F-81C9-FB1B7B61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6A93-C50F-4CA6-80B7-F31B6CD9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E560-4A3F-4679-91D7-AEB4CC2F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B50C-F1AE-4784-9A94-DA9AC269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951-A9CE-47DC-A31D-D1183DC0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F35C-8523-4456-8638-6AADA178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FBDE-3CEA-450D-A271-25EEB397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CF7E-82F2-4A18-BFE1-21A91912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AC1F-B604-4CE2-9B1A-147AF6DD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41F0-0010-46B4-BADC-29E4208B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488CC-3FCC-4D40-8D36-0D917825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29590-7335-47DC-80BB-DA382B94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3B7B4-FEA0-4D4D-8D63-EA135749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7AB24-5FBB-458A-8A66-C1890232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CADA8-950D-4466-94B2-47B42E1B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E51-ECC8-47CD-A69C-4C831E6E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72BFE-D924-4B65-AA76-DDB93B6C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F573B-0C15-4867-8F4C-5277E313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84602-C06A-471B-AAA6-335DB25F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D1E6C-8A11-4743-8A0F-AE0F999B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FC529-E592-4BDB-A079-4C0C5BDA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7416A-7C34-460F-8923-C1F4559C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BD3FC-A83D-4035-A866-C0AA2C56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B16-10BB-46B9-A97F-933B2FD4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9E30-71D4-4819-856B-B7EB1159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9A20-9CC9-41B5-B2F8-57FDFC22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FB9-388B-41E5-A9CD-82D70122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E8A6-A32C-4F4B-8EEF-1DEAAA7A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438-E553-41FC-8A7F-E9EB078A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DC4B-7212-4077-8104-0CEEE3BC0058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7B8E-242F-48FB-92DD-0A0843D8CBD8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262D-7215-4394-B3A8-A4C1A16E7187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etf.org/id/draft-ietf-l3vpn-ospfv3-pece-05.txt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OSPFv3 as a PE-CE Routing Protocol</a:t>
            </a: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 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030a0"/>
                </a:solidFill>
                <a:uFillTx/>
                <a:latin typeface="News Gothic MT"/>
                <a:hlinkClick r:id="rId1"/>
              </a:rPr>
              <a:t>http://www.ietf.org/id/draft-ietf-l3vpn-ospfv3-pece-05.tx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22 March 2010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9CE7-231F-4589-A3DA-419668C77338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286000" y="4800600"/>
            <a:ext cx="5181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Pillay-Esnault, ppe@cisc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Moyer, pmoyer@juniper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. Doyle, jdoyle@doyleassociate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 Ertekin, ertekin_emre@bah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. Lundberg, lundberg_michael@bah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7c9f"/>
                </a:solidFill>
                <a:latin typeface="Arial"/>
                <a:ea typeface="Arial"/>
              </a:rPr>
              <a:t>Why are we back?</a:t>
            </a:r>
            <a:endParaRPr b="0" lang="en-US" sz="2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520" y="1447560"/>
            <a:ext cx="8001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1120" indent="-3211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Timeline / history of our draft (March 09 – December 09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L3VPN WGLC for draft-ospfv3-l3vpn-pece-04 issued on 31 Mar 09; WGLC ended on 14 April 09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IETF LC issued on 09 Oct 09; IETF LC ended on 23 Oct 09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Draft approved by the IESG on 21 Dec 09; however…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21120" indent="-3211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After IESG approval, AD solicited an additional last call from the OSPF W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Comments received from members of the OSPF WG (Thanks!)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21120" indent="-3211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Based on these comments, OSPFv3 PE/CE co-authors determined that the document could be clearer/simplified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Franklin Gothic Medium Cond"/>
              </a:rPr>
              <a:t>Specification was returned to the L3VPN WG for these revisions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21120" indent="-3211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The following slides summarize the revisions between -04 and -05 of our draf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2BA3-6390-4D91-9FBF-72534C54D7DD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7c9f"/>
                </a:solidFill>
                <a:latin typeface="Arial"/>
                <a:ea typeface="Arial"/>
              </a:rPr>
              <a:t>Differences between -04 and -05</a:t>
            </a:r>
            <a:endParaRPr b="0" lang="en-US" sz="2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52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9360" indent="-27936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Addressed all minor comments received from the OSPF WG; these changes are summarized in the backup slid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279360" indent="-27936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The primary change between -04 and -05 is the procedure for determining whether an incoming VPNv6 route belongs to the same domain as the receiving OSPFv3 instanc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Previous version: Specified the ability to determine the domain a route belongs to based on either the (Domain ID, Instance ID) tuple, OR the (Domain  ID)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Current version: Specifies the ability to determine the domain a route belongs to based on the </a:t>
            </a:r>
            <a:r>
              <a:rPr b="0" lang="en-US" sz="1400" spc="-1" strike="noStrike" u="sng">
                <a:solidFill>
                  <a:srgbClr val="595959"/>
                </a:solidFill>
                <a:uFillTx/>
                <a:latin typeface="Franklin Gothic Medium Cond"/>
              </a:rPr>
              <a:t>Domain ID only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Fix: Removed all references to the Instance ID in the draft (i.e., Sections  3.1, 4.1, 4.1.2, 4.3, 4.3.1, 4.3.2.1, 4.3.2.3, 4.4)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marL="279360" indent="-27936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Change simplifies the specification; aligns more closely with OSPFv2 PE-CE (RFC 4577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FB18-E3A0-4925-9E92-555EA049771E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rcRect l="2431" t="39850" r="74304" b="31241"/>
          <a:stretch/>
        </p:blipFill>
        <p:spPr>
          <a:xfrm>
            <a:off x="2133720" y="3597120"/>
            <a:ext cx="48006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7c9f"/>
                </a:solidFill>
                <a:latin typeface="Arial"/>
                <a:ea typeface="Arial"/>
              </a:rPr>
              <a:t>Next Steps</a:t>
            </a:r>
            <a:endParaRPr b="0" lang="en-US" sz="2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8560" indent="-26856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Plan to outbrief these updates at the OSPF WG this week (Friday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52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27760" indent="-25884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  <a:ea typeface="ＭＳ Ｐゴシック"/>
              </a:rPr>
              <a:t>Comments suggestions on revised draft (-05) are welcom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52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268560" indent="-26856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Request WGLC on our document from the L3VPN WG and the OSPF WG within the next few week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527760" indent="-25884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Franklin Gothic Medium Cond"/>
              </a:rPr>
              <a:t>Provides OSPF and L3VPN WG members time to comment on the new draft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52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268560" indent="-26856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Questions?  Thank you!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2685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E2AE-429C-4C35-A043-925CFC56E5AA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9000" y="2403360"/>
            <a:ext cx="805644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7c9f"/>
                </a:solidFill>
                <a:latin typeface="News Gothic MT"/>
              </a:rPr>
              <a:t>Backup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39CA-8B5D-4571-BC4C-764B12FB4B55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7c9f"/>
                </a:solidFill>
                <a:latin typeface="Arial"/>
                <a:ea typeface="Arial"/>
              </a:rPr>
              <a:t>Differences between -04 and -05</a:t>
            </a:r>
            <a:endParaRPr b="0" lang="en-US" sz="2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03480" indent="-3034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Franklin Gothic Medium Cond"/>
              </a:rPr>
              <a:t>In addition to removal of the Instance ID, the following changes were made to address OSPF WG LC comments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03480" indent="-3034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95959"/>
                </a:solidFill>
                <a:uFillTx/>
                <a:latin typeface="Franklin Gothic Medium Cond"/>
              </a:rPr>
              <a:t>Added clarifying text </a:t>
            </a:r>
            <a:r>
              <a:rPr b="0" lang="en-US" sz="1600" spc="-1" strike="noStrike">
                <a:solidFill>
                  <a:srgbClr val="595959"/>
                </a:solidFill>
                <a:latin typeface="Franklin Gothic Medium Cond"/>
              </a:rPr>
              <a:t>regarding the Options field in the OSPFv3 Route Attributes Extended Community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596520" indent="-29268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New diagram which illustrates the field and its current contents (LSB = External Metric Type)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96520" indent="-29268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Defined a new registry for this field, entitled “OSPFv3 Route Attribute Options”; the policy for assigning the remaining bits in this registry is “Standards Action”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marL="303480" indent="-3034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95959"/>
                </a:solidFill>
                <a:uFillTx/>
                <a:latin typeface="Franklin Gothic Medium Cond"/>
              </a:rPr>
              <a:t>Deleted text</a:t>
            </a:r>
            <a:r>
              <a:rPr b="0" lang="en-US" sz="1600" spc="-1" strike="noStrike">
                <a:solidFill>
                  <a:srgbClr val="595959"/>
                </a:solidFill>
                <a:latin typeface="Franklin Gothic Medium Cond"/>
              </a:rPr>
              <a:t> which stated that “prefixes associated with OSPFv3 sham-links are advertised as Type 0x2009 LSAs” LSAs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03480" indent="-3034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Franklin Gothic Medium Cond"/>
              </a:rPr>
              <a:t>Other minor typographical changes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596520" indent="-29268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[Section 3.1] Clarified that redistribution of BGP routes into OSPF result in </a:t>
            </a:r>
            <a:r>
              <a:rPr b="0" lang="en-US" sz="1400" spc="-1" strike="noStrike" u="sng">
                <a:solidFill>
                  <a:srgbClr val="595959"/>
                </a:solidFill>
                <a:uFillTx/>
                <a:latin typeface="Franklin Gothic Medium Cond"/>
              </a:rPr>
              <a:t>inter-area-prefix</a:t>
            </a: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 LSAs (not AS-internal)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96520" indent="-29268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[Section 4.3.2.2] Indicated that routes may be advertised as “external/</a:t>
            </a:r>
            <a:r>
              <a:rPr b="0" lang="en-US" sz="1400" spc="-1" strike="noStrike" u="sng">
                <a:solidFill>
                  <a:srgbClr val="595959"/>
                </a:solidFill>
                <a:uFillTx/>
                <a:latin typeface="Franklin Gothic Medium Cond"/>
              </a:rPr>
              <a:t>NSSA</a:t>
            </a: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” routes (not just external)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96520" indent="-29268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[Section 4.4] When referencing AS-external LSAs, we previously indicated Type 0x2005 … rather than </a:t>
            </a:r>
            <a:r>
              <a:rPr b="0" lang="en-US" sz="1400" spc="-1" strike="noStrike" u="sng">
                <a:solidFill>
                  <a:srgbClr val="595959"/>
                </a:solidFill>
                <a:uFillTx/>
                <a:latin typeface="Franklin Gothic Medium Cond"/>
              </a:rPr>
              <a:t>0x4005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96520" indent="-29268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[11.1, Normative References] Updated reference to newly-published RFC for IPv6 Address Specific BGP Extended Community Attributes [</a:t>
            </a:r>
            <a:r>
              <a:rPr b="0" lang="en-US" sz="1400" spc="-1" strike="noStrike" u="sng">
                <a:solidFill>
                  <a:srgbClr val="595959"/>
                </a:solidFill>
                <a:uFillTx/>
                <a:latin typeface="Franklin Gothic Medium Cond"/>
              </a:rPr>
              <a:t>RFC 5701</a:t>
            </a: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], and made it a normative reference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96520" indent="-29268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[11.2, Informative References] Updated reference to OSPFv3 AF I-D [</a:t>
            </a:r>
            <a:r>
              <a:rPr b="0" lang="en-US" sz="1400" spc="-1" strike="noStrike" u="sng">
                <a:solidFill>
                  <a:srgbClr val="595959"/>
                </a:solidFill>
                <a:uFillTx/>
                <a:latin typeface="Franklin Gothic Medium Cond"/>
              </a:rPr>
              <a:t>draft-ietf-ospf-af-alt-10</a:t>
            </a: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]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96520" indent="-29268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E745-B0B1-4B61-B19A-3B9A22A67B68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7:15:53Z</dcterms:created>
  <dc:creator>Michael Lundberg</dc:creator>
  <dc:description/>
  <dc:language>en-US</dc:language>
  <cp:lastModifiedBy>BAH</cp:lastModifiedBy>
  <dcterms:modified xsi:type="dcterms:W3CDTF">2010-03-19T23:59:31Z</dcterms:modified>
  <cp:revision>47</cp:revision>
  <dc:subject/>
  <dc:title>OSPFv3 as a PE-CE Routing Protocol </dc:title>
</cp:coreProperties>
</file>