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459F-CCFC-42C5-8782-924AA30E5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4F57-D411-43FC-A351-8F680902C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D4B-91C4-44F3-B74E-068B0D83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620C-0589-4C88-85EC-4F8C36F56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D10B-9D45-4B00-80D7-1B1C40F95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F1ED-D263-43D2-A246-F8DD3B55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B62-47A0-46C7-A2EB-9ABC1379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9F7-C25B-4B62-B034-18CA4FB2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8C9-F107-4CB1-9809-B0A329A4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EF1-E917-4454-A83E-277ABF6A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9289-2142-404F-8C4B-A15722F3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8EFD-F80A-4A98-B86C-FE276987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40CB-BCF1-405C-8789-16BD92DC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ACDB-5A9E-4737-B300-F09AC6ED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838-CBBE-44C4-9343-FB923722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6D98-AAB8-4ACC-AB37-E9B2382A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3C30-BB64-44AA-8CA6-3D1D190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6AE-6738-4ABE-A7C6-407A4253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8FC4-58A3-4674-BDF2-4117AE88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976E-C0B8-4F0E-B9C6-4E787F3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1E5A-143B-4E9E-8AC4-CDE5650A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0F85-C940-430A-9FAE-533AA854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94A1-7B47-4C60-9ADB-92B52F82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0EE9-980E-4546-87E8-8F6B3669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2D90-197F-4DF8-8B3F-86225E44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A4D15-B9CC-4C3A-8123-D0BEA232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963A-ADC6-460A-AD69-90AEA9D1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61BE-D0BD-4081-B03A-EB6B044D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5DE-30CE-4EB4-B30F-2724A2D1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BFB7-5CA4-4851-B827-2AF47F98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839B-5FCC-4197-BA31-64A8AD6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BD4D-CACD-4E56-B237-A948C418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BD9A-7832-48D6-AC81-4089F61D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47BDF-9058-418E-8E67-D30A7536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2396-2258-4E57-A81F-A7ACD686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CD0E-EE95-4642-9EA7-B8B8F5D3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A61-2801-49E8-8CE1-0CDE2D70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3E3-D4CF-4CA4-81DA-D864A54D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43E-4A8F-424F-A88C-F16142BC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DE8-BA3F-4BBC-8795-CB095C9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51A-54B3-4722-BE35-2DC6A9A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82D-9A27-4364-96EB-97F49CD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59BB-03A9-41AA-B8FC-387FE738588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6BB1-63EC-4390-8F19-7D13C2B7DCF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6715-440C-4913-83F5-74D7E31D977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tf.org/id/draft-ietf-l3vpn-ospfv3-pece-05.tx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OSPFv3 as a PE-CE Routing Protocol</a:t>
            </a: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030a0"/>
                </a:solidFill>
                <a:uFillTx/>
                <a:latin typeface="News Gothic MT"/>
                <a:hlinkClick r:id="rId1"/>
              </a:rPr>
              <a:t>http://www.ietf.org/id/draft-ietf-l3vpn-ospfv3-pece-05.tx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22 March 2010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96F-7AF7-4877-9E9D-9772D2B1DFA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0" y="4800600"/>
            <a:ext cx="5181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Pillay-Esnault, ppe@cisc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Moyer, pmoyer@juniper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. Doyle, jdoyle@doyleassociate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 Ertekin, ertekin_emre@ba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Lundberg, lundberg_michael@bah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7c9f"/>
                </a:solidFill>
                <a:latin typeface="Arial"/>
                <a:ea typeface="Arial"/>
              </a:rPr>
              <a:t>Why are we back?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520" y="1447560"/>
            <a:ext cx="8001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1120" indent="-3211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Timeline / history of our draft (March 09 – December 09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L3VPN WGLC for draft-ospfv3-l3vpn-pece-04 issued on 31 Mar 09; WGLC ended on 14 April 09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IETF LC issued on 09 Oct 09; IETF LC ended on 23 Oct 09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Draft approved by the IESG on 21 Dec 09; however…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After IESG approval, AD solicited an additional last call from the OSPF W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Comments received from members of the OSPF WG (Thanks!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Based on these comments, OSPFv3 PE/CE co-authors determined that the document could be clearer/simplifie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Specification was returned to the L3VPN WG for these revisions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The following slides summarize the revisions between -04 and -05 of our draf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86AC-238E-4490-9A50-F0CC4736D1F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7c9f"/>
                </a:solidFill>
                <a:latin typeface="Arial"/>
                <a:ea typeface="Arial"/>
              </a:rPr>
              <a:t>Differences between -04 and -05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9360" indent="-2793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Addressed all minor comments received from the OSPF WG; these changes are summarized in the backup slid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279360" indent="-2793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The primary change between -04 and -05 is the procedure for determining whether an incoming VPNv6 route belongs to the same domain as the receiving OSPFv3 instanc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Previous version: Specified the ability to determine the domain a route belongs to based on either the (Domain ID, Instance ID) tuple, OR the (Domain  ID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Current version: Specifies the ability to determine the domain a route belongs to based on the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Domain ID only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Fix: Removed all references to the Instance ID in the draft (i.e., Sections  3.1, 4.1, 4.1.2, 4.3, 4.3.1, 4.3.2.1, 4.3.2.3, 4.4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48640" indent="-26928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marL="279360" indent="-2793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Change simplifies the specification; aligns more closely with OSPFv2 PE-CE (RFC 4577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3739-9ED2-486F-9844-652272B049BE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rcRect l="2431" t="39850" r="74304" b="31241"/>
          <a:stretch/>
        </p:blipFill>
        <p:spPr>
          <a:xfrm>
            <a:off x="2133720" y="3597120"/>
            <a:ext cx="48006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7c9f"/>
                </a:solidFill>
                <a:latin typeface="Arial"/>
                <a:ea typeface="Arial"/>
              </a:rPr>
              <a:t>Next Steps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8560" indent="-26856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Plan to outbrief these updates at the OSPF WG this week (Friday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-2588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  <a:ea typeface="ＭＳ Ｐゴシック"/>
              </a:rPr>
              <a:t>Comments suggestions on revised draft (-05) are welcom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268560" indent="-26856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Request WGLC on our document from the L3VPN WG and the OSPF WG within the next few week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-25884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Provides OSPF and L3VPN WG members time to comment on the new draft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52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268560" indent="-26856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Franklin Gothic Medium Cond"/>
              </a:rPr>
              <a:t>Questions?  Thank you!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2685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CA7-33F5-4261-8F44-AE66DE77558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7c9f"/>
                </a:solidFill>
                <a:latin typeface="News Gothic MT"/>
              </a:rPr>
              <a:t>Backup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7EC7-21F7-4DA2-9182-21CAEC1C1D5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7c9f"/>
                </a:solidFill>
                <a:latin typeface="Arial"/>
                <a:ea typeface="Arial"/>
              </a:rPr>
              <a:t>Differences between -04 and -05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In addition to removal of the Instance ID, the following changes were made to address OSPF WG LC comments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Added clarifying text </a:t>
            </a: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regarding the Options field in the OSPFv3 Route Attributes Extended Community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New diagram which illustrates the field and its current contents (LSB = External Metric Type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Defined a new registry for this field, entitled “OSPFv3 Route Attribute Options”; the policy for assigning the remaining bits in this registry is “Standards Action”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Deleted text</a:t>
            </a: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 which stated that “prefixes associated with OSPFv3 sham-links are advertised as Type 0x2009 LSAs” LSAs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Franklin Gothic Medium Cond"/>
              </a:rPr>
              <a:t>Other minor typographical changes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Section 3.1] Clarified that redistribution of BGP routes into OSPF result in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inter-area-prefix</a:t>
            </a: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 LSAs (not AS-internal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Section 4.3.2.2] Indicated that routes may be advertised as “external/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NSSA</a:t>
            </a: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” routes (not just external)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Section 4.4] When referencing AS-external LSAs, we previously indicated Type 0x2005 … rather than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0x4005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11.1, Normative References] Updated reference to newly-published RFC for IPv6 Address Specific BGP Extended Community Attributes [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RFC 5701</a:t>
            </a: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], and made it a normative reference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[11.2, Informative References] Updated reference to OSPFv3 AF I-D [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Franklin Gothic Medium Cond"/>
              </a:rPr>
              <a:t>draft-ietf-ospf-af-alt-10</a:t>
            </a:r>
            <a:r>
              <a:rPr b="0" lang="en-US" sz="1400" spc="-1" strike="noStrike">
                <a:solidFill>
                  <a:srgbClr val="595959"/>
                </a:solidFill>
                <a:latin typeface="Franklin Gothic Medium Cond"/>
              </a:rPr>
              <a:t>]</a:t>
            </a: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lvl="1" marL="596520" indent="-29268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5C46-9BB1-499E-BEB3-83F967DE8C6D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7:15:53Z</dcterms:created>
  <dc:creator>Michael Lundberg</dc:creator>
  <dc:description/>
  <dc:language>en-US</dc:language>
  <cp:lastModifiedBy>BAH</cp:lastModifiedBy>
  <dcterms:modified xsi:type="dcterms:W3CDTF">2010-03-19T23:59:31Z</dcterms:modified>
  <cp:revision>47</cp:revision>
  <dc:subject/>
  <dc:title>OSPFv3 as a PE-CE Routing Protocol </dc:title>
</cp:coreProperties>
</file>