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4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2F584DD-7983-4562-9FF1-108596241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27942FB-1B9C-4F23-A5D4-A0000F2E5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AF38838-A131-4EE3-B932-7CA1AE6D5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A35C92D-22B1-45BA-B290-3032CA3680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0D00985-5A2D-4BA5-8FB0-B1D5BAAE5C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85AA495-0B5B-4557-A3C4-F2819BAF5D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B3C-2F59-460A-AB8E-C3FEC94C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C632-8A4B-4692-8CC0-85419B83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247-BB50-4F32-B65F-5F3164EB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756-6D56-4992-9BF3-F6724FFE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B21-7315-4E03-82F2-15A057AC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3EC8-EBC0-4E4F-A069-614C6316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1BB-6A50-46F5-AB88-B6206DC5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5A3-121D-46D9-A6B7-839CD090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B1D-DA2F-45C0-A867-A3B2F8E3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DDD-135C-4032-831C-E5495C4F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A48-426F-47D2-B194-2EA747CE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9D9-C876-40FC-9C5B-8E9A4666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09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4th IETF@Sanfrancisco 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C8DF-034F-4CBB-A90C-5B57CC028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ort for RSVP-TE in L3VPNs </a:t>
            </a:r>
            <a:br>
              <a:rPr sz="4000"/>
            </a:b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kumaki-murai-ccamp-rsvp-te-l3vpn-02.tx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ji Kumaki                KDDI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moki Murai               Furukawa Network Solution Cor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ohiro Yamaga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DDI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kara Sasaki             KDDI R&amp;D 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1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th IETF@Anaheim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Providers will provide customer LSPs in BGP/MPLS VP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quirements for RSVP-TE signaling for customer TE LSPs over BGP/MPLS VPNs are describe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raft-ietf-l3vpn-e2e-rsvp-te-reqts-05 [RFC Ed Queu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ecessary that RSVP control messages, such as Path messages and Resv messages, are appropriately handled by PE rou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goal is to establish an end-to-end MPLS TE LSP between customer sites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th IETF@Anaheim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562480" y="152280"/>
            <a:ext cx="38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1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grpSp>
        <p:nvGrpSpPr>
          <p:cNvPr id="57" name="Group 74"/>
          <p:cNvGrpSpPr/>
          <p:nvPr/>
        </p:nvGrpSpPr>
        <p:grpSpPr>
          <a:xfrm>
            <a:off x="533520" y="866880"/>
            <a:ext cx="8305560" cy="3477960"/>
            <a:chOff x="533520" y="866880"/>
            <a:chExt cx="8305560" cy="3477960"/>
          </a:xfrm>
        </p:grpSpPr>
        <p:pic>
          <p:nvPicPr>
            <p:cNvPr id="58" name="Picture 16" descr="CISCO"/>
            <p:cNvPicPr/>
            <p:nvPr/>
          </p:nvPicPr>
          <p:blipFill>
            <a:blip r:embed="rId1"/>
            <a:stretch/>
          </p:blipFill>
          <p:spPr>
            <a:xfrm>
              <a:off x="2362320" y="2467080"/>
              <a:ext cx="67140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Line 5"/>
            <p:cNvSpPr/>
            <p:nvPr/>
          </p:nvSpPr>
          <p:spPr>
            <a:xfrm>
              <a:off x="5410080" y="2681280"/>
              <a:ext cx="762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60" name="Line 6"/>
            <p:cNvSpPr/>
            <p:nvPr/>
          </p:nvSpPr>
          <p:spPr>
            <a:xfrm flipV="1">
              <a:off x="3048120" y="2681280"/>
              <a:ext cx="68580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61" name="Line 7"/>
            <p:cNvSpPr/>
            <p:nvPr/>
          </p:nvSpPr>
          <p:spPr>
            <a:xfrm>
              <a:off x="4343400" y="2681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pic>
          <p:nvPicPr>
            <p:cNvPr id="62" name="Picture 12" descr="CISCO"/>
            <p:cNvPicPr/>
            <p:nvPr/>
          </p:nvPicPr>
          <p:blipFill>
            <a:blip r:embed="rId2"/>
            <a:stretch/>
          </p:blipFill>
          <p:spPr>
            <a:xfrm>
              <a:off x="609480" y="1628640"/>
              <a:ext cx="6717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3" descr="CISCO"/>
            <p:cNvPicPr/>
            <p:nvPr/>
          </p:nvPicPr>
          <p:blipFill>
            <a:blip r:embed="rId3"/>
            <a:stretch/>
          </p:blipFill>
          <p:spPr>
            <a:xfrm>
              <a:off x="6172200" y="2467080"/>
              <a:ext cx="6714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4" descr="CISCO"/>
            <p:cNvPicPr/>
            <p:nvPr/>
          </p:nvPicPr>
          <p:blipFill>
            <a:blip r:embed="rId4"/>
            <a:stretch/>
          </p:blipFill>
          <p:spPr>
            <a:xfrm>
              <a:off x="4800600" y="2446200"/>
              <a:ext cx="6714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5" descr="CISCO"/>
            <p:cNvPicPr/>
            <p:nvPr/>
          </p:nvPicPr>
          <p:blipFill>
            <a:blip r:embed="rId5"/>
            <a:stretch/>
          </p:blipFill>
          <p:spPr>
            <a:xfrm>
              <a:off x="3733920" y="2446200"/>
              <a:ext cx="6714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7" descr="CISCO"/>
            <p:cNvPicPr/>
            <p:nvPr/>
          </p:nvPicPr>
          <p:blipFill>
            <a:blip r:embed="rId6"/>
            <a:stretch/>
          </p:blipFill>
          <p:spPr>
            <a:xfrm>
              <a:off x="609480" y="2924280"/>
              <a:ext cx="6717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4" descr="CISCO"/>
            <p:cNvPicPr/>
            <p:nvPr/>
          </p:nvPicPr>
          <p:blipFill>
            <a:blip r:embed="rId7"/>
            <a:stretch/>
          </p:blipFill>
          <p:spPr>
            <a:xfrm>
              <a:off x="7924680" y="2924280"/>
              <a:ext cx="6717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5" descr="CISCO"/>
            <p:cNvPicPr/>
            <p:nvPr/>
          </p:nvPicPr>
          <p:blipFill>
            <a:blip r:embed="rId8"/>
            <a:stretch/>
          </p:blipFill>
          <p:spPr>
            <a:xfrm>
              <a:off x="7924680" y="1628640"/>
              <a:ext cx="67176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AutoShape 28"/>
            <p:cNvSpPr/>
            <p:nvPr/>
          </p:nvSpPr>
          <p:spPr>
            <a:xfrm>
              <a:off x="2666880" y="1247760"/>
              <a:ext cx="3733920" cy="2438280"/>
            </a:xfrm>
            <a:prstGeom prst="cloudCallout">
              <a:avLst>
                <a:gd name="adj1" fmla="val -17731"/>
                <a:gd name="adj2" fmla="val 19273"/>
              </a:avLst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BGP/MPLS </a:t>
              </a:r>
              <a:endParaRPr b="1" lang="en-US" sz="2000" spc="-1" strike="noStrike">
                <a:solidFill>
                  <a:srgbClr val="cc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IP-VPN</a:t>
              </a:r>
              <a:endParaRPr b="1" lang="en-US" sz="2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0" name="Text Box 29"/>
            <p:cNvSpPr/>
            <p:nvPr/>
          </p:nvSpPr>
          <p:spPr>
            <a:xfrm>
              <a:off x="685800" y="1976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1" name="Text Box 32"/>
            <p:cNvSpPr/>
            <p:nvPr/>
          </p:nvSpPr>
          <p:spPr>
            <a:xfrm>
              <a:off x="685800" y="33051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 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2" name="Text Box 34"/>
            <p:cNvSpPr/>
            <p:nvPr/>
          </p:nvSpPr>
          <p:spPr>
            <a:xfrm>
              <a:off x="8001000" y="20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3" name="Text Box 35"/>
            <p:cNvSpPr/>
            <p:nvPr/>
          </p:nvSpPr>
          <p:spPr>
            <a:xfrm>
              <a:off x="8001000" y="330516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4" name="Text Box 37"/>
            <p:cNvSpPr/>
            <p:nvPr/>
          </p:nvSpPr>
          <p:spPr>
            <a:xfrm>
              <a:off x="2438280" y="284796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 1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5" name="Line 41"/>
            <p:cNvSpPr/>
            <p:nvPr/>
          </p:nvSpPr>
          <p:spPr>
            <a:xfrm>
              <a:off x="1219320" y="193356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6" name="Line 42"/>
            <p:cNvSpPr/>
            <p:nvPr/>
          </p:nvSpPr>
          <p:spPr>
            <a:xfrm flipV="1">
              <a:off x="1219320" y="277128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7" name="Line 43"/>
            <p:cNvSpPr/>
            <p:nvPr/>
          </p:nvSpPr>
          <p:spPr>
            <a:xfrm flipV="1">
              <a:off x="6781680" y="185688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8" name="Line 44"/>
            <p:cNvSpPr/>
            <p:nvPr/>
          </p:nvSpPr>
          <p:spPr>
            <a:xfrm>
              <a:off x="6781680" y="269568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9" name="Line 47"/>
            <p:cNvSpPr/>
            <p:nvPr/>
          </p:nvSpPr>
          <p:spPr>
            <a:xfrm>
              <a:off x="533520" y="1233360"/>
              <a:ext cx="8153280" cy="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0" name="Line 48"/>
            <p:cNvSpPr/>
            <p:nvPr/>
          </p:nvSpPr>
          <p:spPr>
            <a:xfrm>
              <a:off x="533520" y="3976560"/>
              <a:ext cx="8153280" cy="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1" name="Text Box 49"/>
            <p:cNvSpPr/>
            <p:nvPr/>
          </p:nvSpPr>
          <p:spPr>
            <a:xfrm>
              <a:off x="533520" y="1262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VPN 1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2" name="Text Box 50"/>
            <p:cNvSpPr/>
            <p:nvPr/>
          </p:nvSpPr>
          <p:spPr>
            <a:xfrm>
              <a:off x="7696080" y="1262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VPN 1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3" name="Text Box 51"/>
            <p:cNvSpPr/>
            <p:nvPr/>
          </p:nvSpPr>
          <p:spPr>
            <a:xfrm>
              <a:off x="533520" y="3610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VPN 2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4" name="Text Box 52"/>
            <p:cNvSpPr/>
            <p:nvPr/>
          </p:nvSpPr>
          <p:spPr>
            <a:xfrm>
              <a:off x="7924680" y="3610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VPN 2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5" name="Text Box 53"/>
            <p:cNvSpPr/>
            <p:nvPr/>
          </p:nvSpPr>
          <p:spPr>
            <a:xfrm>
              <a:off x="533520" y="397656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VPN 2: MPLS TE LSPs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6" name="Text Box 54"/>
            <p:cNvSpPr/>
            <p:nvPr/>
          </p:nvSpPr>
          <p:spPr>
            <a:xfrm>
              <a:off x="533520" y="86688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VPN 1: MPLS TE</a:t>
              </a:r>
              <a:r>
                <a:rPr b="1" lang="en-US" sz="18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LSPs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7" name="Text Box 37"/>
            <p:cNvSpPr/>
            <p:nvPr/>
          </p:nvSpPr>
          <p:spPr>
            <a:xfrm>
              <a:off x="6172200" y="284796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 2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8" name="Line 57"/>
            <p:cNvSpPr/>
            <p:nvPr/>
          </p:nvSpPr>
          <p:spPr>
            <a:xfrm>
              <a:off x="1523880" y="1781280"/>
              <a:ext cx="838440" cy="5331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9" name="Line 58"/>
            <p:cNvSpPr/>
            <p:nvPr/>
          </p:nvSpPr>
          <p:spPr>
            <a:xfrm>
              <a:off x="3048120" y="2314440"/>
              <a:ext cx="33526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0" name="Line 60"/>
            <p:cNvSpPr/>
            <p:nvPr/>
          </p:nvSpPr>
          <p:spPr>
            <a:xfrm>
              <a:off x="3048120" y="3000240"/>
              <a:ext cx="3124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1" name="Line 59"/>
            <p:cNvSpPr/>
            <p:nvPr/>
          </p:nvSpPr>
          <p:spPr>
            <a:xfrm>
              <a:off x="6858000" y="3000240"/>
              <a:ext cx="9907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2" name="Line 82"/>
            <p:cNvSpPr/>
            <p:nvPr/>
          </p:nvSpPr>
          <p:spPr>
            <a:xfrm>
              <a:off x="1676520" y="2390760"/>
              <a:ext cx="6094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3" name="Line 81"/>
            <p:cNvSpPr/>
            <p:nvPr/>
          </p:nvSpPr>
          <p:spPr>
            <a:xfrm flipV="1">
              <a:off x="1676520" y="2619000"/>
              <a:ext cx="60948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4" name="Text Box 66"/>
            <p:cNvSpPr/>
            <p:nvPr/>
          </p:nvSpPr>
          <p:spPr>
            <a:xfrm>
              <a:off x="1295280" y="22384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99"/>
                  </a:solidFill>
                  <a:latin typeface="Times New Roman"/>
                </a:rPr>
                <a:t>?</a:t>
              </a:r>
              <a:endParaRPr b="1" lang="en-US" sz="4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5" name="Line 64"/>
            <p:cNvSpPr/>
            <p:nvPr/>
          </p:nvSpPr>
          <p:spPr>
            <a:xfrm flipV="1">
              <a:off x="7010280" y="2314080"/>
              <a:ext cx="457200" cy="3049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6" name="Line 63"/>
            <p:cNvSpPr/>
            <p:nvPr/>
          </p:nvSpPr>
          <p:spPr>
            <a:xfrm>
              <a:off x="7010280" y="2619360"/>
              <a:ext cx="533520" cy="228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7" name="Text Box 66"/>
            <p:cNvSpPr/>
            <p:nvPr/>
          </p:nvSpPr>
          <p:spPr>
            <a:xfrm>
              <a:off x="7391520" y="21621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99"/>
                  </a:solidFill>
                  <a:latin typeface="Times New Roman"/>
                </a:rPr>
                <a:t>?</a:t>
              </a:r>
              <a:endParaRPr b="1" lang="en-US" sz="4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8" name="Text Box 69"/>
            <p:cNvSpPr/>
            <p:nvPr/>
          </p:nvSpPr>
          <p:spPr>
            <a:xfrm>
              <a:off x="2590920" y="1324080"/>
              <a:ext cx="23288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th message</a:t>
              </a:r>
              <a:endParaRPr b="1" lang="en-US" sz="2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9" name="Text Box 69"/>
            <p:cNvSpPr/>
            <p:nvPr/>
          </p:nvSpPr>
          <p:spPr>
            <a:xfrm>
              <a:off x="3733920" y="3381480"/>
              <a:ext cx="23288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sv message</a:t>
              </a:r>
              <a:endParaRPr b="1" lang="en-US" sz="2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100" name="Line 78"/>
            <p:cNvSpPr/>
            <p:nvPr/>
          </p:nvSpPr>
          <p:spPr>
            <a:xfrm>
              <a:off x="2590920" y="1704960"/>
              <a:ext cx="1143000" cy="609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101" name="Line 80"/>
            <p:cNvSpPr/>
            <p:nvPr/>
          </p:nvSpPr>
          <p:spPr>
            <a:xfrm flipH="1">
              <a:off x="2057400" y="1704960"/>
              <a:ext cx="533520" cy="380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102" name="Line 78"/>
            <p:cNvSpPr/>
            <p:nvPr/>
          </p:nvSpPr>
          <p:spPr>
            <a:xfrm flipV="1">
              <a:off x="6019920" y="3152520"/>
              <a:ext cx="1218960" cy="228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103" name="Line 78"/>
            <p:cNvSpPr/>
            <p:nvPr/>
          </p:nvSpPr>
          <p:spPr>
            <a:xfrm>
              <a:off x="5257800" y="3000240"/>
              <a:ext cx="762120" cy="381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</p:grpSp>
      <p:sp>
        <p:nvSpPr>
          <p:cNvPr id="104" name="Rectangle 3"/>
          <p:cNvSpPr/>
          <p:nvPr/>
        </p:nvSpPr>
        <p:spPr>
          <a:xfrm>
            <a:off x="457200" y="4600440"/>
            <a:ext cx="84582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2 can’t identify Path messages between the VPN1 and the VPN2 when it sends them to the same destination.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1 can’t identify Resv messages between the VPN1 and the VPN2 when it sends them to the same destination.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from current specification (RFC 3209).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5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th IETF@Anaheim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6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Defini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81"/>
          <p:cNvSpPr/>
          <p:nvPr/>
        </p:nvSpPr>
        <p:spPr>
          <a:xfrm>
            <a:off x="30492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new object types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P_TUNNEL_VPN-IPv4 / LSP_TUNNEL_VPN-IPv6                      SESSION Obje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P_TUNNEL_VPN-IPv4 / LSP_TUNNEL_VPN-IPv6                      SENDER_TEMPLATE Obje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P_TUNNEL_VPN-IPv4 / LSP_TUNNEL_VPN-IPv6                      FILTER_SPEC Obje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9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th IETF@Anaheim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0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Definitions(cont.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1"/>
          <p:cNvSpPr/>
          <p:nvPr/>
        </p:nvSpPr>
        <p:spPr>
          <a:xfrm>
            <a:off x="304920" y="838080"/>
            <a:ext cx="8610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P_TUNNEL_VPN-IPv4 / LSP_TUNNEL_VPN-IPv6        SESSION Obje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76520" y="1600200"/>
            <a:ext cx="655308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VPN-IPv4 tunnel end point address (12 bytes)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MUST be zero                 |      Tunnel ID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Extended Tunnel ID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lass = SESSION, LSP_TUNNEL_VPN-IPv4 C-Type = TBA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VPN-IPv6 tunnel end point address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                           (24 bytes)                        //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MUST be zero                 |      Tunnel ID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Extended Tunnel ID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                           (16 bytes)                        //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lass = SESSION, LSP_TUNNEL_VPN-IPv6 C-Type = TBA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th IETF@Anaheim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5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1"/>
          <p:cNvSpPr/>
          <p:nvPr/>
        </p:nvSpPr>
        <p:spPr>
          <a:xfrm>
            <a:off x="304920" y="838080"/>
            <a:ext cx="8610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P_TUNNEL_VPN-IPv4 / LSP_TUNNEL_VPN-IPv6 SENDER_TEMPRATE Obje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Defini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1" lang="en-US" sz="3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676520" y="1676520"/>
            <a:ext cx="609588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VPN-IPv4 tunnel sender address (12 bytes)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MUST be zero                 |            LSP ID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lass = SENDER_TEMPLATE, LSP_TUNNEL_VPN-IPv4 C-Type = TBA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VPN-IPv6 tunnel sender address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(24 bytes)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MUST be zero                 |            LSP ID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lass = SENDER_TEMPLATE, LSP_TUNNEL_VPN-IPv4 C-Type = TBA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9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th IETF@Anaheim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0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Defini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1" lang="en-US" sz="3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Rectangle 81"/>
          <p:cNvSpPr/>
          <p:nvPr/>
        </p:nvSpPr>
        <p:spPr>
          <a:xfrm>
            <a:off x="304920" y="1066680"/>
            <a:ext cx="8610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P_TUNNEL_VPN-IPv4 / LSP_TUNNEL_VPN-IPv6      FILTER_SPEC  Obje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lass = FILTER SPECIFICATION, LSP_TUNNEL_VPN-IPv4 C-Type = TBA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lass = FILTER SPECIFICATION, LSP_TUNNEL_VPN-IPv6 C-Type = T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 The format is identical to the LSP_TUNNEL_VPN-IPv4  / LSP_TUNNEL_VPN-IPv6 SENDER_TEMPLATE 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th IETF@Anaheim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ed drafts</a:t>
            </a:r>
            <a:endParaRPr b="1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28600" y="1143000"/>
            <a:ext cx="8610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these drafts to PCE WG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CEP extensions for a BGP/MPLS IP-VPN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raft-kumaki-murai-pce-pcep-extension-l3vpn-05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CC-PCE Communication Requirements for VPNs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draft-ietf-pce-vpn-req-01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GP protocol extensions for Path Computation Element(PCE) Discovery in a BGP/MPLS IP-VPN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raft-kumaki-pce-bgp-disco-attribute-06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th IETF@Anaheim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8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57200" y="1154160"/>
            <a:ext cx="821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ame this I-D for l3vpn or mpls WG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ore comments and feedback from WG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WG to accept this I-D as a WG document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th IETF@Anaheim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2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8:18:13Z</dcterms:created>
  <dc:creator>kenji kumaki</dc:creator>
  <dc:description/>
  <dc:language>en-US</dc:language>
  <cp:lastModifiedBy>Dan</cp:lastModifiedBy>
  <dcterms:modified xsi:type="dcterms:W3CDTF">2010-03-21T23:46:13Z</dcterms:modified>
  <cp:revision>606</cp:revision>
  <dc:subject/>
  <dc:title>requirements for delivering MPLS services over L3VPN</dc:title>
</cp:coreProperties>
</file>