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8720" y="744480"/>
            <a:ext cx="497052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60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DF334614-3819-401C-BE4B-173F31D647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0183FD1F-2859-4375-B7A6-00FF24ACA4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F7453797-D21A-48ED-9BF6-D1DEFB7051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66830BCA-AD25-4C11-A7C8-32A6DBAB0D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90AEBAF6-9067-4D6B-BE05-AB5B151711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23363B44-4867-4013-9CD1-8424FEFE8E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BED0-1E56-4828-B5DB-03C5EA97F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1AB4-605E-4AED-A575-A9463B53E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C485-6D2D-4216-A344-EB8D595A4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99B2-8DA0-49D4-9678-EAB2E7EBF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BBE9-A67C-448B-83EE-A3BF06BCE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5DD2-B1F4-4A72-A490-F3AFD1108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2AE7-D4EB-4D3C-ADF1-3B7D16098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DFD6-DEB9-44E2-8DF9-A3F36AA3F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CE79-7E4A-4B43-9E7B-D2DB21961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CB91-2AA0-4B56-ACEB-6F2642A1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59CE-9729-4F42-B385-8B04BFA46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2F67-89B4-45C0-B95C-805B33605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rch 2009</a:t>
            </a:r>
            <a:endParaRPr b="1" lang="en-US" sz="1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51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4th IETF@Sanfrancisco </a:t>
            </a:r>
            <a:endParaRPr b="1" lang="en-US" sz="1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1B120-7C64-4AE3-95BA-162160E600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28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pport for RSVP-TE in L3VPNs </a:t>
            </a:r>
            <a:br>
              <a:rPr sz="4000"/>
            </a:br>
            <a:br>
              <a:rPr sz="48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ft-kumaki-murai-ccamp-rsvp-te-l3vpn-02.txt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92468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nji Kumaki                KDDI Corp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omoki Murai               Furukawa Network Solution Cor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mohiro Yamagat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DDI Corp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kara Sasaki             KDDI R&amp;D La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日付プレースホルダ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rch 2010</a:t>
            </a:r>
            <a:endParaRPr b="1" lang="en-US" sz="1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1" name="フッター プレースホルダ 4"/>
          <p:cNvSpPr/>
          <p:nvPr/>
        </p:nvSpPr>
        <p:spPr>
          <a:xfrm>
            <a:off x="6629400" y="640080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7th IETF@Anaheim </a:t>
            </a:r>
            <a:endParaRPr b="1" lang="en-US" sz="14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e Providers will provide customer LSPs in BGP/MPLS VP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quirements for RSVP-TE signaling for customer TE LSPs over BGP/MPLS VPNs are described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raft-ietf-l3vpn-e2e-rsvp-te-reqts-05 [RFC Ed Queue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necessary that RSVP control messages, such as Path messages and Resv messages, are appropriately handled by PE rout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goal is to establish an end-to-end MPLS TE LSP between customer sites.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フッター プレースホルダ 4"/>
          <p:cNvSpPr/>
          <p:nvPr/>
        </p:nvSpPr>
        <p:spPr>
          <a:xfrm>
            <a:off x="6629400" y="640080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7th IETF@Anaheim </a:t>
            </a:r>
            <a:endParaRPr b="1" lang="en-US" sz="1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5" name="日付プレースホルダ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rch 2010</a:t>
            </a:r>
            <a:endParaRPr b="1" lang="en-US" sz="14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2562480" y="152280"/>
            <a:ext cx="388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blem Statement</a:t>
            </a:r>
            <a:endParaRPr b="1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grpSp>
        <p:nvGrpSpPr>
          <p:cNvPr id="57" name="Group 74"/>
          <p:cNvGrpSpPr/>
          <p:nvPr/>
        </p:nvGrpSpPr>
        <p:grpSpPr>
          <a:xfrm>
            <a:off x="533520" y="866880"/>
            <a:ext cx="8305560" cy="3477960"/>
            <a:chOff x="533520" y="866880"/>
            <a:chExt cx="8305560" cy="3477960"/>
          </a:xfrm>
        </p:grpSpPr>
        <p:pic>
          <p:nvPicPr>
            <p:cNvPr id="58" name="Picture 16" descr="CISCO"/>
            <p:cNvPicPr/>
            <p:nvPr/>
          </p:nvPicPr>
          <p:blipFill>
            <a:blip r:embed="rId1"/>
            <a:stretch/>
          </p:blipFill>
          <p:spPr>
            <a:xfrm>
              <a:off x="2362320" y="2467080"/>
              <a:ext cx="671400" cy="38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Line 5"/>
            <p:cNvSpPr/>
            <p:nvPr/>
          </p:nvSpPr>
          <p:spPr>
            <a:xfrm>
              <a:off x="5410080" y="2681280"/>
              <a:ext cx="76212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1" lang="en-US" sz="18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60" name="Line 6"/>
            <p:cNvSpPr/>
            <p:nvPr/>
          </p:nvSpPr>
          <p:spPr>
            <a:xfrm flipV="1">
              <a:off x="3048120" y="2681280"/>
              <a:ext cx="68580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1" lang="en-US" sz="18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61" name="Line 7"/>
            <p:cNvSpPr/>
            <p:nvPr/>
          </p:nvSpPr>
          <p:spPr>
            <a:xfrm>
              <a:off x="4343400" y="2681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ccccff"/>
                </a:solidFill>
                <a:latin typeface="Arial"/>
              </a:endParaRPr>
            </a:p>
          </p:txBody>
        </p:sp>
        <p:pic>
          <p:nvPicPr>
            <p:cNvPr id="62" name="Picture 12" descr="CISCO"/>
            <p:cNvPicPr/>
            <p:nvPr/>
          </p:nvPicPr>
          <p:blipFill>
            <a:blip r:embed="rId2"/>
            <a:stretch/>
          </p:blipFill>
          <p:spPr>
            <a:xfrm>
              <a:off x="609480" y="1628640"/>
              <a:ext cx="67176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13" descr="CISCO"/>
            <p:cNvPicPr/>
            <p:nvPr/>
          </p:nvPicPr>
          <p:blipFill>
            <a:blip r:embed="rId3"/>
            <a:stretch/>
          </p:blipFill>
          <p:spPr>
            <a:xfrm>
              <a:off x="6172200" y="2467080"/>
              <a:ext cx="6714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Picture 14" descr="CISCO"/>
            <p:cNvPicPr/>
            <p:nvPr/>
          </p:nvPicPr>
          <p:blipFill>
            <a:blip r:embed="rId4"/>
            <a:stretch/>
          </p:blipFill>
          <p:spPr>
            <a:xfrm>
              <a:off x="4800600" y="2446200"/>
              <a:ext cx="6714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15" descr="CISCO"/>
            <p:cNvPicPr/>
            <p:nvPr/>
          </p:nvPicPr>
          <p:blipFill>
            <a:blip r:embed="rId5"/>
            <a:stretch/>
          </p:blipFill>
          <p:spPr>
            <a:xfrm>
              <a:off x="3733920" y="2446200"/>
              <a:ext cx="6714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Picture 17" descr="CISCO"/>
            <p:cNvPicPr/>
            <p:nvPr/>
          </p:nvPicPr>
          <p:blipFill>
            <a:blip r:embed="rId6"/>
            <a:stretch/>
          </p:blipFill>
          <p:spPr>
            <a:xfrm>
              <a:off x="609480" y="2924280"/>
              <a:ext cx="67176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24" descr="CISCO"/>
            <p:cNvPicPr/>
            <p:nvPr/>
          </p:nvPicPr>
          <p:blipFill>
            <a:blip r:embed="rId7"/>
            <a:stretch/>
          </p:blipFill>
          <p:spPr>
            <a:xfrm>
              <a:off x="7924680" y="2924280"/>
              <a:ext cx="67176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25" descr="CISCO"/>
            <p:cNvPicPr/>
            <p:nvPr/>
          </p:nvPicPr>
          <p:blipFill>
            <a:blip r:embed="rId8"/>
            <a:stretch/>
          </p:blipFill>
          <p:spPr>
            <a:xfrm>
              <a:off x="7924680" y="1628640"/>
              <a:ext cx="671760" cy="38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AutoShape 28"/>
            <p:cNvSpPr/>
            <p:nvPr/>
          </p:nvSpPr>
          <p:spPr>
            <a:xfrm>
              <a:off x="2666880" y="1247760"/>
              <a:ext cx="3733920" cy="2438280"/>
            </a:xfrm>
            <a:prstGeom prst="cloudCallout">
              <a:avLst>
                <a:gd name="adj1" fmla="val -17731"/>
                <a:gd name="adj2" fmla="val 19273"/>
              </a:avLst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2b2b2"/>
                  </a:solidFill>
                  <a:latin typeface="Times New Roman"/>
                </a:rPr>
                <a:t>   </a:t>
              </a:r>
              <a:r>
                <a:rPr b="0" lang="en-US" sz="2000" spc="-1" strike="noStrike">
                  <a:solidFill>
                    <a:srgbClr val="b2b2b2"/>
                  </a:solidFill>
                  <a:latin typeface="Arial"/>
                </a:rPr>
                <a:t>BGP/MPLS </a:t>
              </a:r>
              <a:endParaRPr b="1" lang="en-US" sz="2000" spc="-1" strike="noStrike">
                <a:solidFill>
                  <a:srgbClr val="cccc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2b2b2"/>
                  </a:solidFill>
                  <a:latin typeface="Arial"/>
                </a:rPr>
                <a:t>IP-VPN</a:t>
              </a:r>
              <a:endParaRPr b="1" lang="en-US" sz="20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70" name="Text Box 29"/>
            <p:cNvSpPr/>
            <p:nvPr/>
          </p:nvSpPr>
          <p:spPr>
            <a:xfrm>
              <a:off x="685800" y="19764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E</a:t>
              </a:r>
              <a:endParaRPr b="1" lang="en-US" sz="14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71" name="Text Box 32"/>
            <p:cNvSpPr/>
            <p:nvPr/>
          </p:nvSpPr>
          <p:spPr>
            <a:xfrm>
              <a:off x="685800" y="330516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E </a:t>
              </a:r>
              <a:endParaRPr b="1" lang="en-US" sz="14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72" name="Text Box 34"/>
            <p:cNvSpPr/>
            <p:nvPr/>
          </p:nvSpPr>
          <p:spPr>
            <a:xfrm>
              <a:off x="8001000" y="20098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E</a:t>
              </a:r>
              <a:endParaRPr b="1" lang="en-US" sz="14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73" name="Text Box 35"/>
            <p:cNvSpPr/>
            <p:nvPr/>
          </p:nvSpPr>
          <p:spPr>
            <a:xfrm>
              <a:off x="8001000" y="330516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E</a:t>
              </a:r>
              <a:endParaRPr b="1" lang="en-US" sz="14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74" name="Text Box 37"/>
            <p:cNvSpPr/>
            <p:nvPr/>
          </p:nvSpPr>
          <p:spPr>
            <a:xfrm>
              <a:off x="2438280" y="2847960"/>
              <a:ext cx="60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 1</a:t>
              </a:r>
              <a:endParaRPr b="1" lang="en-US" sz="14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75" name="Line 41"/>
            <p:cNvSpPr/>
            <p:nvPr/>
          </p:nvSpPr>
          <p:spPr>
            <a:xfrm>
              <a:off x="1219320" y="1933560"/>
              <a:ext cx="11430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76" name="Line 42"/>
            <p:cNvSpPr/>
            <p:nvPr/>
          </p:nvSpPr>
          <p:spPr>
            <a:xfrm flipV="1">
              <a:off x="1219320" y="2771280"/>
              <a:ext cx="11430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77" name="Line 43"/>
            <p:cNvSpPr/>
            <p:nvPr/>
          </p:nvSpPr>
          <p:spPr>
            <a:xfrm flipV="1">
              <a:off x="6781680" y="1856880"/>
              <a:ext cx="11430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78" name="Line 44"/>
            <p:cNvSpPr/>
            <p:nvPr/>
          </p:nvSpPr>
          <p:spPr>
            <a:xfrm>
              <a:off x="6781680" y="2695680"/>
              <a:ext cx="11430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79" name="Line 47"/>
            <p:cNvSpPr/>
            <p:nvPr/>
          </p:nvSpPr>
          <p:spPr>
            <a:xfrm>
              <a:off x="533520" y="1233360"/>
              <a:ext cx="8153280" cy="0"/>
            </a:xfrm>
            <a:prstGeom prst="line">
              <a:avLst/>
            </a:prstGeom>
            <a:ln w="63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80" name="Line 48"/>
            <p:cNvSpPr/>
            <p:nvPr/>
          </p:nvSpPr>
          <p:spPr>
            <a:xfrm>
              <a:off x="533520" y="3976560"/>
              <a:ext cx="8153280" cy="0"/>
            </a:xfrm>
            <a:prstGeom prst="line">
              <a:avLst/>
            </a:prstGeom>
            <a:ln w="63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81" name="Text Box 49"/>
            <p:cNvSpPr/>
            <p:nvPr/>
          </p:nvSpPr>
          <p:spPr>
            <a:xfrm>
              <a:off x="533520" y="126216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VPN 1</a:t>
              </a:r>
              <a:endParaRPr b="1" lang="en-US" sz="18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82" name="Text Box 50"/>
            <p:cNvSpPr/>
            <p:nvPr/>
          </p:nvSpPr>
          <p:spPr>
            <a:xfrm>
              <a:off x="7696080" y="126216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VPN 1</a:t>
              </a:r>
              <a:endParaRPr b="1" lang="en-US" sz="18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83" name="Text Box 51"/>
            <p:cNvSpPr/>
            <p:nvPr/>
          </p:nvSpPr>
          <p:spPr>
            <a:xfrm>
              <a:off x="533520" y="3610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6600"/>
                  </a:solidFill>
                  <a:latin typeface="Arial"/>
                </a:rPr>
                <a:t>VPN 2</a:t>
              </a:r>
              <a:endParaRPr b="1" lang="en-US" sz="18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84" name="Text Box 52"/>
            <p:cNvSpPr/>
            <p:nvPr/>
          </p:nvSpPr>
          <p:spPr>
            <a:xfrm>
              <a:off x="7924680" y="3610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6600"/>
                  </a:solidFill>
                  <a:latin typeface="Arial"/>
                </a:rPr>
                <a:t>VPN 2</a:t>
              </a:r>
              <a:endParaRPr b="1" lang="en-US" sz="18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85" name="Text Box 53"/>
            <p:cNvSpPr/>
            <p:nvPr/>
          </p:nvSpPr>
          <p:spPr>
            <a:xfrm>
              <a:off x="533520" y="397656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6600"/>
                  </a:solidFill>
                  <a:latin typeface="Arial"/>
                </a:rPr>
                <a:t>VPN 2: MPLS TE LSPs</a:t>
              </a:r>
              <a:endParaRPr b="1" lang="en-US" sz="18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86" name="Text Box 54"/>
            <p:cNvSpPr/>
            <p:nvPr/>
          </p:nvSpPr>
          <p:spPr>
            <a:xfrm>
              <a:off x="533520" y="86688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VPN 1: MPLS TE</a:t>
              </a:r>
              <a:r>
                <a:rPr b="1" lang="en-US" sz="1800" spc="-1" strike="noStrike">
                  <a:solidFill>
                    <a:srgbClr val="ccccff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LSPs</a:t>
              </a:r>
              <a:endParaRPr b="1" lang="en-US" sz="18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87" name="Text Box 37"/>
            <p:cNvSpPr/>
            <p:nvPr/>
          </p:nvSpPr>
          <p:spPr>
            <a:xfrm>
              <a:off x="6172200" y="284796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 2</a:t>
              </a:r>
              <a:endParaRPr b="1" lang="en-US" sz="14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88" name="Line 57"/>
            <p:cNvSpPr/>
            <p:nvPr/>
          </p:nvSpPr>
          <p:spPr>
            <a:xfrm>
              <a:off x="1523880" y="1781280"/>
              <a:ext cx="838440" cy="53316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89" name="Line 58"/>
            <p:cNvSpPr/>
            <p:nvPr/>
          </p:nvSpPr>
          <p:spPr>
            <a:xfrm>
              <a:off x="3048120" y="2314440"/>
              <a:ext cx="33526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90" name="Line 60"/>
            <p:cNvSpPr/>
            <p:nvPr/>
          </p:nvSpPr>
          <p:spPr>
            <a:xfrm>
              <a:off x="3048120" y="3000240"/>
              <a:ext cx="31240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91" name="Line 59"/>
            <p:cNvSpPr/>
            <p:nvPr/>
          </p:nvSpPr>
          <p:spPr>
            <a:xfrm>
              <a:off x="6858000" y="3000240"/>
              <a:ext cx="99072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92" name="Line 82"/>
            <p:cNvSpPr/>
            <p:nvPr/>
          </p:nvSpPr>
          <p:spPr>
            <a:xfrm>
              <a:off x="1676520" y="2390760"/>
              <a:ext cx="60948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93" name="Line 81"/>
            <p:cNvSpPr/>
            <p:nvPr/>
          </p:nvSpPr>
          <p:spPr>
            <a:xfrm flipV="1">
              <a:off x="1676520" y="2619000"/>
              <a:ext cx="609480" cy="152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94" name="Text Box 66"/>
            <p:cNvSpPr/>
            <p:nvPr/>
          </p:nvSpPr>
          <p:spPr>
            <a:xfrm>
              <a:off x="1295280" y="2238480"/>
              <a:ext cx="45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cc0099"/>
                  </a:solidFill>
                  <a:latin typeface="Times New Roman"/>
                </a:rPr>
                <a:t>?</a:t>
              </a:r>
              <a:endParaRPr b="1" lang="en-US" sz="40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95" name="Line 64"/>
            <p:cNvSpPr/>
            <p:nvPr/>
          </p:nvSpPr>
          <p:spPr>
            <a:xfrm flipV="1">
              <a:off x="7010280" y="2314080"/>
              <a:ext cx="457200" cy="30492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96" name="Line 63"/>
            <p:cNvSpPr/>
            <p:nvPr/>
          </p:nvSpPr>
          <p:spPr>
            <a:xfrm>
              <a:off x="7010280" y="2619360"/>
              <a:ext cx="533520" cy="22860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97" name="Text Box 66"/>
            <p:cNvSpPr/>
            <p:nvPr/>
          </p:nvSpPr>
          <p:spPr>
            <a:xfrm>
              <a:off x="7391520" y="2162160"/>
              <a:ext cx="45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cc0099"/>
                  </a:solidFill>
                  <a:latin typeface="Times New Roman"/>
                </a:rPr>
                <a:t>?</a:t>
              </a:r>
              <a:endParaRPr b="1" lang="en-US" sz="40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98" name="Text Box 69"/>
            <p:cNvSpPr/>
            <p:nvPr/>
          </p:nvSpPr>
          <p:spPr>
            <a:xfrm>
              <a:off x="2590920" y="1324080"/>
              <a:ext cx="232884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ath message</a:t>
              </a:r>
              <a:endParaRPr b="1" lang="en-US" sz="20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99" name="Text Box 69"/>
            <p:cNvSpPr/>
            <p:nvPr/>
          </p:nvSpPr>
          <p:spPr>
            <a:xfrm>
              <a:off x="3733920" y="3381480"/>
              <a:ext cx="232884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esv message</a:t>
              </a:r>
              <a:endParaRPr b="1" lang="en-US" sz="20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100" name="Line 78"/>
            <p:cNvSpPr/>
            <p:nvPr/>
          </p:nvSpPr>
          <p:spPr>
            <a:xfrm>
              <a:off x="2590920" y="1704960"/>
              <a:ext cx="1143000" cy="6094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101" name="Line 80"/>
            <p:cNvSpPr/>
            <p:nvPr/>
          </p:nvSpPr>
          <p:spPr>
            <a:xfrm flipH="1">
              <a:off x="2057400" y="1704960"/>
              <a:ext cx="533520" cy="3808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102" name="Line 78"/>
            <p:cNvSpPr/>
            <p:nvPr/>
          </p:nvSpPr>
          <p:spPr>
            <a:xfrm flipV="1">
              <a:off x="6019920" y="3152520"/>
              <a:ext cx="1218960" cy="2286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103" name="Line 78"/>
            <p:cNvSpPr/>
            <p:nvPr/>
          </p:nvSpPr>
          <p:spPr>
            <a:xfrm>
              <a:off x="5257800" y="3000240"/>
              <a:ext cx="762120" cy="3812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ccccff"/>
                </a:solidFill>
                <a:latin typeface="Arial"/>
              </a:endParaRPr>
            </a:p>
          </p:txBody>
        </p:sp>
      </p:grpSp>
      <p:sp>
        <p:nvSpPr>
          <p:cNvPr id="104" name="Rectangle 3"/>
          <p:cNvSpPr/>
          <p:nvPr/>
        </p:nvSpPr>
        <p:spPr>
          <a:xfrm>
            <a:off x="457200" y="4600440"/>
            <a:ext cx="845820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E2 can’t identify Path messages between the VPN1 and the VPN2 when it sends them to the same destination.</a:t>
            </a:r>
            <a:endParaRPr b="1" lang="en-US" sz="2000" spc="-1" strike="noStrike">
              <a:solidFill>
                <a:srgbClr val="cccc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E1 can’t identify Resv messages between the VPN1 and the VPN2 when it sends them to the same destination.</a:t>
            </a:r>
            <a:endParaRPr b="1" lang="en-US" sz="2000" spc="-1" strike="noStrike">
              <a:solidFill>
                <a:srgbClr val="cccc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o extend from current specification (RFC 3209).</a:t>
            </a:r>
            <a:endParaRPr b="1" lang="en-US" sz="2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05" name="フッター プレースホルダ 4"/>
          <p:cNvSpPr/>
          <p:nvPr/>
        </p:nvSpPr>
        <p:spPr>
          <a:xfrm>
            <a:off x="6629400" y="640080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7th IETF@Anaheim </a:t>
            </a:r>
            <a:endParaRPr b="1" lang="en-US" sz="1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06" name="日付プレースホルダ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rch 2010</a:t>
            </a:r>
            <a:endParaRPr b="1" lang="en-US" sz="14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ct Definition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81"/>
          <p:cNvSpPr/>
          <p:nvPr/>
        </p:nvSpPr>
        <p:spPr>
          <a:xfrm>
            <a:off x="304920" y="1523880"/>
            <a:ext cx="861048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the new object types</a:t>
            </a:r>
            <a:endParaRPr b="1" lang="en-US" sz="2800" spc="-1" strike="noStrike">
              <a:solidFill>
                <a:srgbClr val="cccc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cc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SP_TUNNEL_VPN-IPv4 / LSP_TUNNEL_VPN-IPv6                      SESSION Object</a:t>
            </a:r>
            <a:endParaRPr b="1" lang="en-US" sz="2000" spc="-1" strike="noStrike">
              <a:solidFill>
                <a:srgbClr val="cccc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SP_TUNNEL_VPN-IPv4 / LSP_TUNNEL_VPN-IPv6                      SENDER_TEMPLATE Object</a:t>
            </a:r>
            <a:endParaRPr b="1" lang="en-US" sz="2000" spc="-1" strike="noStrike">
              <a:solidFill>
                <a:srgbClr val="cccc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SP_TUNNEL_VPN-IPv4 / LSP_TUNNEL_VPN-IPv6                      FILTER_SPEC Object</a:t>
            </a:r>
            <a:endParaRPr b="1" lang="en-US" sz="2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09" name="フッター プレースホルダ 4"/>
          <p:cNvSpPr/>
          <p:nvPr/>
        </p:nvSpPr>
        <p:spPr>
          <a:xfrm>
            <a:off x="6629400" y="640080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7th IETF@Anaheim </a:t>
            </a:r>
            <a:endParaRPr b="1" lang="en-US" sz="1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0" name="日付プレースホルダ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rch 2010</a:t>
            </a:r>
            <a:endParaRPr b="1" lang="en-US" sz="14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ct Definitions(cont.)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81"/>
          <p:cNvSpPr/>
          <p:nvPr/>
        </p:nvSpPr>
        <p:spPr>
          <a:xfrm>
            <a:off x="304920" y="838080"/>
            <a:ext cx="861048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SP_TUNNEL_VPN-IPv4 / LSP_TUNNEL_VPN-IPv6        SESSION Object</a:t>
            </a:r>
            <a:endParaRPr b="1" lang="en-US" sz="2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1676520" y="1600200"/>
            <a:ext cx="6553080" cy="48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0                   1                   2                   3</a:t>
            </a:r>
            <a:endParaRPr b="1" lang="en-US" sz="1000" spc="-1" strike="noStrike">
              <a:solidFill>
                <a:srgbClr val="cc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0 1 2 3 4 5 6 7 8 9 0 1 2 3 4 5 6 7 8 9 0 1 2 3 4 5 6 7 8 9 0 1</a:t>
            </a:r>
            <a:endParaRPr b="1" lang="en-US" sz="1000" spc="-1" strike="noStrike">
              <a:solidFill>
                <a:srgbClr val="cc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1" lang="en-US" sz="1000" spc="-1" strike="noStrike">
              <a:solidFill>
                <a:srgbClr val="cc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|                                                               |</a:t>
            </a:r>
            <a:endParaRPr b="1" lang="en-US" sz="1000" spc="-1" strike="noStrike">
              <a:solidFill>
                <a:srgbClr val="cc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+                                                               +</a:t>
            </a:r>
            <a:endParaRPr b="1" lang="en-US" sz="1000" spc="-1" strike="noStrike">
              <a:solidFill>
                <a:srgbClr val="cc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|            VPN-IPv4 tunnel end point address (12 bytes)       |</a:t>
            </a:r>
            <a:endParaRPr b="1" lang="en-US" sz="1000" spc="-1" strike="noStrike">
              <a:solidFill>
                <a:srgbClr val="cc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+                                                               +</a:t>
            </a:r>
            <a:endParaRPr b="1" lang="en-US" sz="1000" spc="-1" strike="noStrike">
              <a:solidFill>
                <a:srgbClr val="cc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|                                                               |</a:t>
            </a:r>
            <a:endParaRPr b="1" lang="en-US" sz="1000" spc="-1" strike="noStrike">
              <a:solidFill>
                <a:srgbClr val="cc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1" lang="en-US" sz="1000" spc="-1" strike="noStrike">
              <a:solidFill>
                <a:srgbClr val="cc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|  MUST be zero                 |      Tunnel ID                |</a:t>
            </a:r>
            <a:endParaRPr b="1" lang="en-US" sz="1000" spc="-1" strike="noStrike">
              <a:solidFill>
                <a:srgbClr val="cc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1" lang="en-US" sz="1000" spc="-1" strike="noStrike">
              <a:solidFill>
                <a:srgbClr val="cc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|                       Extended Tunnel ID                      |</a:t>
            </a:r>
            <a:endParaRPr b="1" lang="en-US" sz="1000" spc="-1" strike="noStrike">
              <a:solidFill>
                <a:srgbClr val="cc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1" lang="en-US" sz="1000" spc="-1" strike="noStrike">
              <a:solidFill>
                <a:srgbClr val="cc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lass = SESSION, LSP_TUNNEL_VPN-IPv4 C-Type = TBA</a:t>
            </a:r>
            <a:endParaRPr b="1" lang="en-US" sz="1000" spc="-1" strike="noStrike">
              <a:solidFill>
                <a:srgbClr val="cc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cc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cc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0 1 2 3 4 5 6 7 8 9 0 1 2 3 4 5 6 7 8 9 0 1 2 3 4 5 6 7 8 9 0 1</a:t>
            </a:r>
            <a:endParaRPr b="1" lang="en-US" sz="1000" spc="-1" strike="noStrike">
              <a:solidFill>
                <a:srgbClr val="cc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1" lang="en-US" sz="1000" spc="-1" strike="noStrike">
              <a:solidFill>
                <a:srgbClr val="cc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|                                                               |</a:t>
            </a:r>
            <a:endParaRPr b="1" lang="en-US" sz="1000" spc="-1" strike="noStrike">
              <a:solidFill>
                <a:srgbClr val="cc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+                                                               +</a:t>
            </a:r>
            <a:endParaRPr b="1" lang="en-US" sz="1000" spc="-1" strike="noStrike">
              <a:solidFill>
                <a:srgbClr val="cc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|            VPN-IPv6 tunnel end point address                  |</a:t>
            </a:r>
            <a:endParaRPr b="1" lang="en-US" sz="1000" spc="-1" strike="noStrike">
              <a:solidFill>
                <a:srgbClr val="cc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                           (24 bytes)                        //</a:t>
            </a:r>
            <a:endParaRPr b="1" lang="en-US" sz="1000" spc="-1" strike="noStrike">
              <a:solidFill>
                <a:srgbClr val="cc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|                                                               |</a:t>
            </a:r>
            <a:endParaRPr b="1" lang="en-US" sz="1000" spc="-1" strike="noStrike">
              <a:solidFill>
                <a:srgbClr val="cc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1" lang="en-US" sz="1000" spc="-1" strike="noStrike">
              <a:solidFill>
                <a:srgbClr val="cc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|  MUST be zero                 |      Tunnel ID                |</a:t>
            </a:r>
            <a:endParaRPr b="1" lang="en-US" sz="1000" spc="-1" strike="noStrike">
              <a:solidFill>
                <a:srgbClr val="cc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1" lang="en-US" sz="1000" spc="-1" strike="noStrike">
              <a:solidFill>
                <a:srgbClr val="cc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|                                                               |</a:t>
            </a:r>
            <a:endParaRPr b="1" lang="en-US" sz="1000" spc="-1" strike="noStrike">
              <a:solidFill>
                <a:srgbClr val="cc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+                       Extended Tunnel ID                      +</a:t>
            </a:r>
            <a:endParaRPr b="1" lang="en-US" sz="1000" spc="-1" strike="noStrike">
              <a:solidFill>
                <a:srgbClr val="cc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                           (16 bytes)                        //</a:t>
            </a:r>
            <a:endParaRPr b="1" lang="en-US" sz="1000" spc="-1" strike="noStrike">
              <a:solidFill>
                <a:srgbClr val="cc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1" lang="en-US" sz="1000" spc="-1" strike="noStrike">
              <a:solidFill>
                <a:srgbClr val="cc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lass = SESSION, LSP_TUNNEL_VPN-IPv6 C-Type = TBA</a:t>
            </a:r>
            <a:endParaRPr b="1" lang="en-US" sz="1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フッター プレースホルダ 4"/>
          <p:cNvSpPr/>
          <p:nvPr/>
        </p:nvSpPr>
        <p:spPr>
          <a:xfrm>
            <a:off x="6629400" y="640080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7th IETF@Anaheim </a:t>
            </a:r>
            <a:endParaRPr b="1" lang="en-US" sz="1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5" name="日付プレースホルダ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rch 2010</a:t>
            </a:r>
            <a:endParaRPr b="1" lang="en-US" sz="14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81"/>
          <p:cNvSpPr/>
          <p:nvPr/>
        </p:nvSpPr>
        <p:spPr>
          <a:xfrm>
            <a:off x="304920" y="838080"/>
            <a:ext cx="861048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SP_TUNNEL_VPN-IPv4 / LSP_TUNNEL_VPN-IPv6 SENDER_TEMPRATE Object</a:t>
            </a:r>
            <a:endParaRPr b="1" lang="en-US" sz="2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685800" y="-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ct Definition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(cont.)</a:t>
            </a:r>
            <a:endParaRPr b="1" lang="en-US" sz="36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1676520" y="1676520"/>
            <a:ext cx="609588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0                   1                   2                   3</a:t>
            </a:r>
            <a:endParaRPr b="1" lang="en-US" sz="1000" spc="-1" strike="noStrike">
              <a:solidFill>
                <a:srgbClr val="cc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0 1 2 3 4 5 6 7 8 9 0 1 2 3 4 5 6 7 8 9 0 1 2 3 4 5 6 7 8 9 0 1</a:t>
            </a:r>
            <a:endParaRPr b="1" lang="en-US" sz="1000" spc="-1" strike="noStrike">
              <a:solidFill>
                <a:srgbClr val="cc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1" lang="en-US" sz="1000" spc="-1" strike="noStrike">
              <a:solidFill>
                <a:srgbClr val="cc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|                                                               |</a:t>
            </a:r>
            <a:endParaRPr b="1" lang="en-US" sz="1000" spc="-1" strike="noStrike">
              <a:solidFill>
                <a:srgbClr val="cc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+                                                               +</a:t>
            </a:r>
            <a:endParaRPr b="1" lang="en-US" sz="1000" spc="-1" strike="noStrike">
              <a:solidFill>
                <a:srgbClr val="cc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|            VPN-IPv4 tunnel sender address (12 bytes)          |</a:t>
            </a:r>
            <a:endParaRPr b="1" lang="en-US" sz="1000" spc="-1" strike="noStrike">
              <a:solidFill>
                <a:srgbClr val="cc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+                                                               +</a:t>
            </a:r>
            <a:endParaRPr b="1" lang="en-US" sz="1000" spc="-1" strike="noStrike">
              <a:solidFill>
                <a:srgbClr val="cc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|                                                               |</a:t>
            </a:r>
            <a:endParaRPr b="1" lang="en-US" sz="1000" spc="-1" strike="noStrike">
              <a:solidFill>
                <a:srgbClr val="cc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1" lang="en-US" sz="1000" spc="-1" strike="noStrike">
              <a:solidFill>
                <a:srgbClr val="cc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|  MUST be zero                 |            LSP ID             |</a:t>
            </a:r>
            <a:endParaRPr b="1" lang="en-US" sz="1000" spc="-1" strike="noStrike">
              <a:solidFill>
                <a:srgbClr val="cc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1" lang="en-US" sz="1000" spc="-1" strike="noStrike">
              <a:solidFill>
                <a:srgbClr val="cc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lass = SENDER_TEMPLATE, LSP_TUNNEL_VPN-IPv4 C-Type = TBA</a:t>
            </a:r>
            <a:endParaRPr b="1" lang="en-US" sz="1000" spc="-1" strike="noStrike">
              <a:solidFill>
                <a:srgbClr val="cc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cc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cc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0 1 2 3 4 5 6 7 8 9 0 1 2 3 4 5 6 7 8 9 0 1 2 3 4 5 6 7 8 9 0 1</a:t>
            </a:r>
            <a:endParaRPr b="1" lang="en-US" sz="1000" spc="-1" strike="noStrike">
              <a:solidFill>
                <a:srgbClr val="cc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1" lang="en-US" sz="1000" spc="-1" strike="noStrike">
              <a:solidFill>
                <a:srgbClr val="cc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|                                                               |</a:t>
            </a:r>
            <a:endParaRPr b="1" lang="en-US" sz="1000" spc="-1" strike="noStrike">
              <a:solidFill>
                <a:srgbClr val="cc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+                                                               +</a:t>
            </a:r>
            <a:endParaRPr b="1" lang="en-US" sz="1000" spc="-1" strike="noStrike">
              <a:solidFill>
                <a:srgbClr val="cc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|            VPN-IPv6 tunnel sender address                     |</a:t>
            </a:r>
            <a:endParaRPr b="1" lang="en-US" sz="1000" spc="-1" strike="noStrike">
              <a:solidFill>
                <a:srgbClr val="cc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+                                                               +</a:t>
            </a:r>
            <a:endParaRPr b="1" lang="en-US" sz="1000" spc="-1" strike="noStrike">
              <a:solidFill>
                <a:srgbClr val="cc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|                            (24 bytes)                         |</a:t>
            </a:r>
            <a:endParaRPr b="1" lang="en-US" sz="1000" spc="-1" strike="noStrike">
              <a:solidFill>
                <a:srgbClr val="cc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+                                                               +</a:t>
            </a:r>
            <a:endParaRPr b="1" lang="en-US" sz="1000" spc="-1" strike="noStrike">
              <a:solidFill>
                <a:srgbClr val="cc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|                                                               |</a:t>
            </a:r>
            <a:endParaRPr b="1" lang="en-US" sz="1000" spc="-1" strike="noStrike">
              <a:solidFill>
                <a:srgbClr val="cc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+                                                               +</a:t>
            </a:r>
            <a:endParaRPr b="1" lang="en-US" sz="1000" spc="-1" strike="noStrike">
              <a:solidFill>
                <a:srgbClr val="cc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|                                                               |</a:t>
            </a:r>
            <a:endParaRPr b="1" lang="en-US" sz="1000" spc="-1" strike="noStrike">
              <a:solidFill>
                <a:srgbClr val="cc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+                                                               +</a:t>
            </a:r>
            <a:endParaRPr b="1" lang="en-US" sz="1000" spc="-1" strike="noStrike">
              <a:solidFill>
                <a:srgbClr val="cc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|                                                               |</a:t>
            </a:r>
            <a:endParaRPr b="1" lang="en-US" sz="1000" spc="-1" strike="noStrike">
              <a:solidFill>
                <a:srgbClr val="cc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1" lang="en-US" sz="1000" spc="-1" strike="noStrike">
              <a:solidFill>
                <a:srgbClr val="cc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|  MUST be zero                 |            LSP ID             |</a:t>
            </a:r>
            <a:endParaRPr b="1" lang="en-US" sz="1000" spc="-1" strike="noStrike">
              <a:solidFill>
                <a:srgbClr val="cc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1" lang="en-US" sz="1000" spc="-1" strike="noStrike">
              <a:solidFill>
                <a:srgbClr val="cc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lass = SENDER_TEMPLATE, LSP_TUNNEL_VPN-IPv4 C-Type = TBA</a:t>
            </a:r>
            <a:endParaRPr b="1" lang="en-US" sz="1000" spc="-1" strike="noStrike">
              <a:solidFill>
                <a:srgbClr val="cc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1" lang="en-US" sz="1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9" name="フッター プレースホルダ 4"/>
          <p:cNvSpPr/>
          <p:nvPr/>
        </p:nvSpPr>
        <p:spPr>
          <a:xfrm>
            <a:off x="6629400" y="640080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7th IETF@Anaheim </a:t>
            </a:r>
            <a:endParaRPr b="1" lang="en-US" sz="1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0" name="日付プレースホルダ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rch 2010</a:t>
            </a:r>
            <a:endParaRPr b="1" lang="en-US" sz="14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685800" y="-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ct Definition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(cont.)</a:t>
            </a:r>
            <a:endParaRPr b="1" lang="en-US" sz="36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2" name="Rectangle 81"/>
          <p:cNvSpPr/>
          <p:nvPr/>
        </p:nvSpPr>
        <p:spPr>
          <a:xfrm>
            <a:off x="304920" y="1066680"/>
            <a:ext cx="86104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SP_TUNNEL_VPN-IPv4 / LSP_TUNNEL_VPN-IPv6      FILTER_SPEC  Object</a:t>
            </a:r>
            <a:endParaRPr b="1" lang="en-US" sz="2000" spc="-1" strike="noStrike">
              <a:solidFill>
                <a:srgbClr val="cccc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cc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Class = FILTER SPECIFICATION, LSP_TUNNEL_VPN-IPv4 C-Type = TBA</a:t>
            </a:r>
            <a:endParaRPr b="1" lang="en-US" sz="1000" spc="-1" strike="noStrike">
              <a:solidFill>
                <a:srgbClr val="cccc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Class = FILTER SPECIFICATION, LSP_TUNNEL_VPN-IPv6 C-Type = TB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1" lang="en-US" sz="2400" spc="-1" strike="noStrike">
              <a:solidFill>
                <a:srgbClr val="cccc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cc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*  The format is identical to the LSP_TUNNEL_VPN-IPv4  / LSP_TUNNEL_VPN-IPv6 SENDER_TEMPLATE Obj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1" lang="en-US" sz="2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フッター プレースホルダ 4"/>
          <p:cNvSpPr/>
          <p:nvPr/>
        </p:nvSpPr>
        <p:spPr>
          <a:xfrm>
            <a:off x="6629400" y="640080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7th IETF@Anaheim </a:t>
            </a:r>
            <a:endParaRPr b="1" lang="en-US" sz="1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4" name="日付プレースホルダ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rch 2010</a:t>
            </a:r>
            <a:endParaRPr b="1" lang="en-US" sz="14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685800" y="-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lated drafts</a:t>
            </a:r>
            <a:endParaRPr b="1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228600" y="1143000"/>
            <a:ext cx="86104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these drafts to PCE WG</a:t>
            </a:r>
            <a:endParaRPr b="1" lang="en-US" sz="2800" spc="-1" strike="noStrike">
              <a:solidFill>
                <a:srgbClr val="cccc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cc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CEP extensions for a BGP/MPLS IP-VPN</a:t>
            </a:r>
            <a:endParaRPr b="1" lang="en-US" sz="2400" spc="-1" strike="noStrike">
              <a:solidFill>
                <a:srgbClr val="cccc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draft-kumaki-murai-pce-pcep-extension-l3vpn-05</a:t>
            </a:r>
            <a:endParaRPr b="1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CC-PCE Communication Requirements for VPNs</a:t>
            </a:r>
            <a:endParaRPr b="1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draft-ietf-pce-vpn-req-01</a:t>
            </a:r>
            <a:endParaRPr b="1" lang="en-US" sz="2000" spc="-1" strike="noStrike">
              <a:solidFill>
                <a:srgbClr val="cccc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cc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GP protocol extensions for Path Computation Element(PCE) Discovery in a BGP/MPLS IP-VPN</a:t>
            </a:r>
            <a:endParaRPr b="1" lang="en-US" sz="2400" spc="-1" strike="noStrike">
              <a:solidFill>
                <a:srgbClr val="cccc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draft-kumaki-pce-bgp-disco-attribute-06</a:t>
            </a:r>
            <a:endParaRPr b="1" lang="en-US" sz="2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フッター プレースホルダ 4"/>
          <p:cNvSpPr/>
          <p:nvPr/>
        </p:nvSpPr>
        <p:spPr>
          <a:xfrm>
            <a:off x="6629400" y="640080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7th IETF@Anaheim </a:t>
            </a:r>
            <a:endParaRPr b="1" lang="en-US" sz="1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8" name="日付プレースホルダ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rch 2010</a:t>
            </a:r>
            <a:endParaRPr b="1" lang="en-US" sz="14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457200" y="27468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1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457200" y="1154160"/>
            <a:ext cx="8218440" cy="46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cc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name this I-D for l3vpn or mpls WG</a:t>
            </a:r>
            <a:endParaRPr b="1" lang="en-US" sz="2400" spc="-1" strike="noStrike">
              <a:solidFill>
                <a:srgbClr val="cccc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more comments and feedback from WG</a:t>
            </a:r>
            <a:endParaRPr b="1" lang="en-US" sz="2400" spc="-1" strike="noStrike">
              <a:solidFill>
                <a:srgbClr val="cccc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est WG to accept this I-D as a WG document</a:t>
            </a:r>
            <a:endParaRPr b="1" lang="en-US" sz="2400" spc="-1" strike="noStrike">
              <a:solidFill>
                <a:srgbClr val="cccc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cc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フッター プレースホルダ 4"/>
          <p:cNvSpPr/>
          <p:nvPr/>
        </p:nvSpPr>
        <p:spPr>
          <a:xfrm>
            <a:off x="6629400" y="640080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7th IETF@Anaheim </a:t>
            </a:r>
            <a:endParaRPr b="1" lang="en-US" sz="1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2" name="日付プレースホルダ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rch 2010</a:t>
            </a:r>
            <a:endParaRPr b="1" lang="en-US" sz="14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6T08:18:13Z</dcterms:created>
  <dc:creator>kenji kumaki</dc:creator>
  <dc:description/>
  <dc:language>en-US</dc:language>
  <cp:lastModifiedBy>Dan</cp:lastModifiedBy>
  <dcterms:modified xsi:type="dcterms:W3CDTF">2010-03-21T23:46:13Z</dcterms:modified>
  <cp:revision>606</cp:revision>
  <dc:subject/>
  <dc:title>requirements for delivering MPLS services over L3VPN</dc:title>
</cp:coreProperties>
</file>