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E551-0A40-4D8D-BBB8-EF81450F8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2CF5-A951-4328-8683-F1A7CF94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5E4C-7A78-4631-BEEC-6EAAA161E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8052-924F-466A-B9F3-6B41E8556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307B-FF5C-45AB-88D7-ABAB4711B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9E4A-E4E5-408A-A5BA-03975F77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7071-A730-4BCB-9720-A4441C50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74CD-B472-491E-8784-42341627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A9EF-6153-4F30-A2B8-BC514D5B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412A-1ABA-4B64-AE79-308E029A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683A-8D28-41CE-9CC4-401E828A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BED2-2368-46A9-990D-77974C98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917F-9145-4BF3-B275-F5D5A496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EC47-21B1-4AE3-95B8-37E7902B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0A10-55E2-49C1-8335-B2E142C6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F1BF-AFEC-4BFA-B498-4B8189002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C998-3644-4180-9FE4-F7E655123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6A58-5E7F-4CAF-B9A1-0F43CDF8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197B-9B58-40EE-A90B-D39C6F23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9075-D1CB-41B7-8862-B8FBC00F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A5F5-75F0-4501-A708-5D840462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4B85-1798-47C4-8C92-1A74C92A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CD32-6445-4CB0-BF97-0FEEA1AC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29C2-8C08-4801-837C-3C4ABE64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B22A-0399-4EF9-98C9-4780D44F5F80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40" descr="ietflogo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871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1" descr="ietflogo"/>
          <p:cNvPicPr/>
          <p:nvPr/>
        </p:nvPicPr>
        <p:blipFill>
          <a:blip r:embed="rId2"/>
          <a:stretch/>
        </p:blipFill>
        <p:spPr>
          <a:xfrm>
            <a:off x="7391520" y="2971800"/>
            <a:ext cx="1523880" cy="871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BFB0-E319-4B05-8D73-6DA67DBACFC3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1.ietf.org/mailman/listinfo/multimob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1.ietf.org/mailman/listinfo/multimob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3047760"/>
            <a:ext cx="6842160" cy="335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宋体"/>
              </a:rPr>
              <a:t>WG Status </a:t>
            </a:r>
            <a:br>
              <a:rPr sz="3900"/>
            </a:br>
            <a:br>
              <a:rPr sz="2000"/>
            </a:br>
            <a:r>
              <a:rPr b="1" lang="en-US" sz="2000" spc="-1" strike="noStrike">
                <a:solidFill>
                  <a:srgbClr val="33006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  <a:ea typeface="宋体"/>
              </a:rPr>
              <a:t>Stig Venaas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  <a:ea typeface="宋体"/>
              </a:rPr>
              <a:t>Behcet Sarikaya</a:t>
            </a:r>
            <a:br>
              <a:rPr sz="2800"/>
            </a:br>
            <a:r>
              <a:rPr b="1" lang="en-CA" sz="2800" spc="-1" strike="noStrike">
                <a:solidFill>
                  <a:srgbClr val="330066"/>
                </a:solidFill>
                <a:latin typeface="Arial"/>
                <a:ea typeface="宋体"/>
              </a:rPr>
              <a:t>March 2010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" name="DtsShapeName" hidden="1"/>
          <p:cNvSpPr/>
          <p:nvPr/>
        </p:nvSpPr>
        <p:spPr>
          <a:xfrm>
            <a:off x="0" y="0"/>
            <a:ext cx="1440" cy="1440"/>
          </a:xfrm>
          <a:prstGeom prst="pie">
            <a:avLst/>
          </a:prstGeom>
          <a:solidFill>
            <a:srgbClr val="cc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316080" y="466560"/>
            <a:ext cx="6781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  <a:ea typeface="宋体"/>
              </a:rPr>
              <a:t>Multimob WG</a:t>
            </a:r>
            <a:br>
              <a:rPr sz="4800"/>
            </a:br>
            <a:r>
              <a:rPr b="1" lang="en-US" sz="4800" spc="-1" strike="noStrike">
                <a:solidFill>
                  <a:srgbClr val="330066"/>
                </a:solidFill>
                <a:latin typeface="Arial"/>
                <a:ea typeface="宋体"/>
              </a:rPr>
              <a:t>IETF 7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52280" y="632448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ea typeface="宋体"/>
                <a:hlinkClick r:id="rId1"/>
              </a:rPr>
              <a:t>https://www1.ietf.org/mailman/listinfo/multim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95280" y="257040"/>
            <a:ext cx="713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ultimob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50920" y="1413000"/>
            <a:ext cx="8569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elcome to Multimob WG at IETF 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ailing list subscribe at </a:t>
            </a:r>
            <a:r>
              <a:rPr b="0" lang="en-US" sz="2800" spc="-1" strike="noStrike" u="sng">
                <a:solidFill>
                  <a:srgbClr val="7e9ce8"/>
                </a:solidFill>
                <a:uFillTx/>
                <a:latin typeface="Arial"/>
                <a:ea typeface="宋体"/>
                <a:hlinkClick r:id="rId1"/>
              </a:rPr>
              <a:t>https://www1.ietf.org/mailman/listinfo/multim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tandardization of multicast support in Proxy Mobile IPv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xtensions to group management protocols for mo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isting Milest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mob charter has item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document explaining the use of multicast in PMIPv6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document on how to tune IGMPv3/MLDv2 for mobil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WG draft has been accepted on 2/22 on PMIPv6 Base Solu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raft-ietf-multimob-pmipv6-base-solution-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orresponding charter item we wish to mee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r 2010 - Submit a document explaining the use of multicast in PMIPv6, for publication as either Informational or Best Current Practi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isting Milestones -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ext item is on a document on how to tune IGMPv3/MLDv2 for mo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responding charter item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r 2010 - Submit a document on how to tune IGMPv3/MLDv2 for mobility, for publication as either Informational or Best Current Practice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052080" y="2487600"/>
            <a:ext cx="30974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FrutigerNext LT Medium"/>
              </a:rPr>
              <a:t>Thank you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02:41:14Z</dcterms:created>
  <dc:creator/>
  <dc:description/>
  <dc:language>en-US</dc:language>
  <cp:lastModifiedBy>Behcet Sarikaya</cp:lastModifiedBy>
  <dcterms:modified xsi:type="dcterms:W3CDTF">2010-03-15T16:39:56Z</dcterms:modified>
  <cp:revision>398</cp:revision>
  <dc:subject/>
  <dc:title>RADEXT WG IETF-6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68669863</vt:lpwstr>
  </property>
</Properties>
</file>