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2A3-B1F9-4977-BE00-2ABE2DA3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47E-23CB-4508-AF2D-E2416FA9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98E-9C54-402A-B5E9-F6A3E850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8D1-386B-4CE7-B9FB-1608D3BC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0898-A6C5-40AE-A7DD-9DFA1212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2C6B-492D-4962-9298-89B6D4FE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84B1-5055-4EFB-BD1B-96E7399F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E485-7E84-4421-B082-06C2369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BE58-DEBE-4BF8-9419-ACAEC053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94BF-5C29-4E8E-8E36-414DDFEC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9D9-312F-4FA5-A6E6-ADA551A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AE2-DE79-4275-9E60-514D4E2F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A12F-ADC5-4614-940A-70D0C252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D1B4-6112-43FE-946D-C51C7984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D78F-6C72-4E60-80B2-96B1E000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28E-951C-46CF-A4FB-0BCF7C53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DF0B-5531-4F4F-BA66-0F2E5F44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98E-090D-4081-B81A-CFB4F714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CE5-9134-48BF-8840-86444D0F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2D8-41DF-43F6-96CF-960962BB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CF0-31F9-4BA9-9260-43B29DA7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937-61A4-48BF-9380-C38C4A6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339-0C22-4637-BEAE-3BC1C90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7C5-A6AE-453C-9973-473CA379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11D-53EE-4E9E-9FC0-0FFB88502E4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78C0-6E54-4D26-B77C-CC43CB4527C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1.ietf.org/mailman/listinfo/multimob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1.ietf.org/mailman/listinfo/multimob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684216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WG Status </a:t>
            </a:r>
            <a:br>
              <a:rPr sz="39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宋体"/>
              </a:rPr>
              <a:t>Stig Venaa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宋体"/>
              </a:rPr>
              <a:t>Behcet Sarikaya</a:t>
            </a:r>
            <a:br>
              <a:rPr sz="2800"/>
            </a:br>
            <a:r>
              <a:rPr b="1" lang="en-CA" sz="2800" spc="-1" strike="noStrike">
                <a:solidFill>
                  <a:srgbClr val="330066"/>
                </a:solidFill>
                <a:latin typeface="Arial"/>
                <a:ea typeface="宋体"/>
              </a:rPr>
              <a:t>March 2010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16080" y="46656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宋体"/>
              </a:rPr>
              <a:t>Multimob WG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宋体"/>
              </a:rPr>
              <a:t>IETF 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52280" y="6324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1"/>
              </a:rPr>
              <a:t>https://www1.ietf.org/mailman/listinfo/multim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257040"/>
            <a:ext cx="71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ltimob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50920" y="141300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lcome to Multimob WG at IETF 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iling list subscribe at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1"/>
              </a:rPr>
              <a:t>https://www1.ietf.org/mailman/listinfo/multim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andardization of multicast support in Proxy Mobile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tensions to group management protocols for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isting Milest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mob charter has i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ocument explaining the use of multicast in PMIPv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ocument on how to tune IGMPv3/MLDv2 for mo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G draft has been accepted on 2/22 on PMIPv6 Base Sol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ft-ietf-multimob-pmipv6-base-solution-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rresponding charter item we wish to me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r 2010 - Submit a document explaining the use of multicast in PMIPv6, for publication as either Informational or Best Current Pract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isting Milestones -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item is on a document on how to tune IGMPv3/MLDv2 for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sponding charter item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 2010 - Submit a document on how to tune IGMPv3/MLDv2 for mobility, for publication as either Informational or Best Current Practic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52080" y="2487600"/>
            <a:ext cx="3097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utigerNext LT Medium"/>
              </a:rPr>
              <a:t>Thank you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/>
  <dc:description/>
  <dc:language>en-US</dc:language>
  <cp:lastModifiedBy>Behcet Sarikaya</cp:lastModifiedBy>
  <dcterms:modified xsi:type="dcterms:W3CDTF">2010-03-15T16:39:56Z</dcterms:modified>
  <cp:revision>398</cp:revision>
  <dc:subject/>
  <dc:title>RADEXT WG IETF-6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69863</vt:lpwstr>
  </property>
</Properties>
</file>