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148-D03B-4D85-BDA7-84DFC123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4B1-5C04-4E46-961C-7E321CB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588-6BA6-4CC4-9EE9-A42397C9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185-265D-4C10-B236-3221CB2A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C29-5BB0-4329-8175-FA0F1720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B8D-961E-47DE-B0F9-92E272F7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9C1-497D-4526-A566-75032BA7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E2C-C698-4264-8B5F-6B0BF24A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FAB-7703-4DA1-B2C8-41B560EB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605-3F19-458C-B66F-50EBB867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F14-6A66-4C44-8372-390937CF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928-94ED-477C-8E04-4CD1E5D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7875-41B2-419F-989E-86B46F614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tf.org/id/draft-wu-multimob-igmp-mld-tuning-00.txt" TargetMode="External"/><Relationship Id="rId2" Type="http://schemas.openxmlformats.org/officeDocument/2006/relationships/hyperlink" Target="http://qinwu.weebly.com/uploads/3/9/9/4/3994264/proposal_for_tuning_igmpv3_mldv2_protocol_behavior_in_wireless_and_mobile_networks.txt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for Tuning IGMPv3/MLDv2 Protocol Behavior in Wireless and Mobile networ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77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wu-multimob-igmp-mld-tuning-00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in W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ui L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CF9-7E74-425D-8142-6CDC83495A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nicast Query for the lost solicited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 router after sending a periodical Query collects successfully all the members’ report responses except for one or two which are currently still valid in its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uggestions (Periodical Query+ Unicast Qu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cast a Query respectively to each non-respondent receiver to check whether they are still alive for the multicast reception, without affecting the majority of receivers that have already respon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cast query can be retransmitted in the incrementa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68D-56CD-48E3-BACE-E5002FD75D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Retransmission in incremental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outer can not collect successfully all the member’s report response and network congestion is going to 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gestions (Explicit tracking/Periodical Query+ Query retransmission in incremental inter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Retransmission can be slowed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uter stop Query when receiving report response from the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uter resend Query in the increment interval (e.g., double interval) at the each time of re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s the sending of the Query when retransmission up-limit is re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4CC-D595-4505-9B60-586002F3A2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Link Typ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Response which is used to prevent bursting of solicited reports, should not be required in PTP and PTMP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only one receiver in the link for each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Delayed Response, the report could be respon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router immediat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pecific Query and Source-and-Group Specific Query, which are used to query other valid members, are not necessary for PTP and PTMP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should be only one receiver on each link reporting toward the rou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TP links, periodical General Query, which is sent separately to each interface, is unnecessary to be sent to all the interfa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hosts which have made the group join and have reception state on the router are interested in the this periodical General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27E-AA4D-4987-B21F-F3874A86B4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more review and quick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 it as WG it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8BC-C4A2-4D82-8BBB-60329BFC8F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for Tuning IGMPv3/MLDv2 Protocol Behavior in Wireless and Mobi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360" y="1701720"/>
            <a:ext cx="79912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oses a variety of optimization approaches for tuning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GMP/MLD protocols in wireless or mobil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nce IGMP/MLD are only designed for Shared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el [RFC1112], Specification for other types of network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entify Impact of wireless and mobility on IGMP/M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valuate current versions of IGMP and ML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ing reliability, efficiency and different link type into accou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uning IGMP/MLD to adapt to the wireless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6E6-012B-4D39-9634-7E41CD330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of wireless and mobility on IGMP/M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following characteristics when used in wireless and mobile networks are challe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SM and SSM subscription ( REQ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st Join and Leave (REQ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plicit Tracking (REQ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obustness to packet loss (REQ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imum packet transmission (REQ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voiding packet burst (REQ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aptive to different link mode (REQ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674-800D-4C06-9036-1AEFB90565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 current versions of IGMP and M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v2 [RFC2236] and MLDv1 [RFC2710] only support ASM communication mode, but not support SSM subscription and explicit trac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v3 [RFC3376] and MLDv2 [RFC3810] and their lightweight version LW-IGMPv3/LW-MLDv2 [RFC5760] support all the features of ASM and SSM communication, and of explicit trac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IGMPv3 and MLDv2 provide the reliability for these messages by unconditional retransmission like retransmission for startup query, last member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v3 and MLDv2 do not adopt host suppression mechanism, the number of active receivers on the network may occupy more bandwidth and influence the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v3/MLDv2 and lightweight IGMPv3/MLDv2 are recommended as the best basis for optimization of IGMP/MLD to adapt to wireless and mobil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576-0E46-4EC1-AA24-F70F19F279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MP/MLD Protocol tuning optimization approaches for Wireless or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timization Consideration for Repor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timization Considerations for Query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sable Group/Source-Group Specific Queries on le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miting the scope of periodical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ditional Retransmission of Queries on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cast Query for retransmission of the lost solicited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uery Retransmission in incrementa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timization Considerations for Link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F8A-D1EE-4FBF-961B-C2C646B8A6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 for Report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 some cases, the unsolicited reports are prone to loss due to network conditions degradation or long distance tra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ven the report can be retransmitted for [Robust Variable] times, the packet sent by the host is received by the router can not be guarant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xcessive Packet retransmission is the waste of 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ugges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oposal 1 (Retransmission for unsolicited repo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 host after sending an unsolcited report starts a retransmission timer and waits for the Acknowledgement (multiast data) from th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pon receiving multicast data, the hosts stop retran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the multicast data is not received, unsolicit report can be retransmitted. A parameter should also be used to limit the maximum retransmission times for the re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oposal 2: (Ack for unsolicited report-Protocol change is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 host after sending an unsolicited report starts a retransmission timer and waits for the acknowledgement (ACK) from the rout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pon receiving ACK or multicast data, the host stops the timer and retransmiss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the ACK is not received when the timer expires, another report is retransmitte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262-09DE-4250-8E44-87AA21C725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sable Group/Source-Group Specific Queries on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uggestions(Explicit tracking+ Disable Group Queries on le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plicit Tracking can be used to keep track of the membership status of the h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 Explicit Tracking is used, Group/Source-Group Specific Queries on leave is not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C26-10FF-4DC8-9B69-EEE0FEFACA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miting the scope of periodical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duce the packet burst on link with large number of responded rep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uggestions (Periodical Query+Group Periodical Qu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f the receiver number is small, the periodical General Queries for all multicast receivers can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f the number of the multicast receiver on a link is large, the router could choose to periodically send Group Queries to a (*,G) group in different time inter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send Source-Group Specific Queries to a (S,G) group in different time interv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89F-8118-4B46-ABDC-8B26B08A14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Retransmission of Queries on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if after sending a Query, fails to get any response from any receiver, it may derive that its previous-sent Query might have been lost before reaching the rece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s (Periodical Query + Conditional Query Retransmi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 retransmission of Query may be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Query lost is detected, Query will be 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is resent in the incremental interval in case of network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20D-CEAE-4D1C-9DCB-FF6F442891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2:50:21Z</dcterms:created>
  <dc:creator>c50408</dc:creator>
  <dc:description/>
  <dc:language>en-US</dc:language>
  <cp:lastModifiedBy>Behcet Sarikaya</cp:lastModifiedBy>
  <dcterms:modified xsi:type="dcterms:W3CDTF">2010-03-23T16:38:39Z</dcterms:modified>
  <cp:revision>127</cp:revision>
  <dc:subject/>
  <dc:title>IGMPv3/MLDv2 Lit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362241</vt:lpwstr>
  </property>
</Properties>
</file>