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ADC-2F3D-4367-9279-17576E9D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AC0-F426-4429-96B3-B885E3C9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FDA-DD99-4477-AA00-F0271240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FB0-0E11-4909-BFA9-F604B097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76B-90EE-4E2A-BE80-01A881AB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320-77CE-484E-986E-DD9298B7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905-90C1-4C0E-B697-AB2E3BB9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62D-29F1-4C53-B55D-3FE59645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30E-4EFF-4193-B215-39954BD0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D32-7464-474C-8944-55C1B489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673-6196-4EB4-97B7-0FBF9960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FFF-239F-4291-80E5-F0F059F3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0F5C-4B76-4BB2-9076-6D71117708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etf.org/id/draft-wu-multimob-igmp-mld-tuning-00.txt" TargetMode="External"/><Relationship Id="rId2" Type="http://schemas.openxmlformats.org/officeDocument/2006/relationships/hyperlink" Target="http://qinwu.weebly.com/uploads/3/9/9/4/3994264/proposal_for_tuning_igmpv3_mldv2_protocol_behavior_in_wireless_and_mobile_networks.txt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 for Tuning IGMPv3/MLDv2 Protocol Behavior in Wireless and Mobile network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77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wu-multimob-igmp-mld-tuning-00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in W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ui L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94D-2C42-41A7-AE1D-213350EE2B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Considerations for Query Messages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Unicast Query for the lost solicited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 router after sending a periodical Query collects successfully all the members’ report responses except for one or two which are currently still valid in its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uggestions (Periodical Query+ Unicast Qu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nicast a Query respectively to each non-respondent receiver to check whether they are still alive for the multicast reception, without affecting the majority of receivers that have already respon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nicast query can be retransmitted in the incremental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2EA-7A8C-4F92-802A-CE8AB75705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Considerations for Query Messages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Retransmission in incremental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router can not collect successfully all the member’s report response and network congestion is going to hap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ggestions (Explicit tracking/Periodical Query+ Query retransmission in incremental inter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Retransmission can be slowed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uter stop Query when receiving report response from the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uter resend Query in the increment interval (e.g., double interval) at the each time of re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s the sending of the Query when retransmission up-limit is re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0AB-2B51-4374-B8CF-904391342D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Considerations for Link Typ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Response which is used to prevent bursting of solicited reports, should not be required in PTP and PTMP l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only one receiver in the link for each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Delayed Response, the report could be respon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router immediat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specific Query and Source-and-Group Specific Query, which are used to query other valid members, are not necessary for PTP and PTMP l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should be only one receiver on each link reporting toward the rou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TP links, periodical General Query, which is sent separately to each interface, is unnecessary to be sent to all the interfa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hosts which have made the group join and have reception state on the router are interested in the this periodical General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297-68B9-44E8-8B62-187BFD54DD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more review and quick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pt it as WG it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3CE-112E-4655-91AC-70ED6E1088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for Tuning IGMPv3/MLDv2 Protocol Behavior in Wireless and Mobil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360" y="1701720"/>
            <a:ext cx="79912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poses a variety of optimization approaches for tuning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GMP/MLD protocols in wireless or mobile 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nviro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nce IGMP/MLD are only designed for Shared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el [RFC1112], Specification for other types of network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entify Impact of wireless and mobility on IGMP/M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valuate current versions of IGMP and ML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aking reliability, efficiency and different link type into accou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uning IGMP/MLD to adapt to the wireless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5229360"/>
            <a:ext cx="79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B46-55E7-4D08-AEB9-7AEEEF7655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ct of wireless and mobility on IGMP/M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following characteristics when used in wireless and mobile networks are challe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SM and SSM subscription ( REQ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st Join and Leave (REQ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plicit Tracking (REQ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obustness to packet loss (REQ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nimum packet transmission (REQ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voiding packet burst (REQ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aptive to different link mode (REQ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41C-8EA9-444B-ADA9-6C6B0AC1D3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e current versions of IGMP and M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MPv2 [RFC2236] and MLDv1 [RFC2710] only support ASM communication mode, but not support SSM subscription and explicit trac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MPv3 [RFC3376] and MLDv2 [RFC3810] and their lightweight version LW-IGMPv3/LW-MLDv2 [RFC5760] support all the features of ASM and SSM communication, and of explicit trac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IGMPv3 and MLDv2 provide the reliability for these messages by unconditional retransmission like retransmission for startup query, last member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MPv3 and MLDv2 do not adopt host suppression mechanism, the number of active receivers on the network may occupy more bandwidth and influence the effici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MPv3/MLDv2 and lightweight IGMPv3/MLDv2 are recommended as the best basis for optimization of IGMP/MLD to adapt to wireless and mobil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69C-27BE-4189-AF9A-9F4B256409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MP/MLD Protocol tuning optimization approaches for Wireless or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ptimization Consideration for Repor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ptimization Considerations for Query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sable Group/Source-Group Specific Queries on le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imiting the scope of periodical 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nditional Retransmission of Queries on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nicast Query for retransmission of the lost solicited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uery Retransmission in incremental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ptimization Considerations for Link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9FB-0C2B-41A4-87D0-553409AB96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Consideration for Report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n some cases, the unsolicited reports are prone to loss due to network conditions degradation or long distance tra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ven the report can be retransmitted for [Robust Variable] times, the packet sent by the host is received by the router can not be guarant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xcessive Packet retransmission is the waste of 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ugges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oposal 1 (Retransmission for unsolicited repo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 host after sending an unsolcited report starts a retransmission timer and waits for the Acknowledgement (multiast data) from the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Upon receiving multicast data, the hosts stop retran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the multicast data is not received, unsolicit report can be retransmitted. A parameter should also be used to limit the maximum retransmission times for the re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oposal 2: (Ack for unsolicited report-Protocol change is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 host after sending an unsolicited report starts a retransmission timer and waits for the acknowledgement (ACK) from the rout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Upon receiving ACK or multicast data, the host stops the timer and retransmissio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the ACK is not received when the timer expires, another report is retransmitted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589-5CA0-49AE-9AB2-533FA0A533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Considerations for Query Message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isable Group/Source-Group Specific Queries on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uggestions(Explicit tracking+ Disable Group Queries on le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plicit Tracking can be used to keep track of the membership status of the h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f Explicit Tracking is used, Group/Source-Group Specific Queries on leave is not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F81-55D1-4CB4-9A13-31ACD94B0A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Considerations for Query Messag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imiting the scope of periodical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duce the packet burst on link with large number of responded repo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uggestions (Periodical Query+Group Periodical Qu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f the receiver number is small, the periodical General Queries for all multicast receivers can b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f the number of the multicast receiver on a link is large, the router could choose to periodically send Group Queries to a (*,G) group in different time inter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send Source-Group Specific Queries to a (S,G) group in different time interv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1E8-82F3-4391-B42E-0AD28DBE45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Considerations for Query Messages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Retransmission of Queries on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uter if after sending a Query, fails to get any response from any receiver, it may derive that its previous-sent Query might have been lost before reaching the rece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estions (Periodical Query + Conditional Query Retransmi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 retransmission of Query may be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Query lost is detected, Query will be 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 is resent in the incremental interval in case of network 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7 Multimob Califor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DFE-2938-48CA-A13A-0C88C0B4BE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2:50:21Z</dcterms:created>
  <dc:creator>c50408</dc:creator>
  <dc:description/>
  <dc:language>en-US</dc:language>
  <cp:lastModifiedBy>Behcet Sarikaya</cp:lastModifiedBy>
  <dcterms:modified xsi:type="dcterms:W3CDTF">2010-03-23T16:38:39Z</dcterms:modified>
  <cp:revision>127</cp:revision>
  <dc:subject/>
  <dc:title>IGMPv3/MLDv2 Lit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9362241</vt:lpwstr>
  </property>
</Properties>
</file>