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2BD-ED6E-4EDC-B316-EB7485B6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02A-C249-485D-B39A-7AEDD2A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2B6-B1B3-4FD1-BFA5-3F6224D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251-1F2E-4CBF-A798-4D172D78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495-9B5D-48BE-AF17-7143F25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2C5-5412-4DE6-8041-3846586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1E5-DC50-4006-A8CC-98F57509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4EC-60BD-4C44-A141-82FF731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943-E650-4FBC-891C-D813333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370-C9DE-421F-9D39-F9FB077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EE4-999C-4256-97D3-F48BA02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87A-766C-46FF-A439-E5D1074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B3F-24E7-4CED-BFD0-471B885ADF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st Handover for Multicast in Proxy Mobile IPv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hui-multimob-fast-handover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specifies the fast handover mechanism to solve the problem of handover latency and packet loss in PMIP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essary extensions are specified for Handover Initiate (HI) and Handover Acknowledgement (HAck) messages to support multicast handover proced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multicast is not well considered in fast handover for PMIPv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fter the bi-directional tunnel is built between n-MAG and LMA using extended PBU (PBU-M) message, the multicast packet can be   continuously delivered to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evitably causes the latency and loss of packet during handover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nce network for fast handov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cast tunnel is established to transfer the multicast data from p-MAG to n-MAG before the n-MAG joins the multicast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at whenever the MN handovers to the n-MAG, it can receive the multicast data from n-MA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429080" y="1714680"/>
            <a:ext cx="4516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st handover for PMIPv6 multic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499760"/>
            <a:ext cx="3757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-MAG sends the HI to the n-MAG.  The HI message includes      MN ID and MN Multicas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sends the HAck back to the p-M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requests the p-MAG to forward multicast packets by      setting F flags in the HI mes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unnel is established between the p-MAG and n-MAG and multicast packets destined for the MN are forwarded from the p-MAG to the n-MAG over this tunn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starts to forward multicast packets destined for the MN after the handov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6160" y="1500120"/>
            <a:ext cx="4543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 Mobility Header message with multicast exte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flag (M) is included in the HI Mobility Header message with   multicast exten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bility options field needs to be extended to include the multicast addre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43000" y="3286080"/>
            <a:ext cx="6969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hcet Sarikaya</cp:lastModifiedBy>
  <dcterms:modified xsi:type="dcterms:W3CDTF">2009-11-06T16:34:29Z</dcterms:modified>
  <cp:revision>12</cp:revision>
  <dc:subject/>
  <dc:title>Fast Handover for Multicast in Proxy Mobile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57522092</vt:lpwstr>
  </property>
</Properties>
</file>