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43B2-6E73-47F0-BA90-0E3C8DE4B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F297-E442-4DC4-979B-79FEFDEE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2248-E43F-4696-A346-799ECC364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C100-507B-4C24-B3AB-6FB50C187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2731-1C43-4BC6-A4BE-A6328FA6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7A78-3362-48FC-91A8-F9178199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F546-9CA2-4750-A522-5842733B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7A05-D997-49D3-837A-823F7914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78B0-7B11-490A-A2BA-D418905F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1363-5C9F-4D0B-AEA7-17184E57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5F9A-901C-4052-87A6-12321D4A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5FBA-82FA-4A7F-86ED-27E3E1F8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35A9-6A20-4587-A99E-8FF4BF02B1A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st Handover for Multicast in Proxy Mobile IPv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raft-hui-multimob-fast-handover-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str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specifies the fast handover mechanism to solve the problem of handover latency and packet loss in PMIP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cessary extensions are specified for Handover Initiate (HI) and Handover Acknowledgement (HAck) messages to support multicast handover proced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 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P multicast is not well considered in fast handover for PMIPv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after the bi-directional tunnel is built between n-MAG and LMA using extended PBU (PBU-M) message, the multicast packet can be   continuously delivered to M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nevitably causes the latency and loss of packet during handover proce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ocol Op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ference network for fast handov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lticast tunnel is established to transfer the multicast data from p-MAG to n-MAG before the n-MAG joins the multicast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 that whenever the MN handovers to the n-MAG, it can receive the multicast data from n-MA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4429080" y="1714680"/>
            <a:ext cx="451656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ast handover for PMIPv6 multica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57120" y="1499760"/>
            <a:ext cx="37576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-MAG sends the HI to the n-MAG.  The HI message includes      MN ID and MN Multicast Sta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n-MAG sends the HAck back to the p-MA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n-MAG requests the p-MAG to forward multicast packets by      setting F flags in the HI messag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tunnel is established between the p-MAG and n-MAG and multicast packets destined for the MN are forwarded from the p-MAG to the n-MAG over this tunn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n-MAG starts to forward multicast packets destined for the MN after the handov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286160" y="1500120"/>
            <a:ext cx="454356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ssag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I Mobility Header message with multicast exten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new flag (M) is included in the HI Mobility Header message with   multicast extens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mobility options field needs to be extended to include the multicast address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143000" y="3286080"/>
            <a:ext cx="69692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68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ehcet Sarikaya</cp:lastModifiedBy>
  <dcterms:modified xsi:type="dcterms:W3CDTF">2009-11-06T16:34:29Z</dcterms:modified>
  <cp:revision>12</cp:revision>
  <dc:subject/>
  <dc:title>Fast Handover for Multicast in Proxy Mobile IPv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57522092</vt:lpwstr>
  </property>
</Properties>
</file>