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C5541-59E9-403B-B8CF-E5609E6C6182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CF749-9279-48B4-96A6-21EBF61A8B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B14C6-8C2A-44AB-845F-C9047E4A01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A0080-3099-4124-9A2B-3BC13754C4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B2E-B86F-40C8-9007-99514DE8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DB6-4220-44B5-A888-F039FA18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B60-F83A-4694-9989-E21476DE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5C2-ABC1-4103-B789-1CE70266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234-AC23-42F8-9D17-DF7BF0D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74E-EC29-4232-9DC3-0E5466F9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B35-3FE1-4BD4-BC80-B44057E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7CD-5B58-4F46-B88B-881CD059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0D4-BB2C-42FB-BDBC-7C6DC8C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329-76BF-4326-B6D5-0A2D83F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1C2-0342-44F5-AE51-7EC0BF9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B5D-8ADE-4465-8AC2-E23CDA4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8104A-8FAE-428D-9840-D0DFF3A2EA8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F038C-E9F8-4FEB-BFDD-A1076A6DAE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 (Keio Universi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ig Venaas (Cisc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430000" y="993600"/>
            <a:ext cx="45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, March 2010, Anaheim, C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09A43-D388-42C7-B304-F838F68145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GMP/MLD protocol tu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igmp-mld-optimization-0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ing forward as a WG document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GMP/MLD protocol ex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MIPv6 protocol extension for mo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asaeda-multimob-pmip6-extension-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53350-0004-4915-B3B3-920C2F6BCF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imize mobile node’s power consumption, and maximize the available wireless re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ve node and wireless link resources by limiting the number of transmitted IGMP/MLD messages while no additional join and leave latency is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ne several IGMP/MLD timer val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 router behavior based on the standard (RFC3376, 3810)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protocol change introduc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35F41-5801-4055-A517-7D08775518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document tit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some functions to an extension dra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membership no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 timer value for unicast general qu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e: Extension draf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potential values tu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33816-BBD5-4FB1-8F42-4C6CF6F17A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ing explicit tracking function on routers attached to M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er general query interval will reduce the number of transmitted IGMP/MLD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 router’s processing capacity and large mem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tracking does not work properly in some case (e.g. non-upgraded hosts attach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tracking does not remove query-response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r general query interval will keep membership information consis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37B2F-97C3-472E-B01E-B547ADCA21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cast general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can be transmitted to any address (RFC3376, 381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hosts addresses (224.0.0.1 and ff02::1) are used as the destination of general query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casting general query would be advantageous in some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analysis the “conditio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- and Group-and-source specific qu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address should be the corresponding multicast address to make only subscribers resp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551D5-9C1C-4848-B3DA-321027D59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25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cause IGMP Queries to be sent less of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Response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0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make the traffic less burs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Startup 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/4 of [Query Interval]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r value such as 1 sec. contributes to slightly smooth handover (e.g. for PMIPv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Robustness Variable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not be bigger than 2, especially when [Query Response Interval] is set smaller than its default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40E02-9FBC-4B30-B5E5-DF047D021C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udy of tuning values and considerations based on simulation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more wireless link specific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 are 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this draft as a 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797F-CE53-4C9B-B629-12E79C7EDA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MP/MLD Protoco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9032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raft-asaeda-multimob-igmp-mld-mobility-extensions-0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fun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icit membership notification (host-side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dically notify membership status with Current state rec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MP/MLD Hold and Release (host- and router-s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pend-and-resume forward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Quick retransmission after hando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duction of unneeded tree re-constr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tim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cast and multicast general query interval (router-side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timers may be dynamically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fication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FB404-F069-4254-8C73-4DB71DFED5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MIPv6 Protocol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raft-asaeda-multimob-pmip6-extension-0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rted fun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ro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 with either PIM-SM or MLD proxy, or dual-mode (i.e. both PIM-SM and MLD prox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 transfer during hand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function (for traffic aggreg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Tunnel: multicast dedicated bi-directional tunnel between LMA and M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messages (for handov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BU-M: PBU with multicast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CTD: Multicast context transfer data for CX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フッター プレースホルダ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7th IETF,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0D650-7787-41FE-81BF-F267047118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6:32:59Z</dcterms:created>
  <dc:creator>朝枝 仁</dc:creator>
  <dc:description/>
  <dc:language>en-US</dc:language>
  <cp:lastModifiedBy>Behcet Sarikaya</cp:lastModifiedBy>
  <dcterms:modified xsi:type="dcterms:W3CDTF">2010-03-25T15:56:01Z</dcterms:modified>
  <cp:revision>33</cp:revision>
  <dc:subject/>
  <dc:title>Tuning the Behavior of IGMP and MLD for Mobile Hosts and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9532432</vt:lpwstr>
  </property>
</Properties>
</file>