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C51CF-2944-4DBA-882B-4E86EF2E36F4}" type="datetime">
              <a:rPr b="0" lang="ja-JP" sz="1200" spc="-1" strike="noStrike">
                <a:solidFill>
                  <a:srgbClr val="000000"/>
                </a:solidFill>
                <a:latin typeface="Arial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9E37D-5200-4987-B7B6-2AD6F786B0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CFB2B-ECE7-4E94-91FE-FB2FE178A3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BA5E6-66FC-46FF-8286-F92D8023ED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C79-E37C-48F0-A557-D60A7770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DE0-5FE5-4220-A715-379597DB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BAC-1CBE-4763-B156-C5E87965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9F2-9AD7-4EF1-9430-BA9C6632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24D-4B7A-488A-8C1F-61603800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33D-FA32-496B-9357-F0577968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F27-FE88-4654-BD19-03A6ED8B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73A-6C46-4F6E-9262-71C70DAA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18C-9F1D-4338-8E27-840F47CE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A06-F27C-44BE-A298-06B5FC94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6A8-CFC1-4798-920C-216AB1BA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A06-1C03-41C8-B453-CD1866C6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1D54B-DE45-43B4-AA40-447BEFC3A6E4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841AE-4C6D-4885-917A-6188DD6B4B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ning the Behavior of IGMP and MLD for Mobile Hosts and Rou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1000" y="4218120"/>
            <a:ext cx="820260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aft‐asaeda‐multimob‐igmp‐mld‐optimization‐0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toshi Asaeda (Keio Universit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ig Venaas (Cisc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2430000" y="993600"/>
            <a:ext cx="45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TF, March 2010, Anaheim, CA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BB56F-C872-4D2B-A590-BC3A8F4F21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GMP/MLD protocol tu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raft-asaeda-multimob-igmp-mld-optimization-0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ving forward as a WG document 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GMP/MLD protocol exten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raft-asaeda-multimob-igmp-mld-mobility-extensions-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MIPv6 protocol extension for mo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raft-asaeda-multimob-pmip6-extension-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233B0-BFE3-4755-B69B-71DE3FD924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nimize mobile node’s power consumption, and maximize the available wireless resour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ve node and wireless link resources by limiting the number of transmitted IGMP/MLD messages while no additional join and leave latency is introduc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une several IGMP/MLD timer valu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igure router behavior based on the standard (RFC3376, 3810)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protocol change introduc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B66CD-6752-44DD-8C03-1F12A00180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from -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the document tit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uning the Behavior of IGMP and MLD for Mobile Hosts and Router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ve some functions to an extension dra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icit membership notif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fic timer value for unicast general que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e: Extension draf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raft-asaeda-multimob-igmp-mld-mobility-extensions-0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ribe potential values tun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ery interval, Query response interval, Startup query interv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obustness vari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8AB69-6818-4791-96BB-E6D9EECFA7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king of Membership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abling explicit tracking function on routers attached to M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nger general query interval will reduce the number of transmitted IGMP/MLD mess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quire router’s processing capacity and large mem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icit tracking does not work properly in some case (e.g. non-upgraded hosts attache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icit tracking does not remove query-response commun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er general query interval will keep membership information consis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A608E-D7A1-4141-8B72-B6B33C6493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ry Proc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icast general que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ery can be transmitted to any address (RFC3376, 381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hosts addresses (224.0.0.1 and ff02::1) are used as the destination of general query in gen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icasting general query would be advantageous in some condi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ed to analysis the “condition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- and Group-and-source specific que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tination address should be the corresponding multicast address to make only subscribers resp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E6BDA-8B53-43A6-BF95-FD60360310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rs, Counters, Default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Query Interval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ault: 125 se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r values cause IGMP Queries to be sent less of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Query Response Interval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ault: 10 se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r values make the traffic less burs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Startup Query Interval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ault: 1/4 of [Query Interval]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er value such as 1 sec. contributes to slightly smooth handover (e.g. for PMIPv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Robustness Variable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ault: 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uld not be bigger than 2, especially when [Query Response Interval] is set smaller than its default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B0D77-CFFA-45A6-A1D1-D17697E122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study of tuning values and considerations based on simulation res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more wireless link specific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s are 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opt this draft as a WG docume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1CF57-3582-453A-BF21-2D0104D9ED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MP/MLD Protocol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90320"/>
            <a:ext cx="82296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draft-asaeda-multimob-igmp-mld-mobility-extensions-0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w func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icit membership notification (host-side on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iodically notify membership status with Current state reco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MP/MLD Hold and Release (host- and router-si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pend-and-resume forward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Quick retransmission after handov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duction of unneeded tree re-constru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w tim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cast and multicast general query interval (router-side on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timers may be dynamically chan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ification inter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ld inter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09364-E1D3-42DB-9AA5-14FC9CA9E3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MIPv6 Protocol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draft-asaeda-multimob-pmip6-extension-0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rted func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rou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 with either PIM-SM or MLD proxy, or dual-mode (i.e. both PIM-SM and MLD prox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xt transfer during hand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w function (for traffic aggrega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-Tunnel: multicast dedicated bi-directional tunnel between LMA and M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w messages (for handov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BU-M: PBU with multicast ext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-CTD: Multicast context transfer data for CX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424ED-E16B-4839-BF6B-BB7455FE1C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6:32:59Z</dcterms:created>
  <dc:creator>朝枝 仁</dc:creator>
  <dc:description/>
  <dc:language>en-US</dc:language>
  <cp:lastModifiedBy>Behcet Sarikaya</cp:lastModifiedBy>
  <dcterms:modified xsi:type="dcterms:W3CDTF">2010-03-25T15:56:01Z</dcterms:modified>
  <cp:revision>33</cp:revision>
  <dc:subject/>
  <dc:title>Tuning the Behavior of IGMP and MLD for Mobile Hosts and Rou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9532432</vt:lpwstr>
  </property>
</Properties>
</file>