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7944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66500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66500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7944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97944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97944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87280" y="25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944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3a88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1" marL="952560" indent="-2793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2" marL="1473120" indent="-22860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3" marL="1892160" indent="-22860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4" marL="2311560" indent="-22860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5" marL="231156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6" marL="231156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1197000"/>
            <a:ext cx="8991720" cy="30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Base Deployment for Multicast Listener Support in PMIPv6 Domains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</a:rPr>
              <a:t>draft-ietf-multimob-pmipv6-base-solution-00</a:t>
            </a:r>
            <a:endParaRPr b="1" lang="en-US" sz="28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04920" y="425772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0092"/>
                </a:solidFill>
                <a:latin typeface="Tahoma"/>
              </a:rPr>
              <a:t>Thomas C. Schmidt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0092"/>
                </a:solidFill>
                <a:latin typeface="Tahoma"/>
              </a:rPr>
              <a:t>t.schmidt@ieee.org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0092"/>
                </a:solidFill>
                <a:latin typeface="Tahoma"/>
              </a:rPr>
              <a:t>HAW Hamburg </a:t>
            </a:r>
            <a:br>
              <a:rPr sz="1800"/>
            </a:b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State of Proxy Implementations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All functions are around – but we did not see them combined in one implementation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Currently, we picked up Linux ecmh and started to extend 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llaborators Welcome!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3a88"/>
                </a:solidFill>
                <a:latin typeface="Tahoma"/>
              </a:rPr>
              <a:t>Summary &amp; Outcome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lnSpc>
                <a:spcPct val="11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raffic flows/aggregation may be optimal, but need not be (see presentation on optimization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88720" indent="-288720">
              <a:lnSpc>
                <a:spcPct val="11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raft will be revised soon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12080" indent="-245160">
              <a:lnSpc>
                <a:spcPct val="110000"/>
              </a:lnSpc>
              <a:spcBef>
                <a:spcPts val="499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Response to earlier reviews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12080" indent="-245160">
              <a:lnSpc>
                <a:spcPct val="110000"/>
              </a:lnSpc>
              <a:spcBef>
                <a:spcPts val="499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PMIPv6 Multihoming considerations to be added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12080" indent="-245160">
              <a:lnSpc>
                <a:spcPct val="110000"/>
              </a:lnSpc>
              <a:spcBef>
                <a:spcPts val="499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Security section to be revised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88720" indent="-288720">
              <a:lnSpc>
                <a:spcPct val="11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Questions: 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12080" indent="-245160">
              <a:lnSpc>
                <a:spcPct val="110000"/>
              </a:lnSpc>
              <a:spcBef>
                <a:spcPts val="499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Are there other open issues / aspects to add ?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8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Proposal to WG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8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Finish core work with upcoming revision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8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58920" y="1665000"/>
            <a:ext cx="539892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0092"/>
                </a:solidFill>
                <a:latin typeface="Tahoma"/>
              </a:rPr>
              <a:t>Questions? </a:t>
            </a:r>
            <a:endParaRPr b="0" lang="en-US" sz="40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e3a88"/>
                </a:solidFill>
                <a:latin typeface="Tahoma"/>
              </a:rPr>
              <a:t>Status of the Draft </a:t>
            </a:r>
            <a:endParaRPr b="1" lang="en-US" sz="32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2920" y="1592280"/>
            <a:ext cx="838980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Previous version: </a:t>
            </a:r>
            <a:br>
              <a:rPr sz="2800"/>
            </a:b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raft-schmidt-multimob-pmipv6-mcast-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eployment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1" marL="714240" indent="-24264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Presented in Hiroshima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14240" indent="-24264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Has undergone extensive reviews and discussion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14240" indent="-24264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WG adoption: Feb. ‘10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Defines a basic deployment for multicast support </a:t>
            </a: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in PMIPv6 domains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The PMIP Picture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468440"/>
            <a:ext cx="8101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+                +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LMA1|                |LMA2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+                +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MAA1 -&gt; |                      | &lt;-- LMA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                 //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               //  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             //    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\\------------- //------\\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     \\  IPv4/IPv6 //        \\   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      \\  Network //          \\  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--\\--------//------------\\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   //              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 //                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//                  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xy-CoA1--&gt; |                      | &lt;-- Proxy-Co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+                 +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MAG1|-----{MN2}       |MAG2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+    |            +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|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N-HNP1 --&gt;  |     MN-HNP2           | &lt;-- MN-HNP3, MN-HN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MN1}                   {MN3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2205000"/>
            <a:ext cx="0" cy="612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50920" y="2781360"/>
            <a:ext cx="1298520" cy="244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5229360"/>
            <a:ext cx="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468440"/>
            <a:ext cx="81010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Multicast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Source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    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+         +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LMA1|         |LMA2|                 Multicast Anch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+         +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MAA1  |              |  LMA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        //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      //  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    //    \\                 Unicast Tu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  //      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  //        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\\ //          \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xy-CoA1 ||            ||  Proxy-Co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+          +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MAG1|          |MAG2|           MLD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+          +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|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N-HNP1 |  | MN-HNP2     | MN-HN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N1 MN2          MN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Multicast  Deployment on PMIP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105000"/>
            <a:ext cx="0" cy="757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851280" y="3860640"/>
            <a:ext cx="720720" cy="1440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229360"/>
            <a:ext cx="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21080" y="2492280"/>
            <a:ext cx="250920" cy="57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5157720"/>
            <a:ext cx="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573360"/>
            <a:ext cx="792000" cy="1656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59280" y="1484280"/>
            <a:ext cx="5905440" cy="4969080"/>
            <a:chOff x="3059280" y="1484280"/>
            <a:chExt cx="5905440" cy="4969080"/>
          </a:xfrm>
        </p:grpSpPr>
        <p:sp>
          <p:nvSpPr>
            <p:cNvPr id="56" name=""/>
            <p:cNvSpPr/>
            <p:nvPr/>
          </p:nvSpPr>
          <p:spPr>
            <a:xfrm>
              <a:off x="4140360" y="2637000"/>
              <a:ext cx="1368360" cy="86328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5292720" y="1484280"/>
              <a:ext cx="2519280" cy="1152720"/>
              <a:chOff x="5292720" y="1484280"/>
              <a:chExt cx="2519280" cy="1152720"/>
            </a:xfrm>
          </p:grpSpPr>
          <p:sp>
            <p:nvSpPr>
              <p:cNvPr id="58" name=""/>
              <p:cNvSpPr/>
              <p:nvPr/>
            </p:nvSpPr>
            <p:spPr>
              <a:xfrm>
                <a:off x="5292720" y="1484280"/>
                <a:ext cx="2519280" cy="1152720"/>
              </a:xfrm>
              <a:prstGeom prst="wedgeRoundRectCallout">
                <a:avLst>
                  <a:gd name="adj1" fmla="val -43518"/>
                  <a:gd name="adj2" fmla="val 70000"/>
                  <a:gd name="adj3" fmla="val 16667"/>
                </a:avLst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561640" y="1576440"/>
                <a:ext cx="2186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ut Standard Mca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Querier onto LMA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R or MLD Prox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4643280" y="5229360"/>
              <a:ext cx="1368720" cy="86364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59280" y="5157720"/>
              <a:ext cx="1368360" cy="86364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445080" y="5300640"/>
              <a:ext cx="2519640" cy="1152720"/>
              <a:chOff x="6445080" y="5300640"/>
              <a:chExt cx="2519640" cy="1152720"/>
            </a:xfrm>
          </p:grpSpPr>
          <p:sp>
            <p:nvSpPr>
              <p:cNvPr id="63" name=""/>
              <p:cNvSpPr/>
              <p:nvPr/>
            </p:nvSpPr>
            <p:spPr>
              <a:xfrm>
                <a:off x="6445080" y="5300640"/>
                <a:ext cx="2519640" cy="1152720"/>
              </a:xfrm>
              <a:prstGeom prst="wedgeRoundRectCallout">
                <a:avLst>
                  <a:gd name="adj1" fmla="val -68967"/>
                  <a:gd name="adj2" fmla="val -33745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570720" y="5392800"/>
                <a:ext cx="232344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ut Standard M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roxy onto MAG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1 Instance per Upli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e3a88"/>
                </a:solidFill>
                <a:latin typeface="Tahoma"/>
              </a:rPr>
              <a:t>Combined Signaling: MCast on PMIP </a:t>
            </a:r>
            <a:endParaRPr b="1" lang="en-US" sz="32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468440"/>
            <a:ext cx="81010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N1             MAG1             MN2             MAG2             L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Join(G)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-----------&gt;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Join(G)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&lt;---------------+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Aggregated Join(G)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+================================================&gt;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Mcast Data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&lt;================================================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Mcast Data    | Mcast Data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&lt;---------------+---------------&gt;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&lt; Movement to MAG2 &amp; PMIP Binding Update &gt;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e3a88"/>
                </a:solidFill>
                <a:latin typeface="Tahoma"/>
              </a:rPr>
              <a:t>Combined Signaling: MCast on PMIP (2) </a:t>
            </a:r>
            <a:endParaRPr b="1" lang="en-US" sz="32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468440"/>
            <a:ext cx="8101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N1             MAG1             MN2             MAG2             L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&lt; Movement to MAG2 &amp; PMIP Binding Update &gt;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--- Rtr Sol --&gt;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MLD Query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&lt;--------------+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Join(G)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+--------------&gt;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Aggregated Join(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+===============&gt;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Mcast Data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&lt;================================================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Mcast Data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&lt;===============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Mcast Data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&lt;---------------+                |  Mcast Data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&lt;--------------+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|                |               |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Operations at Node Arrival 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AG-MN link comes up and MAG discovers MN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Unicast address configuration &amp; PMIP binding </a:t>
            </a:r>
            <a:br>
              <a:rPr sz="2400"/>
            </a:br>
            <a:r>
              <a:rPr b="0" lang="en-US" sz="2400" spc="-1" strike="noStrike">
                <a:solidFill>
                  <a:srgbClr val="49009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 MAG can identify corresponding LMA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AG SHOULD send MLD General Query to new downstream link (standard querier behaviour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AG SHOULD check MN’s multicast admissibility</a:t>
            </a:r>
            <a:br>
              <a:rPr sz="2400"/>
            </a:b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(a repeated answer may already configure the proxy interface state later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e3a88"/>
                </a:solidFill>
                <a:latin typeface="Tahoma"/>
              </a:rPr>
              <a:t>Operations at Node Arrival (cont‘d)</a:t>
            </a:r>
            <a:endParaRPr b="1" lang="en-US" sz="32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490092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AG adds new downstream link to MLD proxy instance uplinked to corresponding LMA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490092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xy instance triggers an MLD General Query on its new downstream link (to be safe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490092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LD Membership Report arrives at proxy (either answer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490092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xy instance updates states and reports upstream if needed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Capabilities needed at Proxy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Automatic initial querying 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imultaneous support of MLD + IGMP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Configurable list of downstream interfaces that may be altered during runtime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Multiple instantiation with isolated forwarding on separated interfaces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05:15Z</dcterms:created>
  <dc:creator>Thomas C Schmidt</dc:creator>
  <dc:description/>
  <dc:language>en-US</dc:language>
  <cp:lastModifiedBy>Behcet Sarikaya</cp:lastModifiedBy>
  <dcterms:modified xsi:type="dcterms:W3CDTF">2010-03-25T06:10:45Z</dcterms:modified>
  <cp:revision>9</cp:revision>
  <dc:subject/>
  <dc:title>A Minimal Deployment Option for  Multicast Listeners in PMIPv6 Domains draft-schmidt-multimob-pmipv6-mcast-deployment-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497284</vt:lpwstr>
  </property>
</Properties>
</file>