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e3a88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65000"/>
            <a:ext cx="777240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3979440"/>
            <a:ext cx="777240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e3a8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65000"/>
            <a:ext cx="379260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665000"/>
            <a:ext cx="379260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79440"/>
            <a:ext cx="379260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3979440"/>
            <a:ext cx="379260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e3a88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65000"/>
            <a:ext cx="250236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665000"/>
            <a:ext cx="250236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665000"/>
            <a:ext cx="250236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3979440"/>
            <a:ext cx="250236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3979440"/>
            <a:ext cx="250236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3979440"/>
            <a:ext cx="250236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e3a8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665000"/>
            <a:ext cx="7772400" cy="44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e3a88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665000"/>
            <a:ext cx="7772400" cy="443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e3a88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665000"/>
            <a:ext cx="3792600" cy="443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665000"/>
            <a:ext cx="3792600" cy="443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e3a88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87280" y="259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e3a88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665000"/>
            <a:ext cx="379260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665000"/>
            <a:ext cx="3792600" cy="443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3979440"/>
            <a:ext cx="379260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e3a88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65000"/>
            <a:ext cx="3792600" cy="443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65000"/>
            <a:ext cx="379260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3979440"/>
            <a:ext cx="379260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e3a88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65000"/>
            <a:ext cx="379260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65000"/>
            <a:ext cx="379260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9440"/>
            <a:ext cx="777240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e3a88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ce3a8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65000"/>
            <a:ext cx="7772400" cy="443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490092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0092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  <a:p>
            <a:pPr lvl="1" marL="952560" indent="-279360">
              <a:lnSpc>
                <a:spcPct val="120000"/>
              </a:lnSpc>
              <a:spcBef>
                <a:spcPts val="700"/>
              </a:spcBef>
              <a:buClr>
                <a:srgbClr val="490092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009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  <a:p>
            <a:pPr lvl="2" marL="1473120" indent="-228600">
              <a:lnSpc>
                <a:spcPct val="120000"/>
              </a:lnSpc>
              <a:spcBef>
                <a:spcPts val="700"/>
              </a:spcBef>
              <a:buClr>
                <a:srgbClr val="490092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0092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  <a:p>
            <a:pPr lvl="3" marL="1892160" indent="-228600">
              <a:lnSpc>
                <a:spcPct val="120000"/>
              </a:lnSpc>
              <a:spcBef>
                <a:spcPts val="700"/>
              </a:spcBef>
              <a:buClr>
                <a:srgbClr val="490092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0092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  <a:p>
            <a:pPr lvl="4" marL="2311560" indent="-228600">
              <a:lnSpc>
                <a:spcPct val="120000"/>
              </a:lnSpc>
              <a:spcBef>
                <a:spcPts val="700"/>
              </a:spcBef>
              <a:buClr>
                <a:srgbClr val="490092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0092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  <a:p>
            <a:pPr lvl="5" marL="231156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0092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  <a:p>
            <a:pPr lvl="6" marL="231156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0092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1197000"/>
            <a:ext cx="8991720" cy="302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3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ahoma"/>
              </a:rPr>
              <a:t>Multicast Listener Extensions for MIPv6 and PMIPv6 Fast Handovers</a:t>
            </a:r>
            <a:br>
              <a:rPr sz="1800"/>
            </a:br>
            <a:br>
              <a:rPr sz="1800"/>
            </a:br>
            <a:r>
              <a:rPr b="0" lang="de-DE" sz="2800" spc="-1" strike="noStrike">
                <a:solidFill>
                  <a:srgbClr val="000000"/>
                </a:solidFill>
                <a:latin typeface="Arial Unicode MS"/>
              </a:rPr>
              <a:t>draft-schmidt-multimob-fmipv6-pfmipv6-multicast-01</a:t>
            </a:r>
            <a:endParaRPr b="1" lang="en-US" sz="2800" spc="-1" strike="noStrike">
              <a:solidFill>
                <a:srgbClr val="ce3a88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304920" y="4257720"/>
            <a:ext cx="853416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0092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90092"/>
                </a:solidFill>
                <a:latin typeface="Tahoma"/>
              </a:rPr>
              <a:t>Thomas C. Schmidt</a:t>
            </a:r>
            <a:endParaRPr b="0" lang="en-US" sz="1800" spc="-1" strike="noStrike">
              <a:solidFill>
                <a:srgbClr val="490092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90092"/>
                </a:solidFill>
                <a:latin typeface="Tahoma"/>
              </a:rPr>
              <a:t>t.schmidt@ieee.org</a:t>
            </a:r>
            <a:endParaRPr b="0" lang="en-US" sz="1800" spc="-1" strike="noStrike">
              <a:solidFill>
                <a:srgbClr val="490092"/>
              </a:solidFill>
              <a:latin typeface="Tahoma"/>
            </a:endParaRPr>
          </a:p>
          <a:p>
            <a:pPr marL="3430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90092"/>
                </a:solidFill>
                <a:latin typeface="Tahoma"/>
              </a:rPr>
              <a:t>HAW Hamburg </a:t>
            </a:r>
            <a:br>
              <a:rPr sz="1800"/>
            </a:br>
            <a:endParaRPr b="0" lang="en-US" sz="1800" spc="-1" strike="noStrike">
              <a:solidFill>
                <a:srgbClr val="490092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ce3a88"/>
                </a:solidFill>
                <a:latin typeface="Tahoma"/>
              </a:rPr>
              <a:t>Status of the Draft</a:t>
            </a:r>
            <a:endParaRPr b="1" lang="en-US" sz="3600" spc="-1" strike="noStrike">
              <a:solidFill>
                <a:srgbClr val="ce3a88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440" y="1665000"/>
            <a:ext cx="8134200" cy="443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80080" indent="-280080">
              <a:lnSpc>
                <a:spcPct val="120000"/>
              </a:lnSpc>
              <a:spcBef>
                <a:spcPts val="700"/>
              </a:spcBef>
              <a:buClr>
                <a:srgbClr val="490092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0092"/>
                </a:solidFill>
                <a:latin typeface="Tahoma"/>
              </a:rPr>
              <a:t>Initial presentation</a:t>
            </a: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  <a:p>
            <a:pPr marL="280080" indent="-280080">
              <a:lnSpc>
                <a:spcPct val="120000"/>
              </a:lnSpc>
              <a:spcBef>
                <a:spcPts val="700"/>
              </a:spcBef>
              <a:buClr>
                <a:srgbClr val="490092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0092"/>
                </a:solidFill>
                <a:latin typeface="Tahoma"/>
              </a:rPr>
              <a:t>Extends FMIPv6 / PFMIPv6 with joint multicast context transfer messaging</a:t>
            </a: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  <a:p>
            <a:pPr marL="280080" indent="-280080">
              <a:lnSpc>
                <a:spcPct val="120000"/>
              </a:lnSpc>
              <a:spcBef>
                <a:spcPts val="700"/>
              </a:spcBef>
              <a:buClr>
                <a:srgbClr val="490092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0092"/>
                </a:solidFill>
                <a:latin typeface="Tahoma"/>
              </a:rPr>
              <a:t>Previous works:</a:t>
            </a: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  <a:p>
            <a:pPr lvl="1" marL="914400" indent="-267840">
              <a:lnSpc>
                <a:spcPct val="120000"/>
              </a:lnSpc>
              <a:spcBef>
                <a:spcPts val="601"/>
              </a:spcBef>
              <a:buClr>
                <a:srgbClr val="490092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draft-suh-mipshop-fmcast-mip6-00 (FMIP, 2004)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lvl="1" marL="914400" indent="-267840">
              <a:lnSpc>
                <a:spcPct val="120000"/>
              </a:lnSpc>
              <a:spcBef>
                <a:spcPts val="601"/>
              </a:spcBef>
              <a:buClr>
                <a:srgbClr val="490092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90092"/>
                </a:solidFill>
                <a:latin typeface="Tahoma"/>
              </a:rPr>
              <a:t>draft-xia-mipshop-fmip-multicast-01 (FMIP, 2007)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lvl="1" marL="914400" indent="-267840">
              <a:lnSpc>
                <a:spcPct val="120000"/>
              </a:lnSpc>
              <a:spcBef>
                <a:spcPts val="601"/>
              </a:spcBef>
              <a:buClr>
                <a:srgbClr val="490092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draft-hui-multimob-fast-handover-00 (PFMIP, 2009)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lvl="1" marL="9144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lvl="1" marL="9144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ce3a88"/>
                </a:solidFill>
                <a:latin typeface="Tahoma"/>
              </a:rPr>
              <a:t>Main Contributions</a:t>
            </a:r>
            <a:endParaRPr b="1" lang="en-US" sz="3600" spc="-1" strike="noStrike">
              <a:solidFill>
                <a:srgbClr val="ce3a88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665000"/>
            <a:ext cx="7772400" cy="443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120000"/>
              </a:lnSpc>
              <a:spcBef>
                <a:spcPts val="601"/>
              </a:spcBef>
              <a:buClr>
                <a:srgbClr val="490092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Defines a coherent multicast membership transfer based on MLD/IGMP state records (easy handling)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marL="291960" indent="-291960">
              <a:lnSpc>
                <a:spcPct val="120000"/>
              </a:lnSpc>
              <a:spcBef>
                <a:spcPts val="601"/>
              </a:spcBef>
              <a:buClr>
                <a:srgbClr val="490092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Defines a common Multicast Mobility Header Option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marL="291960" indent="-291960">
              <a:lnSpc>
                <a:spcPct val="120000"/>
              </a:lnSpc>
              <a:spcBef>
                <a:spcPts val="601"/>
              </a:spcBef>
              <a:buClr>
                <a:srgbClr val="490092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Defines per group feedback in Multicast Acknowledgement Option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marL="291960" indent="-291960">
              <a:lnSpc>
                <a:spcPct val="120000"/>
              </a:lnSpc>
              <a:spcBef>
                <a:spcPts val="601"/>
              </a:spcBef>
              <a:buClr>
                <a:srgbClr val="490092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Accounts for MLD/IGMP interoperability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marL="291960" indent="-291960">
              <a:lnSpc>
                <a:spcPct val="120000"/>
              </a:lnSpc>
              <a:spcBef>
                <a:spcPts val="601"/>
              </a:spcBef>
              <a:buClr>
                <a:srgbClr val="490092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Seamlessly plugs into FMIPv6 and PFMIPv6 protocol semantics and behavior 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72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ce3a88"/>
                </a:solidFill>
                <a:latin typeface="Tahoma"/>
              </a:rPr>
              <a:t>FMIPv6 Predictive Handover</a:t>
            </a:r>
            <a:endParaRPr b="1" lang="en-US" sz="3600" spc="-1" strike="noStrike">
              <a:solidFill>
                <a:srgbClr val="ce3a88"/>
              </a:solidFill>
              <a:latin typeface="Tahoma"/>
            </a:endParaRPr>
          </a:p>
        </p:txBody>
      </p:sp>
      <p:sp>
        <p:nvSpPr>
          <p:cNvPr id="45" name=""/>
          <p:cNvSpPr/>
          <p:nvPr/>
        </p:nvSpPr>
        <p:spPr>
          <a:xfrm>
            <a:off x="684360" y="809640"/>
            <a:ext cx="810072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MN                    PAR                    N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                     |        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------RtSolPr-------&gt;|        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&lt;-----PrRtAdv--------|        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                     |        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                     |        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---------FBU--------&gt;|----------HI---------&gt;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 (Multicast MobOpt)  | (Multicast MobOpt)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                     |        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                     |&lt;--------HAck---------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                     | (Multicast AckOpt)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                     |                   Join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                     |                  Multic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                     |                   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                     |        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       &lt;-----FBack---|--FBack------&gt;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  (Multicast AckOpt) | (Multicast AckOpt)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                     |        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disconnect             forward    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                   packets  ===============&gt;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                     |        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                     |        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connect                  |        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                     |        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------------UNA ---------------------------&gt;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&lt;=================================== deliver pack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                              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72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ce3a88"/>
                </a:solidFill>
                <a:latin typeface="Tahoma"/>
              </a:rPr>
              <a:t>FMIPv6 Reactive Handover</a:t>
            </a:r>
            <a:endParaRPr b="1" lang="en-US" sz="3600" spc="-1" strike="noStrike">
              <a:solidFill>
                <a:srgbClr val="ce3a88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684360" y="692280"/>
            <a:ext cx="8100720" cy="62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MN                    PAR                    N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                     |        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------RtSolPr-------&gt;|        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&lt;-----PrRtAdv--------|        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                     |        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disconnect               |        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                     |        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                     |        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connect                  |        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-------UNA-----------|---------------------&gt;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-------FBU-----------|---------------------)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 (Multicast MobOpt)  |&lt;-------FBU----------)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                     |        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Join to                  |        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Multicast                 |        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Groups                   |        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                     |----------HI---------&gt;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                     |  (Multicast MobOpt)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                     |&lt;-------HAck----------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                     |  (Multicast AckOpt)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                     |        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                     |(HI/HAck if necessary)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                     |        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                   forward    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              packets(including FBack)=====&gt;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                     |        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&lt;=================================== deliver pack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                              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624360" y="-459000"/>
            <a:ext cx="255564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ce3a88"/>
                </a:solidFill>
                <a:latin typeface="Tahoma"/>
              </a:rPr>
              <a:t>PFMIPv6 Predictive Handover</a:t>
            </a:r>
            <a:endParaRPr b="1" lang="en-US" sz="3600" spc="-1" strike="noStrike">
              <a:solidFill>
                <a:srgbClr val="ce3a88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108000" y="-27000"/>
            <a:ext cx="8101080" cy="72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PMAG          NM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MN           P-AN       N-AN        (PAR)         (N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|             |          |            |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|    Report   |          |            |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|---(MN ID,--&gt;|          |            |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|  New AP ID) |          |            |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|             |    HO Indication      |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|             |--(MN ID, New AP ID)--&gt;|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|             |          |            |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|             |          |         Optional: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|             |          |         MLD Query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|             |          |            |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|             |          |            |------HI----&gt;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|             |          |            |(Multicast MobOp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|             |          |            |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|             |          |            |&lt;---HAck-----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|             |          |            |(Multicast AckOp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|             |          |            |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|             |          |            |          Join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|             |          |            |         Multic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|             |          |            |         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|             |          |            |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|             |          |            |HI/HAck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|             |          |            |&lt;- - - - - -&gt;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|             |          |            |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|             |          |          forward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|             |          |          packets =======&gt;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disconnect        |          |            |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|             |          |            |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connect          |          |            |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|    MN-AN connection    |    AN-MAG connection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|&lt;----establishment-----&gt;|&lt;----establishment-------&gt;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|             |          |  (substitute for UNA)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|             |          |            |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|&lt;========================================== deliver pa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|             |          |            |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624360" y="-459000"/>
            <a:ext cx="255564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ce3a88"/>
                </a:solidFill>
                <a:latin typeface="Tahoma"/>
              </a:rPr>
              <a:t>PFMIPv6 Reactive Handover</a:t>
            </a:r>
            <a:endParaRPr b="1" lang="en-US" sz="3600" spc="-1" strike="noStrike">
              <a:solidFill>
                <a:srgbClr val="ce3a88"/>
              </a:solidFill>
              <a:latin typeface="Tahoma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360360"/>
            <a:ext cx="810108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PMAG          NM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MN         P-AN       N-AN        (PAR)         (N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|           |          |            |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disconnect      |          |            |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|           |          |            |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connect        |          |            |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|           |          |            |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|   MN-AN connection   |    AN-MAG connection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|&lt;---establishment----&gt;|&lt;----establishment-------&gt;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|           |          |(substitute for UNA &amp; FBU)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|           |          |            |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|           |          |            |         MLD Qu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|           |          |            |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|           |          |            |          Join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|           |          |            |         Multic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|           |          |            |         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|           |          |          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|           |          |            |&lt;------HI----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|           |          |            |(Multicast MobOp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|           |          |            |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|           |          |            |---HAck-----&gt;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|           |          |            |(Multicast AckOp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|           |          |            |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|           |          |            |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|           |          |            |HI/HAck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|           |          |            |&lt;- - - - - -&gt;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|           |          |            |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|           |          |          forward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|           |          |          packets =======&gt;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|           |          |            |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|&lt;======================================== deliver pa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|           |          |            |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e3a88"/>
                </a:solidFill>
                <a:latin typeface="Tahoma"/>
              </a:rPr>
              <a:t>Summary &amp; Outcome</a:t>
            </a:r>
            <a:endParaRPr b="1" lang="en-US" sz="3600" spc="-1" strike="noStrike">
              <a:solidFill>
                <a:srgbClr val="ce3a88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65000"/>
            <a:ext cx="7772400" cy="443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490092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0092"/>
                </a:solidFill>
                <a:latin typeface="Tahoma"/>
              </a:rPr>
              <a:t>Core protocols defined</a:t>
            </a: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490092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0092"/>
                </a:solidFill>
                <a:latin typeface="Tahoma"/>
              </a:rPr>
              <a:t>Operational details to follow</a:t>
            </a: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490092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0092"/>
                </a:solidFill>
                <a:latin typeface="Tahoma"/>
              </a:rPr>
              <a:t>Initial reviews arrived:</a:t>
            </a: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  <a:p>
            <a:pPr lvl="1" marL="719280" indent="-247680">
              <a:lnSpc>
                <a:spcPct val="120000"/>
              </a:lnSpc>
              <a:spcBef>
                <a:spcPts val="601"/>
              </a:spcBef>
              <a:buClr>
                <a:srgbClr val="490092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Please have a look &amp; help to improve the document!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Proposal to WG:</a:t>
            </a: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0092"/>
                </a:solidFill>
                <a:latin typeface="Tahoma"/>
              </a:rPr>
              <a:t>Anticipate this topic as future charter item</a:t>
            </a: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058920" y="1665000"/>
            <a:ext cx="5398920" cy="443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  <a:p>
            <a:pPr marL="29196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90092"/>
                </a:solidFill>
                <a:latin typeface="Tahoma"/>
              </a:rPr>
              <a:t>Questions? </a:t>
            </a:r>
            <a:endParaRPr b="0" lang="en-US" sz="4000" spc="-1" strike="noStrike">
              <a:solidFill>
                <a:srgbClr val="490092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10:05:15Z</dcterms:created>
  <dc:creator>Thomas C Schmidt</dc:creator>
  <dc:description/>
  <dc:language>en-US</dc:language>
  <cp:lastModifiedBy>Behcet Sarikaya</cp:lastModifiedBy>
  <dcterms:modified xsi:type="dcterms:W3CDTF">2010-03-25T06:11:46Z</dcterms:modified>
  <cp:revision>11</cp:revision>
  <dc:subject/>
  <dc:title>draft-schmidt-multimob-fmipv6-pfmipv6-multicast-0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269497284</vt:lpwstr>
  </property>
</Properties>
</file>