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1C1-FF0B-454B-B7F9-34CFEB2F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EED-CAED-4EE2-B7A6-48344F6E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32C0-4BAD-4739-9A14-18A37B5D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93C-D725-4C92-8973-B9A47873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FBE-487D-4AA7-9ADD-FCA2135E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99F-2798-49C8-BCE4-B4EDAA74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88E-E5FA-454A-9D9F-AFF420DA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AB6-C695-426E-B79B-BC550083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434-D208-4279-8B72-DEB5C312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56E-DEC0-4E78-9D25-BFC0BCB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CB3-22F1-417F-A942-A4734B5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41F-A664-4DD9-9830-534A6EF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C5BA-B88F-4DBB-9DB0-66FFD70E33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olutionizing the I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ald Alvestr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ver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s of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ur Ugly Things</a:t>
            </a:r>
            <a:br>
              <a:rPr sz="4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ot written about the IET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Putting men to death without having taught them Right – that is called sava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Expecting the completion of tasks without giving due warning – that is called op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o be dilatory about giving orders, but to expect absolute punctuality – that is called being a tormen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nd similarly, though meaning to let a man have something, to be grudging about bringing it out – that is called behaving like a petty function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Confucius, 500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go from here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blem do we want to sol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relevant, high quality standards for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want to solv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problems that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ways that work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supposed to do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we (who are we?) agree what ”this” is, of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rooms DO NOT WORK. The IETF works in the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ge groups alone DO NOT WORK. We know how to critique and fine-tune; we do not know how to create in the l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next ste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trawman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a working group to define a problem statement (timeline – Spring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a working group to revise the IETF to address the problems ra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on expertise within and outside the IETF to contrib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public review of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 the result through the public IETF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method to evaluate the result later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wman: Targets of th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n the open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engage the community in the IETF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n the technical compe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ease the saturation on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 the ability to act rapidly and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IETF a fun place to wor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has the tok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he I* is working on this (this expression matches IESG, IAB and IE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We need to make the IETF work while we’re working on 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he management team cannot function effectively while critiquing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he process must be rooted outside the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 person must be named – so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ETF is valu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ETF has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ETF community is responsible for fixing thos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’s lots of work ahead of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we would like to hear what you think the problem is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arting thought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trained hard, but it seemed that everytime we were beginning to form up into teams, we would be reorganized. I was to learn later in life that we tend to meet any new situation by reorganizing; and a wonderful method it can be for creating the illusion of progress while producing confusion, inefficiency and demoral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ronius Arbiter (210 B.C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TF is a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ing relevant, high quality standards for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ing open participation and fair sharing of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participation of releva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adership is providing an unified vision of the Internet that guides the standardization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Internet to create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ETF is a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 is slow, output mediocre and irrelevant to the real problems facing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s are taken by backroom deals, intimidation and mob psych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ESG imposes random mandates that are irrelevant to the problems at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leaving in disgust in dr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ly,the IETF is the most retrograde organization o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e values of the I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s for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ly compe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eer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reject kings, presidents and voting. We believe in rough consensus and running code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core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vision into WGs an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e-step standards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SCII format for RFCs and I-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at of IETF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ape of WG mailing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wer of the IE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ent changes in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ot-com boom has ended. With a b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is still growing, but turning into ”part of basic plumb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NN is reforming itself to do ”Internet coordination” (whatever that me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wants to take a more active role on the Internet (if it can afford 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vernments are interested (and worri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ent changes in the I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cooperation across the I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working together, trying to achieve comm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the quality of the IES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”tracker”, installed this spring, has been a boon for making sure IESG items remain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the transparency of IESG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ed the tracker to the public on Novemb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ing to get more people t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directorates, evaluation t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ent non-cha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to IESG pers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the BOF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how WGs are sta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how WGs are mana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in operator of secretariat, RFC Editor, IANA or ISOC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f these have been suggested. All of these should be thought about. We won’t do them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is the probl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perceive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ption is rea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ust know what the problems are before we can address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adership is not the right persons to identify th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o the community.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5:37:22Z</dcterms:created>
  <dc:creator>Cisco User</dc:creator>
  <dc:description/>
  <dc:language>en-US</dc:language>
  <cp:lastModifiedBy>Cisco User</cp:lastModifiedBy>
  <dcterms:modified xsi:type="dcterms:W3CDTF">2002-11-20T21:37:31Z</dcterms:modified>
  <cp:revision>10</cp:revision>
  <dc:subject/>
  <dc:title>Revolutionizing the IETF</dc:title>
</cp:coreProperties>
</file>