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EBB0-7E94-4850-BC4A-C42D0F4B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334-BDB4-42CA-9186-1CBCC872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F7C-1E6D-41E3-A155-02862412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B886-9FCA-4738-B848-57EA5D29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F40-96A7-4C78-9820-59226D0E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FF5B-B045-4FD7-A1CA-A477B2F4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C9E-ED8A-42EF-AB94-A0D87808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B870-7F59-46ED-957B-0022BEF1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B5C-517E-4521-A45A-77BA856C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2F13-E367-4A54-B333-0C33BD2F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7914-3810-4EFA-A2FA-C9DA70D8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F4C-1FB0-4826-9F13-3F6D41D4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A9F1-1B70-4DE6-83EC-F8A43ADE07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olutionizing the IET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ald Alvestr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ver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s of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ur Ugly Things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not written about the IET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Putting men to death without having taught them Right – that is called savag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Expecting the completion of tasks without giving due warning – that is called op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o be dilatory about giving orders, but to expect absolute punctuality – that is called being a tormen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And similarly, though meaning to let a man have something, to be grudging about bringing it out – that is called behaving like a petty functio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Confucius, 500 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we go from here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roblem do we want to sol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relevant, high quality standards for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want to solve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problems that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ways that work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supposed to do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we (who are we?) agree what ”this” is, of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rooms DO NOT WORK. The IETF works in the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ge groups alone DO NOT WORK. We know how to critique and fine-tune; we do not know how to create in the la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next ste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rawma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er a working group to define a problem statement (timeline – Spring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er a working group to revise the IETF to address the problems ra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on expertise within and outside the IETF to con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 public review of th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pt the result through the public IETF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method to evaluate the result later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wman: Targets of the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in the open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-engage the community in the IETF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in the technical compe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 the saturation on mana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the ability to act rapidly and correc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he IETF a fun place to wor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has the tok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he I* is working on this (this expression matches IESG, IAB and IET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We need to make the IETF work while we’re working on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he management team cannot function effectively while critiquing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he process must be rooted outside the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A person must be named – so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ETF is valu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ETF has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ETF community is responsible for fixing thos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’s lots of work ahead of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we would like to hear what you think the problem is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arting thought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trained hard, but it seemed that everytime we were beginning to form up into teams, we would be reorganized. I was to learn later in life that we tend to meet any new situation by reorganizing; and a wonderful method it can be for creating the illusion of progress while producing confusion, inefficiency and demoral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ronius Arbiter (210 B.C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ETF is a su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ing relevant, high quality standards for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ing open participation and fair sharing of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ing participation of relevant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dership is providing an unified vision of the Internet that guides the standardization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Internet to create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ETF is a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 is slow, output mediocre and irrelevant to the real problems facing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s are taken by backroom deals, intimidation and mob psych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ESG imposes random mandates that are irrelevant to the problems at h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leaving in disgust in dro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ly,the IETF is the most retrograde organization on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e values of the IET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s for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ly compe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nteer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reject kings, presidents and voting. We believe in rough consensus and running code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core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vision into WGs and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ree-step standards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SCII format for RFCs and I-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mat of IE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ape of WG mailing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wer of the IES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ent changes in 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ot-com boom has ended. With a ba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net is still growing, but turning into ”part of basic plumb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ANN is reforming itself to do ”Internet coordination” (whatever that me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 wants to take a more active role on the Internet (if it can afford 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vernments are interested (and worri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ent changes in the IET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ing cooperation across the IE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s working together, trying to achieve comm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ing the quality of the IES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”tracker”, installed this spring, has been a boon for making sure IESG items remain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ing the transparency of IESG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ed the tracker to the public on Novemb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ing to get more people tal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directorates, evaluation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ent non-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to IESG perso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in the BOF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in how WGs are sta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in how WGs are mana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in operator of secretariat, RFC Editor, IANA or ISOC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f these have been suggested. All of these should be thought about. We won’t do them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is the probl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perceive a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ption is re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ust know what the problems are before we can address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adership is not the right persons to identify the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to the community.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15:37:22Z</dcterms:created>
  <dc:creator>Cisco User</dc:creator>
  <dc:description/>
  <dc:language>en-US</dc:language>
  <cp:lastModifiedBy>Cisco User</cp:lastModifiedBy>
  <dcterms:modified xsi:type="dcterms:W3CDTF">2002-11-20T21:37:31Z</dcterms:modified>
  <cp:revision>10</cp:revision>
  <dc:subject/>
  <dc:title>Revolutionizing the IETF</dc:title>
</cp:coreProperties>
</file>