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33560" y="0"/>
            <a:ext cx="28954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4040" y="76212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9628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33560" y="929628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C74A-A2BF-432C-A49E-4F41253A7C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914400" y="762120"/>
            <a:ext cx="4876920" cy="3657600"/>
          </a:xfrm>
          <a:prstGeom prst="rect">
            <a:avLst/>
          </a:prstGeom>
          <a:ln w="0">
            <a:noFill/>
          </a:ln>
        </p:spPr>
      </p:sp>
      <p:sp>
        <p:nvSpPr>
          <p:cNvPr id="86"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We need a smaller group (IAB+IETF chair++) to dig into this and come up with a real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879480" y="733320"/>
            <a:ext cx="4890960" cy="3668760"/>
          </a:xfrm>
          <a:prstGeom prst="rect">
            <a:avLst/>
          </a:prstGeom>
          <a:ln w="0">
            <a:noFill/>
          </a:ln>
        </p:spPr>
      </p:sp>
      <p:sp>
        <p:nvSpPr>
          <p:cNvPr id="80" name="PlaceHolder 2"/>
          <p:cNvSpPr>
            <a:spLocks noGrp="1"/>
          </p:cNvSpPr>
          <p:nvPr>
            <p:ph type="body"/>
          </p:nvPr>
        </p:nvSpPr>
        <p:spPr>
          <a:xfrm>
            <a:off x="885960" y="4646520"/>
            <a:ext cx="4876560" cy="4402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 added all expenses related to meetings in the meeting expense line.   These expenses include: staff travel to meetings to run them, all but about $1k of materials and supplies, proceedings &amp; printing (one could argue that this is not meeting related but it derives directly from what went on at the meeting) rental of equipment at meetings other than A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 2001 Conference calls were $54K &amp; consultants were $25k (this latter was legal help to ensure Steve produced the proper documents that called for in a subpoena.  Scott Bradner testified.  The rest was odds and ends.  In 2002 the conference calls were the bulk of the charges $82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914400" y="762120"/>
            <a:ext cx="4876920" cy="3657600"/>
          </a:xfrm>
          <a:prstGeom prst="rect">
            <a:avLst/>
          </a:prstGeom>
          <a:ln w="0">
            <a:noFill/>
          </a:ln>
        </p:spPr>
      </p:sp>
      <p:sp>
        <p:nvSpPr>
          <p:cNvPr id="82" name="PlaceHolder 2"/>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Atlanta was 1706 when I was on stage there. It’s 1596 here. Inconsist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879480" y="733320"/>
            <a:ext cx="4890960" cy="3668760"/>
          </a:xfrm>
          <a:prstGeom prst="rect">
            <a:avLst/>
          </a:prstGeom>
          <a:ln w="0">
            <a:noFill/>
          </a:ln>
        </p:spPr>
      </p:sp>
      <p:sp>
        <p:nvSpPr>
          <p:cNvPr id="84" name="PlaceHolder 2"/>
          <p:cNvSpPr>
            <a:spLocks noGrp="1"/>
          </p:cNvSpPr>
          <p:nvPr>
            <p:ph type="body"/>
          </p:nvPr>
        </p:nvSpPr>
        <p:spPr>
          <a:xfrm>
            <a:off x="885960" y="4646520"/>
            <a:ext cx="4876560" cy="4402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ssible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ys a much better picture.  Notice the per attendee meeting costs.  This year it is so high because the Secretariat is likely to do two network access rooms.  Next year one network access room and two meeting room rental fees.  In 2005 it is back to two network access rooms and one meeting room rental.  Reverse again in 2006.  The story is that it is becoming harder to get companies to foot the bill for a network access room, as it costs them so much.  The Secretariat is doing two in 2003 and it can do it l3ess expensively then a company can, especially if it can get a deal on Internet access and local loop costs.  Room rental is necessary in Europe and he Far East (really expens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76BE8-C839-4825-AF01-EE3B71D26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5A038-8531-4B1D-AC16-CB6C14666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8C480-C6B4-4BEF-96CF-CCEE2AC1F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9F44C-DB4F-430B-8C8C-B17E0E9E9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D15EB-E52B-4C40-9302-C756CE0C0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F47B4-C068-4FA5-A9CF-88BCF935E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4D88A-FEF5-4A7A-9218-B84203CBD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22997-4038-4314-B073-DD06FE718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2409F-7464-44FF-BB2B-616C10152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049E7-AEC5-473A-9761-FC04E97D6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DC265-2A43-4F23-8E90-3D72401AA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E21C8-8782-40EE-9BED-AFC20AB0F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C8527-E71A-4867-B929-0F1C2CB620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The Financials of the IETF</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Current situation and the futur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Harald Alvestran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IETF Cha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Times New Roman"/>
              </a:rPr>
              <a:t>Playing with numbers</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This is a </a:t>
            </a:r>
            <a:r>
              <a:rPr b="0" i="1" lang="nb-NO" sz="2800" spc="-1" strike="noStrike">
                <a:solidFill>
                  <a:srgbClr val="000000"/>
                </a:solidFill>
                <a:latin typeface="Times New Roman"/>
              </a:rPr>
              <a:t>simplified</a:t>
            </a:r>
            <a:r>
              <a:rPr b="0" lang="nb-NO" sz="2800" spc="-1" strike="noStrike">
                <a:solidFill>
                  <a:srgbClr val="000000"/>
                </a:solidFill>
                <a:latin typeface="Times New Roman"/>
              </a:rPr>
              <a:t> spreadsheet</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Meeting fee increase needed: USD 70</a:t>
            </a:r>
            <a:endParaRPr b="0" lang="en-US" sz="28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Attendee increase needed: 300/meeting</a:t>
            </a:r>
            <a:endParaRPr b="0" lang="en-US" sz="2800" spc="-1" strike="noStrike">
              <a:solidFill>
                <a:srgbClr val="000000"/>
              </a:solidFill>
              <a:latin typeface="Times New Roman"/>
            </a:endParaRPr>
          </a:p>
        </p:txBody>
      </p:sp>
      <p:graphicFrame>
        <p:nvGraphicFramePr>
          <p:cNvPr id="75" name=""/>
          <p:cNvGraphicFramePr/>
          <p:nvPr/>
        </p:nvGraphicFramePr>
        <p:xfrm>
          <a:off x="171360" y="3968640"/>
          <a:ext cx="8969400" cy="2354400"/>
        </p:xfrm>
        <a:graphic>
          <a:graphicData uri="http://schemas.openxmlformats.org/presentationml/2006/ole">
            <p:oleObj progId="Excel.Sheet.12" r:id="rId1" spid="">
              <p:embed/>
              <p:pic>
                <p:nvPicPr>
                  <p:cNvPr id="76" name="" descr=""/>
                  <p:cNvPicPr/>
                  <p:nvPr/>
                </p:nvPicPr>
                <p:blipFill>
                  <a:blip r:embed="rId2"/>
                  <a:stretch/>
                </p:blipFill>
                <p:spPr>
                  <a:xfrm>
                    <a:off x="171360" y="3968640"/>
                    <a:ext cx="8969400" cy="23544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Times New Roman"/>
              </a:rPr>
              <a:t>How should we decide?</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The IETF community needs to decide what’s important to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The IETF Chair needs to instruct the secretariat on what to 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We need to act deliberately. But so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IETF financing sourc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Two sources of incom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ISOC</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Pays for RFC Editor, insurance &amp; some other expenses – in the range of USD 700-800K/year</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Meeting fe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Pays for the meetings and the secretariat</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The work of the IANA, the IESG, the IAB and the IETF members is not paid for through the IETF pro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Secretariat Numbers for 2002</a:t>
            </a:r>
            <a:endParaRPr b="0" lang="en-US" sz="4400" spc="-1" strike="noStrike">
              <a:solidFill>
                <a:srgbClr val="000000"/>
              </a:solidFill>
              <a:latin typeface="Times New Roman"/>
            </a:endParaRPr>
          </a:p>
        </p:txBody>
      </p:sp>
      <p:graphicFrame>
        <p:nvGraphicFramePr>
          <p:cNvPr id="53" name=""/>
          <p:cNvGraphicFramePr/>
          <p:nvPr/>
        </p:nvGraphicFramePr>
        <p:xfrm>
          <a:off x="1066680" y="2286000"/>
          <a:ext cx="6224760" cy="3605040"/>
        </p:xfrm>
        <a:graphic>
          <a:graphicData uri="http://schemas.openxmlformats.org/presentationml/2006/ole">
            <p:oleObj progId="Excel.Sheet.12" r:id="rId1" spid="">
              <p:embed/>
              <p:pic>
                <p:nvPicPr>
                  <p:cNvPr id="54" name="" descr=""/>
                  <p:cNvPicPr/>
                  <p:nvPr/>
                </p:nvPicPr>
                <p:blipFill>
                  <a:blip r:embed="rId2"/>
                  <a:stretch/>
                </p:blipFill>
                <p:spPr>
                  <a:xfrm>
                    <a:off x="1066680" y="2286000"/>
                    <a:ext cx="6224760" cy="3605040"/>
                  </a:xfrm>
                  <a:prstGeom prst="rect">
                    <a:avLst/>
                  </a:prstGeom>
                  <a:ln w="0">
                    <a:noFill/>
                  </a:ln>
                </p:spPr>
              </p:pic>
            </p:oleObj>
          </a:graphicData>
        </a:graphic>
      </p:graphicFrame>
      <p:sp>
        <p:nvSpPr>
          <p:cNvPr id="55" name=""/>
          <p:cNvSpPr/>
          <p:nvPr/>
        </p:nvSpPr>
        <p:spPr>
          <a:xfrm>
            <a:off x="1585080" y="6289560"/>
            <a:ext cx="52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Note: These numbers are UNAUDITED!</a:t>
            </a:r>
            <a:endParaRPr b="0" lang="en-US" sz="2400" spc="-1" strike="noStrike">
              <a:solidFill>
                <a:srgbClr val="000000"/>
              </a:solidFill>
              <a:latin typeface="Times New Roman"/>
            </a:endParaRPr>
          </a:p>
        </p:txBody>
      </p:sp>
      <p:sp>
        <p:nvSpPr>
          <p:cNvPr id="56" name="PlaceHolder 2"/>
          <p:cNvSpPr>
            <a:spLocks noGrp="1"/>
          </p:cNvSpPr>
          <p:nvPr>
            <p:ph/>
          </p:nvPr>
        </p:nvSpPr>
        <p:spPr>
          <a:xfrm>
            <a:off x="990720" y="1676520"/>
            <a:ext cx="7772400" cy="4572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This does not include ISOC mone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The reasons for change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Added two people to secretariat staf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Yokohama was expensive to ru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In general, non-US costs more (Japan is expensive, London was even more s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Times New Roman"/>
              </a:rPr>
              <a:t>Fewer people at the meeting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2001: 6172 attendee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2002: 5158 attende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The Number of Attendees</a:t>
            </a:r>
            <a:endParaRPr b="0" lang="en-US" sz="4400" spc="-1" strike="noStrike">
              <a:solidFill>
                <a:srgbClr val="000000"/>
              </a:solidFill>
              <a:latin typeface="Times New Roman"/>
            </a:endParaRPr>
          </a:p>
        </p:txBody>
      </p:sp>
      <p:graphicFrame>
        <p:nvGraphicFramePr>
          <p:cNvPr id="60" name=""/>
          <p:cNvGraphicFramePr/>
          <p:nvPr/>
        </p:nvGraphicFramePr>
        <p:xfrm>
          <a:off x="685800" y="1981080"/>
          <a:ext cx="7772400" cy="4114800"/>
        </p:xfrm>
        <a:graphic>
          <a:graphicData uri="http://schemas.openxmlformats.org/presentationml/2006/ole">
            <p:oleObj r:id="rId1" spid="">
              <p:embed/>
              <p:pic>
                <p:nvPicPr>
                  <p:cNvPr id="61" name="" descr=""/>
                  <p:cNvPicPr/>
                  <p:nvPr/>
                </p:nvPicPr>
                <p:blipFill>
                  <a:blip r:embed="rId2"/>
                  <a:stretch/>
                </p:blipFill>
                <p:spPr>
                  <a:xfrm>
                    <a:off x="685800" y="1981080"/>
                    <a:ext cx="77724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Predicting The Future</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Assume that we can get by with present staff &amp; expenses (no more assistance nee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Assume that we get 1600 attendees per meeting (slight increase for future yea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Assume that fees stay at USD 450, with the same number of latecom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Assume no new inco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Ignore inf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87480" y="2482920"/>
          <a:ext cx="8966160" cy="1892160"/>
        </p:xfrm>
        <a:graphic>
          <a:graphicData uri="http://schemas.openxmlformats.org/presentationml/2006/ole">
            <p:oleObj progId="Excel.Sheet.12" r:id="rId1" spid="">
              <p:embed/>
              <p:pic>
                <p:nvPicPr>
                  <p:cNvPr id="65" name="" descr=""/>
                  <p:cNvPicPr/>
                  <p:nvPr/>
                </p:nvPicPr>
                <p:blipFill>
                  <a:blip r:embed="rId2"/>
                  <a:stretch/>
                </p:blipFill>
                <p:spPr>
                  <a:xfrm>
                    <a:off x="87480" y="2482920"/>
                    <a:ext cx="8966160" cy="1892160"/>
                  </a:xfrm>
                  <a:prstGeom prst="rect">
                    <a:avLst/>
                  </a:prstGeom>
                  <a:ln w="0">
                    <a:noFill/>
                  </a:ln>
                </p:spPr>
              </p:pic>
            </p:oleObj>
          </a:graphicData>
        </a:graphic>
      </p:graphicFrame>
      <p:sp>
        <p:nvSpPr>
          <p:cNvPr id="66" name=""/>
          <p:cNvSpPr/>
          <p:nvPr/>
        </p:nvSpPr>
        <p:spPr>
          <a:xfrm>
            <a:off x="685800" y="9907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609480" y="4876920"/>
            <a:ext cx="7696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000000"/>
                </a:solidFill>
                <a:latin typeface="Times New Roman"/>
              </a:rPr>
              <a:t>This is not looking good.</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Times New Roman"/>
              </a:rPr>
              <a:t>Based on more detailed secretariat budgets. Labor and indirect costs have been distributed appropriately between ”Mtg” and ”Other”.</a:t>
            </a:r>
            <a:endParaRPr b="0" lang="en-US" sz="1800" spc="-1" strike="noStrike">
              <a:solidFill>
                <a:srgbClr val="000000"/>
              </a:solidFill>
              <a:latin typeface="Times New Roman"/>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The Likely Proje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Times New Roman"/>
              </a:rPr>
              <a:t>Doing Something About It (1)</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Reduce expen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Cut the cooki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and pay for the meeting rooms. No cigar.</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Meet in less expensiv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Shift more work from ”professional” to ”volunta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Do work more efficient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Cut the terminals (already don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Note: Sometimes lowering central meeting costs increases attendee costs, or vice ver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000" spc="-1" strike="noStrike">
                <a:solidFill>
                  <a:srgbClr val="000000"/>
                </a:solidFill>
                <a:latin typeface="Times New Roman"/>
              </a:rPr>
              <a:t>Doing Something About It (2)</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Increase incom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Raise the meeting fe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Make more people pay fe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Not necessarily at the IETF meeting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sk ISOC for more mone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Get more sponsors for the meeting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a:t>
            </a:r>
            <a:r>
              <a:rPr b="0" lang="nb-NO" sz="2000" spc="-1" strike="noStrike">
                <a:solidFill>
                  <a:srgbClr val="000000"/>
                </a:solidFill>
                <a:latin typeface="Times New Roman"/>
              </a:rPr>
              <a:t>this cookie is brought to you by Acme Cor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Do other activites that people are willing to pay f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Make the IETF an industry consorti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rald Tveit Alvestrand</cp:lastModifiedBy>
  <dcterms:modified xsi:type="dcterms:W3CDTF">2003-03-20T01:09:02Z</dcterms:modified>
  <cp:revision>8</cp:revision>
  <dc:subject/>
  <dc:title>PowerPoint Presentation</dc:title>
</cp:coreProperties>
</file>