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CC2-ED89-4FB2-8AB7-16CB58B1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2600"/>
            <a:ext cx="822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0B3-233E-4907-A163-17DE47FA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260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260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1D8C-802A-471B-9266-ACA08C5F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016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016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260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260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260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442-ACD0-4B25-8CFF-46C9B708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830-1BDE-43DC-96A5-12524643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F94-569C-4F23-A166-04D159DA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CF3-26D7-4365-A98D-02038546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B49-AAE3-473D-9338-41C040EC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1CC-9050-4B96-8030-60645A7B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260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80C-2E45-4652-9EF7-E37F1D84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260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834-6380-4FF0-BEA4-EBA55F08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2600"/>
            <a:ext cx="822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A9E-B6A1-45B5-B0DA-CB7FC361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D269-AB9F-44A5-B99B-C72F78D4EB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55272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B59B-2B1E-4A36-A951-AA6BB110E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rac.tools.ietf.org/wg/ccamp/trac/wiki" TargetMode="External"/><Relationship Id="rId2" Type="http://schemas.openxmlformats.org/officeDocument/2006/relationships/hyperlink" Target="http://trac.tools.ietf.org/wg/ccamp/trac/wiki" TargetMode="External"/><Relationship Id="rId3" Type="http://schemas.openxmlformats.org/officeDocument/2006/relationships/hyperlink" Target="http://trac.tools.ietf.org/wg/ccamp/trac/report/3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ools.ietf.org/wg/ccamp/" TargetMode="External"/><Relationship Id="rId2" Type="http://schemas.openxmlformats.org/officeDocument/2006/relationships/hyperlink" Target="http://tools.ietf.org/wg/ccamp/" TargetMode="External"/><Relationship Id="rId3" Type="http://schemas.openxmlformats.org/officeDocument/2006/relationships/hyperlink" Target="http://tools.ietf.org/wg/ccamp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ools.ietf.org/wg/ccamp/draft-ietf-ccamp-ethernet-traffic-parameters/" TargetMode="External"/><Relationship Id="rId2" Type="http://schemas.openxmlformats.org/officeDocument/2006/relationships/hyperlink" Target="http://tools.ietf.org/wg/ccamp/draft-ietf-ccamp-ethernet-traffic-parameters/" TargetMode="External"/><Relationship Id="rId3" Type="http://schemas.openxmlformats.org/officeDocument/2006/relationships/hyperlink" Target="http://tools.ietf.org/wg/ccamp/draft-ietf-ccamp-gmpls-dcsc-channel-ext/" TargetMode="External"/><Relationship Id="rId4" Type="http://schemas.openxmlformats.org/officeDocument/2006/relationships/hyperlink" Target="http://tools.ietf.org/wg/ccamp/draft-ietf-ccamp-gmpls-dcsc-channel-ext/" TargetMode="External"/><Relationship Id="rId5" Type="http://schemas.openxmlformats.org/officeDocument/2006/relationships/hyperlink" Target="http://tools.ietf.org/wg/ccamp/draft-ietf-ccamp-gmpls-ether-svcs/" TargetMode="External"/><Relationship Id="rId6" Type="http://schemas.openxmlformats.org/officeDocument/2006/relationships/hyperlink" Target="http://tools.ietf.org/wg/ccamp/draft-ietf-ccamp-gmpls-ether-svcs/" TargetMode="External"/><Relationship Id="rId7" Type="http://schemas.openxmlformats.org/officeDocument/2006/relationships/hyperlink" Target="http://tools.ietf.org/wg/ccamp/draft-ietf-ccamp-gmpls-mef-uni/" TargetMode="External"/><Relationship Id="rId8" Type="http://schemas.openxmlformats.org/officeDocument/2006/relationships/hyperlink" Target="http://tools.ietf.org/wg/ccamp/draft-ietf-ccamp-gmpls-mef-uni/" TargetMode="External"/><Relationship Id="rId9" Type="http://schemas.openxmlformats.org/officeDocument/2006/relationships/hyperlink" Target="http://tools.ietf.org/wg/ccamp/draft-ietf-ccamp-gmpls-mln-extensions/" TargetMode="External"/><Relationship Id="rId10" Type="http://schemas.openxmlformats.org/officeDocument/2006/relationships/hyperlink" Target="http://tools.ietf.org/wg/ccamp/draft-ietf-ccamp-gmpls-mln-extensions/" TargetMode="External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ools.ietf.org/wg/ccamp/draft-ietf-ccamp-gmpls-ethernet-pbb-te/" TargetMode="External"/><Relationship Id="rId2" Type="http://schemas.openxmlformats.org/officeDocument/2006/relationships/hyperlink" Target="http://tools.ietf.org/wg/ccamp/draft-ietf-ccamp-gmpls-ethernet-pbb-te/" TargetMode="External"/><Relationship Id="rId3" Type="http://schemas.openxmlformats.org/officeDocument/2006/relationships/hyperlink" Target="http://tools.ietf.org/wg/ccamp/draft-ietf-ccamp-lsp-hierarchy-bis/" TargetMode="External"/><Relationship Id="rId4" Type="http://schemas.openxmlformats.org/officeDocument/2006/relationships/hyperlink" Target="http://tools.ietf.org/wg/ccamp/draft-ietf-ccamp-lsp-hierarchy-bis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ools.ietf.org/wg/ccamp/draft-ietf-ccamp-gmpls-vcat-lcas/" TargetMode="External"/><Relationship Id="rId2" Type="http://schemas.openxmlformats.org/officeDocument/2006/relationships/hyperlink" Target="http://tools.ietf.org/wg/ccamp/draft-ietf-ccamp-gmpls-vcat-lcas/" TargetMode="External"/><Relationship Id="rId3" Type="http://schemas.openxmlformats.org/officeDocument/2006/relationships/hyperlink" Target="http://tools.ietf.org/wg/ccamp/draft-ietf-ccamp-rwa-wson-framework/" TargetMode="External"/><Relationship Id="rId4" Type="http://schemas.openxmlformats.org/officeDocument/2006/relationships/hyperlink" Target="http://tools.ietf.org/wg/ccamp/draft-ietf-ccamp-rwa-wson-framework/" TargetMode="External"/><Relationship Id="rId5" Type="http://schemas.openxmlformats.org/officeDocument/2006/relationships/hyperlink" Target="http://tools.ietf.org/wg/ccamp/draft-ietf-ccamp-gmpls-ted-mib/" TargetMode="External"/><Relationship Id="rId6" Type="http://schemas.openxmlformats.org/officeDocument/2006/relationships/hyperlink" Target="http://tools.ietf.org/wg/ccamp/draft-ietf-ccamp-gmpls-ted-mib/" TargetMode="External"/><Relationship Id="rId7" Type="http://schemas.openxmlformats.org/officeDocument/2006/relationships/hyperlink" Target="http://tools.ietf.org/wg/ccamp/draft-ietf-ccamp-mpls-tp-cp-framework/" TargetMode="External"/><Relationship Id="rId8" Type="http://schemas.openxmlformats.org/officeDocument/2006/relationships/hyperlink" Target="http://tools.ietf.org/wg/ccamp/draft-ietf-ccamp-mpls-tp-cp-framework/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ools.ietf.org/wg/ccamp/draft-ietf-ccamp-dpm/" TargetMode="External"/><Relationship Id="rId2" Type="http://schemas.openxmlformats.org/officeDocument/2006/relationships/hyperlink" Target="http://tools.ietf.org/wg/ccamp/draft-ietf-ccamp-dpm/" TargetMode="External"/><Relationship Id="rId3" Type="http://schemas.openxmlformats.org/officeDocument/2006/relationships/hyperlink" Target="http://tools.ietf.org/html/rfc5814" TargetMode="External"/><Relationship Id="rId4" Type="http://schemas.openxmlformats.org/officeDocument/2006/relationships/hyperlink" Target="http://tools.ietf.org/wg/ccamp/draft-ietf-ccamp-gmpls-g-694-lambda-labels/" TargetMode="External"/><Relationship Id="rId5" Type="http://schemas.openxmlformats.org/officeDocument/2006/relationships/hyperlink" Target="http://tools.ietf.org/wg/ccamp/draft-ietf-ccamp-oam-configuration-fwk/" TargetMode="External"/><Relationship Id="rId6" Type="http://schemas.openxmlformats.org/officeDocument/2006/relationships/hyperlink" Target="http://tools.ietf.org/wg/ccamp/draft-ietf-ccamp-oam-configuration-fwk/" TargetMode="External"/><Relationship Id="rId7" Type="http://schemas.openxmlformats.org/officeDocument/2006/relationships/hyperlink" Target="http://tools.ietf.org/wg/ccamp/draft-ietf-ccamp-rsvp-te-eth-oam-ext/" TargetMode="External"/><Relationship Id="rId8" Type="http://schemas.openxmlformats.org/officeDocument/2006/relationships/hyperlink" Target="http://tools.ietf.org/wg/ccamp/draft-ietf-ccamp-rsvp-te-eth-oam-ext/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rac.tools.ietf.org/wg/ccamp/trac/wiki/CommsLiasons" TargetMode="External"/><Relationship Id="rId2" Type="http://schemas.openxmlformats.org/officeDocument/2006/relationships/hyperlink" Target="http://trac.tools.ietf.org/wg/ccamp/trac/wiki/CommsLiasons" TargetMode="External"/><Relationship Id="rId3" Type="http://schemas.openxmlformats.org/officeDocument/2006/relationships/hyperlink" Target="http://trac.tools.ietf.org/wg/ccamp/trac/report/3" TargetMode="External"/><Relationship Id="rId4" Type="http://schemas.openxmlformats.org/officeDocument/2006/relationships/hyperlink" Target="mailto:ccamp@ietf.org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AMP Working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 Berger &lt;lberger@labn.ne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orah Brungard &lt;db3546@att.com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DEF-E544-4F49-B7AD-B4F78A629F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PLS-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PLS-TP work conti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PLS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WE3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CAMP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2VPN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SA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t meetings to discuss MPLS-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ear as “MPLS” and, if needed, PWE3 on the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vers all I-Ds for al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EAE-8B1B-47E3-AE0D-D98ACF809B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ture MPLS-TP Control Plan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50752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ct new work based on TP-CP Frame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 identified open areas which will be addressed through normal WG process (already happ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s RFC 54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ymmetric bandwidth bidirectional L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as experi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s Track needed MPLS-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ct a bis before the next IETF, will start as WG 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inder: Pick the right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CAMP: LSP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WE3: PW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of R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4CF0-193B-4741-B4FB-338DD60D31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56908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.709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-draft slot scheduled in the second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help close on-list 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ormal discussion being organized by auth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ent Disclosures (http://www.ietf.org/ipr/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http://tools.ietf.org/html/rfc39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585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datatracker.ietf.org/ipr/1327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539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datatracker.ietf.org/ipr/1329/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datatracker.ietf.org/ipr/1330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53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datatracker.ietf.org/ipr/1332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F21-AD7E-40D2-B976-DF9030F15F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Items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-LSP RSVP in CC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n example of a draft that covers control of LSPs (via RSVP-TE) and control of IP flows (via classic RSV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mechanism triggered by Francois Le Fauche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in draft-berger-ccamp-assoc-info-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ed procedural question on how to pro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parate drafts, in one WG (LSP and non-L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parate drafts, LSPs in CCAMP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draft, in one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discussion at last IETF and off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 from 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on 3, as an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poll list for WG document status of related draf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EA8-A1BC-4403-87FD-336A949439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G Process - 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s/Secretary moving to IETF tools (Trac) site for WG proces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l information (including list of Communications and Liaisons) moved to wi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rac.tools.ietf.org/wg/ccamp/trac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status being tracked via Trac ticke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when document enters last call (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trac.tools.ietf.org/wg/ccamp/trac/repor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will be assigned as owners when there are open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 and Liaisons also being tracked via ti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incoming for n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process (think wikip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ne can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ged-in users can modify wiki and ti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 new wiki content be coordinated with chairs/secretary or via WG mail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become required if open modify policy is ab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E8F-F2D2-4434-BED0-6C55A5A6BD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06360"/>
                <a:tab algn="l" pos="3538440"/>
                <a:tab algn="l" pos="543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document status is always available at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ools.ietf.org/wg/ccamp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1206360"/>
                <a:tab algn="l" pos="3538440"/>
                <a:tab algn="l" pos="543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06360"/>
                <a:tab algn="l" pos="3538440"/>
                <a:tab algn="l" pos="543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cess remi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206360"/>
                <a:tab algn="l" pos="3538440"/>
                <a:tab algn="l" pos="543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G LC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hai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ESG/AD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ETF L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FC Edi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1206360"/>
                <a:tab algn="l" pos="3538440"/>
                <a:tab algn="l" pos="543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683-042D-4640-A965-C4DF452BE3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cument Status –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F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686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ent RF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e since last 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RFC Editor’s Que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etf-ccamp-ethernet-traffic-para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etf-ccamp-gmpls-dcsc-channel-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etf-ccamp-gmpls-ether-sv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ietf-ccamp-gmpls-mef-u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ietf-ccamp-gmpls-mln-exten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88E-6A05-49F9-A82E-B23CB35DF5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40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SG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etf-ccamp-gmpls-ethernet-pbb-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iting on update from Auth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raft-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etf-ccamp-lsp-hierarchy-b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BB8-D9CE-4DFE-894B-5DA4B7A3EE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 –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 WG Last 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etf-ccamp-gmpls-vcat-lc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on chairs for Proto writ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etf-ccamp-rwa-wson-fra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on chairs for Proto writ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etf-ccamp-gmpls-ted-mi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ing for update post Expert Re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hange from las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date expected within a few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need another LC (joint with MPL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ietf-ccamp-mpls-tp-cp-fra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d joint LC with PWE3 and MP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aison received from ITU-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in joint MPLS-T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FD1-2871-4C1D-9864-698FABEA87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Drafts Not on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etf-ccamp-dp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nion document t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FC 58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ease send comments to the l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raft-ietf-ccamp-gmpls-g-694-lambda-lab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, Ready for 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etf-ccamp-oam-configuration-fw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s since last IE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ietf-ccamp-rsvp-te-eth-oam-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ccamp-rsvp-te-sdh-otn-oam-ex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s since last IE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580-F8D2-4355-BA60-C9DC8D450E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Drafts on the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50752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he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rwa-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rwa-wson-en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general-constraint-en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wson-signal-compatibility-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wson-impair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gmpls-g709-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rsvp-te-mpls-tp-oam-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FC6-3791-4610-8606-E38A273E10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unications Sent/Recei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4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U-T SG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eived four Liaisons from June’s mee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mbda Switch Capable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on G.709 efforts in IET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NT standardization work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process initiated for G.7714.1 revi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ter regarding Interface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eived and reply 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F and 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to send informal communications on Etherne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ki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rac.tools.ietf.org/wg/ccamp/trac/wiki/CommsLi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cket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trac.tools.ietf.org/wg/ccamp/trac/repor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ease review the incoming documents and comment on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camp@ietf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A17-A882-4E54-A7A4-4EDDFCDF71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7:15:36Z</dcterms:created>
  <dc:creator>deborah</dc:creator>
  <dc:description/>
  <dc:language>en-US</dc:language>
  <cp:lastModifiedBy>Lou Berger</cp:lastModifiedBy>
  <dcterms:modified xsi:type="dcterms:W3CDTF">2010-07-24T14:32:13Z</dcterms:modified>
  <cp:revision>219</cp:revision>
  <dc:subject/>
  <dc:title>ccamp template</dc:title>
</cp:coreProperties>
</file>