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7F4-2918-405E-95CD-1B3C157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E91-1854-4F32-A408-29018D1B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DB0-DB0C-4BEF-BAB8-2DB7397A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016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2600"/>
            <a:ext cx="264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314-5378-4392-A331-2EC4147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3BD-70C3-4884-A205-3B4A7F9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5BF-8265-4D04-8F68-B36E1D1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E24-02E3-41E3-B0E7-419A0E6F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563-5D4B-44D9-8C3B-BFF4779B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A4D-C0B6-40D7-8C99-86C771AF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5D3-1202-479C-92CC-8D807A5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260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FCA-1FBA-4DA1-BC03-ADE7B11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0160"/>
            <a:ext cx="40158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2600"/>
            <a:ext cx="8229600" cy="24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34B-1A39-4B4F-A983-2125832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4FB-32F6-40B2-B0A3-C753DD6DA6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5527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E9B-9F19-4D48-A749-0ABCE383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rac.tools.ietf.org/wg/ccamp/trac/wiki" TargetMode="External"/><Relationship Id="rId2" Type="http://schemas.openxmlformats.org/officeDocument/2006/relationships/hyperlink" Target="http://trac.tools.ietf.org/wg/ccamp/trac/wiki" TargetMode="External"/><Relationship Id="rId3" Type="http://schemas.openxmlformats.org/officeDocument/2006/relationships/hyperlink" Target="http://trac.tools.ietf.org/wg/ccamp/trac/report/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" TargetMode="External"/><Relationship Id="rId2" Type="http://schemas.openxmlformats.org/officeDocument/2006/relationships/hyperlink" Target="http://tools.ietf.org/wg/ccamp/" TargetMode="External"/><Relationship Id="rId3" Type="http://schemas.openxmlformats.org/officeDocument/2006/relationships/hyperlink" Target="http://tools.ietf.org/wg/ccamp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ethernet-traffic-parameters/" TargetMode="External"/><Relationship Id="rId2" Type="http://schemas.openxmlformats.org/officeDocument/2006/relationships/hyperlink" Target="http://tools.ietf.org/wg/ccamp/draft-ietf-ccamp-ethernet-traffic-parameters/" TargetMode="External"/><Relationship Id="rId3" Type="http://schemas.openxmlformats.org/officeDocument/2006/relationships/hyperlink" Target="http://tools.ietf.org/wg/ccamp/draft-ietf-ccamp-gmpls-dcsc-channel-ext/" TargetMode="External"/><Relationship Id="rId4" Type="http://schemas.openxmlformats.org/officeDocument/2006/relationships/hyperlink" Target="http://tools.ietf.org/wg/ccamp/draft-ietf-ccamp-gmpls-dcsc-channel-ext/" TargetMode="External"/><Relationship Id="rId5" Type="http://schemas.openxmlformats.org/officeDocument/2006/relationships/hyperlink" Target="http://tools.ietf.org/wg/ccamp/draft-ietf-ccamp-gmpls-ether-svcs/" TargetMode="External"/><Relationship Id="rId6" Type="http://schemas.openxmlformats.org/officeDocument/2006/relationships/hyperlink" Target="http://tools.ietf.org/wg/ccamp/draft-ietf-ccamp-gmpls-ether-svcs/" TargetMode="External"/><Relationship Id="rId7" Type="http://schemas.openxmlformats.org/officeDocument/2006/relationships/hyperlink" Target="http://tools.ietf.org/wg/ccamp/draft-ietf-ccamp-gmpls-mef-uni/" TargetMode="External"/><Relationship Id="rId8" Type="http://schemas.openxmlformats.org/officeDocument/2006/relationships/hyperlink" Target="http://tools.ietf.org/wg/ccamp/draft-ietf-ccamp-gmpls-mef-uni/" TargetMode="External"/><Relationship Id="rId9" Type="http://schemas.openxmlformats.org/officeDocument/2006/relationships/hyperlink" Target="http://tools.ietf.org/wg/ccamp/draft-ietf-ccamp-gmpls-mln-extensions/" TargetMode="External"/><Relationship Id="rId10" Type="http://schemas.openxmlformats.org/officeDocument/2006/relationships/hyperlink" Target="http://tools.ietf.org/wg/ccamp/draft-ietf-ccamp-gmpls-mln-extensions/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gmpls-ethernet-pbb-te/" TargetMode="External"/><Relationship Id="rId2" Type="http://schemas.openxmlformats.org/officeDocument/2006/relationships/hyperlink" Target="http://tools.ietf.org/wg/ccamp/draft-ietf-ccamp-gmpls-ethernet-pbb-te/" TargetMode="External"/><Relationship Id="rId3" Type="http://schemas.openxmlformats.org/officeDocument/2006/relationships/hyperlink" Target="http://tools.ietf.org/wg/ccamp/draft-ietf-ccamp-lsp-hierarchy-bis/" TargetMode="External"/><Relationship Id="rId4" Type="http://schemas.openxmlformats.org/officeDocument/2006/relationships/hyperlink" Target="http://tools.ietf.org/wg/ccamp/draft-ietf-ccamp-lsp-hierarchy-bis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gmpls-vcat-lcas/" TargetMode="External"/><Relationship Id="rId2" Type="http://schemas.openxmlformats.org/officeDocument/2006/relationships/hyperlink" Target="http://tools.ietf.org/wg/ccamp/draft-ietf-ccamp-gmpls-vcat-lcas/" TargetMode="External"/><Relationship Id="rId3" Type="http://schemas.openxmlformats.org/officeDocument/2006/relationships/hyperlink" Target="http://tools.ietf.org/wg/ccamp/draft-ietf-ccamp-rwa-wson-framework/" TargetMode="External"/><Relationship Id="rId4" Type="http://schemas.openxmlformats.org/officeDocument/2006/relationships/hyperlink" Target="http://tools.ietf.org/wg/ccamp/draft-ietf-ccamp-rwa-wson-framework/" TargetMode="External"/><Relationship Id="rId5" Type="http://schemas.openxmlformats.org/officeDocument/2006/relationships/hyperlink" Target="http://tools.ietf.org/wg/ccamp/draft-ietf-ccamp-gmpls-ted-mib/" TargetMode="External"/><Relationship Id="rId6" Type="http://schemas.openxmlformats.org/officeDocument/2006/relationships/hyperlink" Target="http://tools.ietf.org/wg/ccamp/draft-ietf-ccamp-gmpls-ted-mib/" TargetMode="External"/><Relationship Id="rId7" Type="http://schemas.openxmlformats.org/officeDocument/2006/relationships/hyperlink" Target="http://tools.ietf.org/wg/ccamp/draft-ietf-ccamp-mpls-tp-cp-framework/" TargetMode="External"/><Relationship Id="rId8" Type="http://schemas.openxmlformats.org/officeDocument/2006/relationships/hyperlink" Target="http://tools.ietf.org/wg/ccamp/draft-ietf-ccamp-mpls-tp-cp-framework/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dpm/" TargetMode="External"/><Relationship Id="rId2" Type="http://schemas.openxmlformats.org/officeDocument/2006/relationships/hyperlink" Target="http://tools.ietf.org/wg/ccamp/draft-ietf-ccamp-dpm/" TargetMode="External"/><Relationship Id="rId3" Type="http://schemas.openxmlformats.org/officeDocument/2006/relationships/hyperlink" Target="http://tools.ietf.org/html/rfc5814" TargetMode="External"/><Relationship Id="rId4" Type="http://schemas.openxmlformats.org/officeDocument/2006/relationships/hyperlink" Target="http://tools.ietf.org/wg/ccamp/draft-ietf-ccamp-gmpls-g-694-lambda-labels/" TargetMode="External"/><Relationship Id="rId5" Type="http://schemas.openxmlformats.org/officeDocument/2006/relationships/hyperlink" Target="http://tools.ietf.org/wg/ccamp/draft-ietf-ccamp-oam-configuration-fwk/" TargetMode="External"/><Relationship Id="rId6" Type="http://schemas.openxmlformats.org/officeDocument/2006/relationships/hyperlink" Target="http://tools.ietf.org/wg/ccamp/draft-ietf-ccamp-oam-configuration-fwk/" TargetMode="External"/><Relationship Id="rId7" Type="http://schemas.openxmlformats.org/officeDocument/2006/relationships/hyperlink" Target="http://tools.ietf.org/wg/ccamp/draft-ietf-ccamp-rsvp-te-eth-oam-ext/" TargetMode="External"/><Relationship Id="rId8" Type="http://schemas.openxmlformats.org/officeDocument/2006/relationships/hyperlink" Target="http://tools.ietf.org/wg/ccamp/draft-ietf-ccamp-rsvp-te-eth-oam-ext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ac.tools.ietf.org/wg/ccamp/trac/wiki/CommsLiasons" TargetMode="External"/><Relationship Id="rId2" Type="http://schemas.openxmlformats.org/officeDocument/2006/relationships/hyperlink" Target="http://trac.tools.ietf.org/wg/ccamp/trac/wiki/CommsLiasons" TargetMode="External"/><Relationship Id="rId3" Type="http://schemas.openxmlformats.org/officeDocument/2006/relationships/hyperlink" Target="http://trac.tools.ietf.org/wg/ccamp/trac/report/3" TargetMode="External"/><Relationship Id="rId4" Type="http://schemas.openxmlformats.org/officeDocument/2006/relationships/hyperlink" Target="mailto:ccamp@ietf.or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 Berger &lt;lberger@labn.ne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rah Brungard &lt;db3546@att.co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F40-FD28-4C12-BE4D-F4C0394E92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LS-TP work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L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VPN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SA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meetings to discuss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ear as “MPLS” and, if needed, PWE3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s all I-Ds for al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AF5-C41D-4F46-8543-2E05B88A17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MPLS-TP Control Plan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507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ct new work based on TP-CP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identified open areas which will be addressed through normal WG process (already happ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RFC 54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ymmetric bandwidth bidirectional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as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s Track needed MPLS-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 a bis before the next IETF, will start as WG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inder: Pick the right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AMP: LSP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WE3: PW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of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460-0951-4D8B-B659-D44B8FE72D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.709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draft slot scheduled in the secon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elp close on-list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l discussion being organized by 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Disclosures (http://www.ietf.org/ipr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http://tools.ietf.org/html/rfc3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8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27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39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29/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30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53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datatracker.ietf.org/ipr/1332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F04-C451-4E10-9E3C-3B1BABE22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Item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LSP RSVP in C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n example of a draft that covers control of LSPs (via RSVP-TE) and control of IP flows (via classic RSV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mechanism triggered by Francois Le Fauche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n draft-berger-ccamp-assoc-info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d procedural question on how to pro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drafts, in one WG (LSP and non-L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drafts, LSPs in CCAMP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draft, in one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iscussion at last IETF and off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 from 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3, as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poll list for WG document status of related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D2B-DD87-4F10-BE59-EBAE880CAD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Process -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s/Secretary moving to IETF tools (Trac) site for WG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formation (including list of Communications and Liaisons) moved to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ac.tools.ietf.org/wg/ccamp/trac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tatus being tracked via Trac tick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hen document enters last call (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will be assigned as owners when there are ope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nd Liaisons also being tracked via 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incoming for n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rocess (think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ne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ed-in users can modify wiki and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new wiki content be coordinated with chairs/secretary or via WG mai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come required if open modify policy i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896-BBDC-4BF4-96C9-B54609BF5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document status is always available at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ols.ietf.org/wg/ccamp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 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G L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hai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ESG/AD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ETF L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FC Edi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206360"/>
                <a:tab algn="l" pos="3538440"/>
                <a:tab algn="l" pos="543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95D-EE81-4A79-9686-6BD74363A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F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6868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RF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e since last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FC Editor’s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ethernet-traffic-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gmpls-dcsc-channel-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gmpls-ether-sv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gmpls-mef-u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etf-ccamp-gmpls-mln-exten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D23-FD25-4B8E-A9A8-B1C1533ED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SG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gmpls-ethernet-pbb-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iting on update from 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lsp-hierarchy-b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718-6D68-464F-8FE3-53D7626EE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–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WG Last 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gmpls-vcat-l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on chairs for Proto writ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etf-ccamp-rwa-wson-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on chairs for Proto writ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gmpls-ted-mi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 for update post Expert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hange from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 expected within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need another LC (joint with MP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mpls-tp-cp-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d joint LC with PWE3 and MP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ison received from ITU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joint MPLS-T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969-D74B-4993-8E62-1945D50EF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Not on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dp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on document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FC 5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send comments to the 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-ietf-ccamp-gmpls-g-694-lambda-lab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, Ready for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tf-ccamp-oam-configuration-fw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since last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raf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etf-ccamp-rsvp-te-eth-oam-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ccamp-rsvp-te-sdh-otn-oam-ex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since last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A26-A3E3-4CD9-89B2-A15D64FF4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Drafts on the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507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wa-wson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eneral-constraint-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signal-compatibility-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wson-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gmpls-g709-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-ietf-ccamp-rsvp-te-mpls-tp-oam-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AC0-B8B1-45F8-9B67-927221A47C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s Sent/Rece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U-T SG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d four Liaisons from June’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bda Switch Capabl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on G.709 efforts in IET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NT standardization work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process initiated for G.7714.1 rev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regarding Interface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eived and reply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F and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send informal communications on Etherne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ki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ac.tools.ietf.org/wg/ccamp/trac/wiki/CommsLi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cket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rac.tools.ietf.org/wg/ccamp/trac/repor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review the incoming documents and comment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camp@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8th IETF CCAMP 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B25-AF3B-4088-AD9A-214EA4BDD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7:15:36Z</dcterms:created>
  <dc:creator>deborah</dc:creator>
  <dc:description/>
  <dc:language>en-US</dc:language>
  <cp:lastModifiedBy>Lou Berger</cp:lastModifiedBy>
  <dcterms:modified xsi:type="dcterms:W3CDTF">2010-07-24T14:32:13Z</dcterms:modified>
  <cp:revision>219</cp:revision>
  <dc:subject/>
  <dc:title>ccamp template</dc:title>
</cp:coreProperties>
</file>