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3C1-E72B-4D82-BEFE-134D03A6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1A9-4B7B-43FF-A6AB-D4784EFE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9C0-DC6E-420F-89E0-403883A5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D40-20AA-4A79-9AE4-7BF9E9BE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DE2-951B-41F1-BAFD-2055C5A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B00-2546-4259-9074-325E2F98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2CC-857C-47AF-8BF3-199E16E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385-8D82-4E07-99FB-7FBC7985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CE2-41E6-40B6-BEA7-18B993D4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BCF-AE46-40FD-97C1-C76F75F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784-97A1-4CF7-89F5-39342DBB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F70-4C0B-4D1C-A42B-26123106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3B4A-683B-40B3-B968-546EFA4032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li@huawei.com" TargetMode="External"/><Relationship Id="rId2" Type="http://schemas.openxmlformats.org/officeDocument/2006/relationships/hyperlink" Target="mailto:daniele.ceccarelli@ericsson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1000" y="571320"/>
            <a:ext cx="774684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P Behavior Nego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5120" y="2590560"/>
            <a:ext cx="76453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CCAMP WG, IETF 78th, Maastricht, Netherland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ft-li-ccamp-lmp-behavior-negotiation-01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an L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anli@huawei.com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. Ceccarell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aniele.ceccarelli@ericsson.com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930200">
            <a:off x="159480" y="48384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ew Author Ad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000" y="406080"/>
            <a:ext cx="77468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320" y="1726920"/>
            <a:ext cx="81277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 LMP behaviors and protocol extensions are being introdu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FC 4204: Basic LMP Messages (Msg Type 1-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FC 4207: TRACE behavior for SDH/SONET (Msg Type 21-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FC 4209: DWDM behavior (C-type 2 in CONFIG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FC 5818: Data Channel Consistency Check behavior (Msg Type 32-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raft-ceccarelli-ccamp-gmpls-g709-lmp-test: Trace behavior for evolutive OTN (C-type TBA in TRACE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Unfortunatel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no procedure to discover the LMP capabilities of peer LSRs is defined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9888800">
            <a:off x="516600" y="551880"/>
            <a:ext cx="170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ference Upd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000" y="406080"/>
            <a:ext cx="77468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nhanced Behavio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828800"/>
            <a:ext cx="8102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fig Message (Msg Type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Config Message&gt; ::=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Common Header&g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LOCAL_CCID&gt; &lt;MESSAGE_I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LOCAL_NODE_ID&gt; &lt;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FIG Class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    C-Type = 1, HelloConfig, defined in [RFC42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    C-Type = 2, LMP_WDM_CONFIG, defined in [RFC420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o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-Type = 3, ENHANCED_BEHAVIOR_CONFIG </a:t>
            </a:r>
            <a:r>
              <a:rPr b="1" lang="zh-CN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Newly defin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000" y="406080"/>
            <a:ext cx="77468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C-Type (3)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240" y="1663560"/>
            <a:ext cx="8280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e format of the new type of CONFIG Class is defined as follow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Reserved        |M|O|W|S|        Reserved       |D|T|F|V|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&lt;----- Architecture Flags ----&gt;|&lt;-----  Capability Flags -----&gt;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 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– MPLS-TP; O – OTN; W – WDM; S – SONET/S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y 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– RFC 5818; T – Trace Monitoring; F – Fault Management; V – Verif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e Reserved fiel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sent as zero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ST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ignored on receipt. This allows the detection of supported/unsupported LMP behavi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88800">
            <a:off x="441720" y="51084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ormat Chan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1000" y="406080"/>
            <a:ext cx="77468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1000" y="1828440"/>
            <a:ext cx="774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opt as a WG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impl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with LMP extensions of G.709 (OTN)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-ceccarelli-ccamp-gmpls-g709-lmp-test-02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0-07-15T04:50:07Z</dcterms:modified>
  <cp:revision>3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79163942</vt:lpwstr>
  </property>
</Properties>
</file>