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843-6DB2-460B-930C-126D21A8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D77-FD53-4B1C-8D7E-0644ECA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D1A-F0E2-4B32-93B7-17F45633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B08-D7EA-4814-A36E-14721D2D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DD7-C6A7-475C-A557-8DBEFCE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20C-67AF-4C8A-9D95-374E06F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F6F-5237-442D-BCE9-4E74202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125-36FB-4CB9-8B22-0FF6755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BDB-E133-4773-9665-605E815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308-3BAF-43C5-9859-F43B90E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1A1-27D2-4007-BB0E-FBE81E5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F4C-0A79-4C8B-A21F-4A1DA47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ED21-0FD8-4C0F-9F14-BF026DAFA8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li@huawei.com" TargetMode="External"/><Relationship Id="rId2" Type="http://schemas.openxmlformats.org/officeDocument/2006/relationships/hyperlink" Target="mailto:daniele.ceccarelli@ericsson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000" y="57132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P Behavior Nego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5120" y="2590560"/>
            <a:ext cx="76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CCAMP WG, IETF 78th, Maastricht, Netherland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ft-li-ccamp-lmp-behavior-negotiation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an L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nli@huawei.co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. Ceccarell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aniele.ceccarelli@ericsson.co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930200">
            <a:off x="159480" y="48384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ew Author Ad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1726920"/>
            <a:ext cx="81277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 LMP behaviors and protocol extensions are being introdu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4: Basic LMP Messages (Msg Type 1-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7: TRACE behavior for SDH/SONET (Msg Type 21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9: DWDM behavior (C-type 2 in CONFIG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5818: Data Channel Consistency Check behavior (Msg Type 32-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raft-ceccarelli-ccamp-gmpls-g709-lmp-test: Trace behavior for evolutive OTN (C-type TBA in TRACE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Unfortunatel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no procedure to discover the LMP capabilities of peer LSRs is defined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9888800">
            <a:off x="516600" y="551880"/>
            <a:ext cx="170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ference Upd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nhanced Behavio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828800"/>
            <a:ext cx="8102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fig Message (Msg Type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Config Message&gt; ::=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Common Header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LOCAL_CCID&gt; &lt;MESSAGE_I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LOCAL_NODE_ID&gt; &lt;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FIG Class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    C-Type = 1, HelloConfig, defined in [RFC42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    C-Type = 2, LMP_WDM_CONFIG, defined in [RFC42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o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-Type = 3, ENHANCED_BEHAVIOR_CONFIG </a:t>
            </a:r>
            <a:r>
              <a:rPr b="1" lang="zh-CN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Newly defin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C-Type (3)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663560"/>
            <a:ext cx="8280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format of the new type of CONFIG Class is defined as follow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Reserved        |M|O|W|S|        Reserved       |D|T|F|V|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&lt;----- Architecture Flags ----&gt;|&lt;-----  Capability Flags -----&gt;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 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– MPLS-TP; O – OTN; W – WDM; S – SONET/S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y 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– RFC 5818; T – Trace Monitoring; F – Fault Management; V – Verif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Reserved fiel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sent as zero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ignored on receipt. This allows the detection of supported/unsupported LMP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88800">
            <a:off x="441720" y="51084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mat Ch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1000" y="1828440"/>
            <a:ext cx="774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as a W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impl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with LMP extensions of G.709 (OTN)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-ceccarelli-ccamp-gmpls-g709-lmp-test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07-15T04:50:07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79163942</vt:lpwstr>
  </property>
</Properties>
</file>