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C67-7E52-47DA-9041-3D0319F1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055-7AC6-4FEA-9009-F565E0B2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636-7BB7-4EEB-A204-414DD134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FB2-0CF1-4CF6-BFDD-4BA1B40E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803-5CDB-4EA5-AD6C-B070610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381-31FA-4A3E-9869-E211EC8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5CE-6DB6-4938-B393-A5A6596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E4F-CAE1-487A-8D7C-631EBEF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D72-EB85-4F18-972B-8E6E774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934-EA1B-418F-AFED-A4E427F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EDD-F866-45C9-9DD4-3DC2C9A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EF9-8379-4D16-9727-0AD9A99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F245-A408-45EF-B141-D8C1A1614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U-T/OIF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alcolm Betts &amp; Kam Lam for ITU-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F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F met Jul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ble work on 100G and electrica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networking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ay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to-end multi-domain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lane oper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in OTN-oriented interop demonstration fo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aisons to IETF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SG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May-June ‘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aison to CCAMP from SG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OTNT Work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plan for ITU-T Transport Network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list of other bodies and their activities, including IETF CCAMP (could use CCAMP re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update in February ’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aison to CCAMP from Q6/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to CCAMP liaison on lambda-switch capable eq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6 currently sees no change needed to G.697 based on CCAMP work on lambda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for continued information exchange in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Q.14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.14/15 met June ‘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– updat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874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4.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aison to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CCAMP of consent of G.7714.1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protocol for automated discovery for SDH and O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new version provided in the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.12/15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June ‘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i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N multistag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 G.aon (architecture for all optical network)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PLS-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PLS-TP 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liaison to C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ponse to CCAMP liaison on OTN and WS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s differences between G.709 (2009) and previous T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lected in new Amd 2 of G.872 (atta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est CCAMP “carefully consider” topology for G.7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ok at transitional link construct in G.8080 Amd 2 (atta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a multi-layer topology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ssible uniform approach to multilaye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Q12&amp;14/15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MPLS-TP-CP-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commenters – not nec.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12&amp;14 requests opportunity to review the document again prior to its being submitted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ighligh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0:52:27Z</dcterms:modified>
  <cp:revision>76</cp:revision>
  <dc:subject/>
  <dc:title>ITU/OIF Report</dc:title>
</cp:coreProperties>
</file>