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B03-DCE8-436B-87BF-16AECC9F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A35-220C-4F87-A62C-49B6CF06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324-0FC5-44E2-A276-BD7183CB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987-2FFB-4B51-8D5F-B31904BC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0E3-DB44-4700-886F-E928BB1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79F-27C2-4AAE-855E-FB4A419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984-1E72-4BF9-8157-D073513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1CF-DED6-4085-971C-5C7CEA2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1BF-877D-4B6B-888D-7581A3E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42F-0D01-419C-9148-CE52E2D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3E7-235B-4E9E-8AE3-433F26F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937-2F49-416C-87B1-1D76F6ED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17E-66B1-47BF-8B95-6BBEB967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-T/OI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alcolm Betts &amp; Kam Lam for ITU-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F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F met Jul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work on 100G and electric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etworking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ay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multi-domain rest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lane oper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in OTN-oriented interop demonstration fo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aisons to IETF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May-June ‘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 from SG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OTNT Work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plan for ITU-T Transport Network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list of other bodies and their activities, including IETF CCAMP (could use CCAMP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update in February ’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 from Q6/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CCAMP liaison on lambda-switch capable eq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6 currently sees no change needed to G.697 based on CCAMP work on lambda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for continued information exchange in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Q.14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.14/15 met June ‘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– updat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874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4.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77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aison to C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CCAMP of consent of G.7714.1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protocol for automated discovery for SDH and O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new version provided in the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12/15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June ‘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multistag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G.aon (architecture for all optical network)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PLS-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PLS-TP 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liaison to C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ponse to CCAMP liaison on OTN and WS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s differences between G.709 (2009) and previous T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lected in new Amd 2 of G.872 (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est CCAMP “carefully consider” topology for G.7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ok at transitional link construct in G.8080 Amd 2 (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a multi-layer topology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ssible uniform approach to multilaye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Q12&amp;14/15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MPLS-TP-CP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commenters – not nec.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12&amp;14 requests opportunity to review the document again prior to its being submitted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ighligh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0:52:27Z</dcterms:modified>
  <cp:revision>76</cp:revision>
  <dc:subject/>
  <dc:title>ITU/OIF Report</dc:title>
</cp:coreProperties>
</file>