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46C0C-5018-4D01-81AA-CF71A177D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FA network analyser too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10-07-1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4F48E-2BA3-4015-9D22-5BD7C1117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FA network analyser too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10-07-1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5EB44-3E99-4B79-809C-D262F174B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FA network analyser too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10-07-1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DCCB1-6DDB-4562-A86B-3A1A9D081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3541-A576-4B7E-BE1B-2564E8C45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D03E-0302-4D89-9FC1-E681BDBF8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D0B9-73A7-4119-878D-AF0D669A0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9231-D9E6-46E6-8DFC-16C780BD6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8DF8-A470-4722-98E1-349972DC1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5753-9505-4DD1-81AE-0399568A9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2AA7-1F1C-4506-84FC-3E998562D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F9E5-B461-4283-928F-3C0119B9A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9F56-B31D-4F46-9D9E-44DB3E1F3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360E-0A60-4265-8E02-C40FF261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77E0-788D-4355-BA30-EA3E9A7E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9396-2E1B-40E9-9B2D-0DB0789C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24029-660D-4F33-A13A-287450DB6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lyong@ciena.co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FC 5787bi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ft-malis-ccamp-rfc5787bis-00.t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77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TF 78 – Maastricht – Jul’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. Ong (Ciena)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yong@ciena.c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behalf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y Malis (andrew.g.malis@verizon.c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ee Lindem (acee.lindem@ericsson.c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: move ASON extensions from Experimental to Standards T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lecting experience gained from implementation and interoperabilit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inology and IANA section changes due to shift from Experimental to Standards T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es 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tions reorganized to explain terminology before defining prefix extensions (clar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fix format change to reference RFC 5786 rather than defining a separate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dural change to allow advertisement of multiple Node Attribute TLVs when router supports multiple TE Router I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3840" y="560160"/>
            <a:ext cx="782640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outing Information Advertis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Within an RC, each level of supported RA represented as an OSPF inst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mport/Export Rules govern advertisement upward or downward in the RA hierach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Greatly simplified from RFC 57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ection of RA to advertise information has been removed. It was flawed from the beginning. If required, a mechanism that works could be added in subsequent work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isinformation regarding OSPF flooding remov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ection on reconfiguration removed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3840" y="560160"/>
            <a:ext cx="782640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-RA Loop Prev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6720" y="1375920"/>
            <a:ext cx="8352000" cy="51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ust prevent routing information advertised upward or downward in the RA hierarchy is not readvertised into an RA from which is was advertise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or routing information advertised downward, must simply assure that routing information is never advertised upward since an RA at level N is fully contained by an RA at level N+1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or routing information advertised upward, one must assure that it is not advertised downward into the RA from which is was received. Since an RA at level N may fully contain multiple RAs at level N-1, checking the originating RA is necessary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3840" y="560160"/>
            <a:ext cx="782640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-RA Loop Prevention - Continu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52000" cy="51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wo new Sub-TLVs to be included in the Router Advertisement TLV, Link-TLV, and Node Attribute T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nter-RA Export Upward Sub-TLV – Includes advertising RA ID for comparison when exporting downwar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nter-RA Export Downward Sub-TLV – Advertising RA ID for not needed for loop prevention – included for debugging purpo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ew Sub-TLVs must be retained with the routing information for comparison when exporting information upward or downward based on policy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tion 5.1 on ident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Pi is the data plane e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Li is the control plane representation of 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Ri is its associated control plane 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Somewhat unclear what is put into Router Address TL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Esp. Ri vs. Li - text mentions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Ri provides the routing function, Li may not participate in control pl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arallelogram 4"/>
          <p:cNvSpPr/>
          <p:nvPr/>
        </p:nvSpPr>
        <p:spPr>
          <a:xfrm>
            <a:off x="990720" y="4724280"/>
            <a:ext cx="6858000" cy="685800"/>
          </a:xfrm>
          <a:prstGeom prst="parallelogram">
            <a:avLst>
              <a:gd name="adj" fmla="val 25000"/>
            </a:avLst>
          </a:prstGeom>
          <a:solidFill>
            <a:srgbClr val="badde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ube 5"/>
          <p:cNvSpPr/>
          <p:nvPr/>
        </p:nvSpPr>
        <p:spPr>
          <a:xfrm>
            <a:off x="2133720" y="5867280"/>
            <a:ext cx="457200" cy="381240"/>
          </a:xfrm>
          <a:prstGeom prst="cube">
            <a:avLst>
              <a:gd name="adj" fmla="val 25000"/>
            </a:avLst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Cube 6"/>
          <p:cNvSpPr/>
          <p:nvPr/>
        </p:nvSpPr>
        <p:spPr>
          <a:xfrm>
            <a:off x="2133720" y="4876920"/>
            <a:ext cx="457200" cy="380880"/>
          </a:xfrm>
          <a:prstGeom prst="cube">
            <a:avLst>
              <a:gd name="adj" fmla="val 25000"/>
            </a:avLst>
          </a:pr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arallelogram 7"/>
          <p:cNvSpPr/>
          <p:nvPr/>
        </p:nvSpPr>
        <p:spPr>
          <a:xfrm>
            <a:off x="914400" y="3733920"/>
            <a:ext cx="6858000" cy="685800"/>
          </a:xfrm>
          <a:prstGeom prst="parallelogram">
            <a:avLst>
              <a:gd name="adj" fmla="val 25000"/>
            </a:avLst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Cube 8"/>
          <p:cNvSpPr/>
          <p:nvPr/>
        </p:nvSpPr>
        <p:spPr>
          <a:xfrm>
            <a:off x="2057400" y="3886200"/>
            <a:ext cx="457200" cy="380880"/>
          </a:xfrm>
          <a:prstGeom prst="cube">
            <a:avLst>
              <a:gd name="adj" fmla="val 25000"/>
            </a:avLst>
          </a:pr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traight Connector 10"/>
          <p:cNvSpPr/>
          <p:nvPr/>
        </p:nvSpPr>
        <p:spPr>
          <a:xfrm>
            <a:off x="2313720" y="5257800"/>
            <a:ext cx="95400" cy="60948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traight Connector 11"/>
          <p:cNvSpPr/>
          <p:nvPr/>
        </p:nvSpPr>
        <p:spPr>
          <a:xfrm>
            <a:off x="2285280" y="4267080"/>
            <a:ext cx="95400" cy="6098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traight Connector 12"/>
          <p:cNvSpPr/>
          <p:nvPr/>
        </p:nvSpPr>
        <p:spPr>
          <a:xfrm>
            <a:off x="2362320" y="42670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ube 14"/>
          <p:cNvSpPr/>
          <p:nvPr/>
        </p:nvSpPr>
        <p:spPr>
          <a:xfrm>
            <a:off x="2895480" y="4876920"/>
            <a:ext cx="457200" cy="380880"/>
          </a:xfrm>
          <a:prstGeom prst="cube">
            <a:avLst>
              <a:gd name="adj" fmla="val 25000"/>
            </a:avLst>
          </a:pr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1T21:54:55Z</dcterms:created>
  <dc:creator>CIENA Corporation</dc:creator>
  <dc:description/>
  <dc:language>en-US</dc:language>
  <cp:lastModifiedBy>lyong</cp:lastModifiedBy>
  <dcterms:modified xsi:type="dcterms:W3CDTF">2010-07-24T21:07:07Z</dcterms:modified>
  <cp:revision>85</cp:revision>
  <dc:subject/>
  <dc:title>ITU/OIF Report</dc:title>
</cp:coreProperties>
</file>