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C4DE-F0F6-426A-84AF-3C619F0B6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network analyser 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-07-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C25B-5922-4998-8AD5-486C8D58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network analyser 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-07-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57A1-C8A0-4C99-97E5-4770D0A8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network analyser 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-07-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CCB-2066-452B-8294-A1655D66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FD5-6A29-4FC6-BC25-600CACFE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EA8-4023-438E-9428-962BA54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05F-EAFC-4BF9-BB07-4253C7B4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38F-554C-45A2-B13B-8AAB710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59F-0998-4262-92BB-74991BBD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EEA-A05F-4336-9B81-A5A19EF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1D1-7C79-4267-BC39-CC5457E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E77-40C0-4C65-9BB0-FF37125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D41-C566-4E46-8CF3-7F6F0EA6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4FA-E6B3-4C0A-95FF-3934415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C97-433D-4153-92FF-6ACAF31A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259-2CF5-4406-A20F-3CDD399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DD11-951C-4079-82FB-E2A8F3B9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ong@ciena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C 5787bi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malis-ccamp-rfc5787bis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78 – Maastricht – Jul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Ong (Ciena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ong@ciena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behalf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Malis (andrew.g.malis@verizon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e Lindem (acee.lindem@ericsson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move ASON extensions from Experimental to Standards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ng experience gained from implementation and interoper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and IANA section changes due to shift from Experimental to Standards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e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s reorganized to explain terminology before defining prefix extensions (cla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 format change to reference RFC 5786 rather than defining a separat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al change to allow advertisement of multiple Node Attribute TLVs when router supports multiple TE Router 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uting Information Adverti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in an RC, each level of supported RA represented as an OSPF in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ort/Export Rules govern advertisement upward or downward in the RA hiera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eatly simplified from RFC 5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ction of RA to advertise information has been removed. It was flawed from the beginning. If required, a mechanism that works could be added in subsequent wor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sinformation regarding OSPF flooding remo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ction on reconfiguration remov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-RA Loop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st prevent routing information advertised upward or downward in the RA hierarchy is not readvertised into an RA from which is was adverti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routing information advertised downward, must simply assure that routing information is never advertised upward since an RA at level N is fully contained by an RA at level N+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routing information advertised upward, one must assure that it is not advertised downward into the RA from which is was received. Since an RA at level N may fully contain multiple RAs at level N-1, checking the originating RA is necessar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-RA Loop Prevention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520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wo new Sub-TLVs to be included in the Router Advertisement TLV, Link-TLV, and Node Attribute 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r-RA Export Upward Sub-TLV – Includes advertising RA ID for comparison when exporting downw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r-RA Export Downward Sub-TLV – Advertising RA ID for not needed for loop prevention – included for debugging purpo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w Sub-TLVs must be retained with the routing information for comparison when exporting information upward or downward based on polic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.1 on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Pi is the data plane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Li is the control plane representation of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i is its associated control plane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Somewhat unclear what is put into Router Address T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sp. Ri vs. Li - text mentions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i provides the routing function, Li may not participate in control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arallelogram 4"/>
          <p:cNvSpPr/>
          <p:nvPr/>
        </p:nvSpPr>
        <p:spPr>
          <a:xfrm>
            <a:off x="990720" y="4724280"/>
            <a:ext cx="6858000" cy="685800"/>
          </a:xfrm>
          <a:prstGeom prst="parallelogram">
            <a:avLst>
              <a:gd name="adj" fmla="val 25000"/>
            </a:avLst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5"/>
          <p:cNvSpPr/>
          <p:nvPr/>
        </p:nvSpPr>
        <p:spPr>
          <a:xfrm>
            <a:off x="2133720" y="5867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6"/>
          <p:cNvSpPr/>
          <p:nvPr/>
        </p:nvSpPr>
        <p:spPr>
          <a:xfrm>
            <a:off x="2133720" y="4876920"/>
            <a:ext cx="457200" cy="380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arallelogram 7"/>
          <p:cNvSpPr/>
          <p:nvPr/>
        </p:nvSpPr>
        <p:spPr>
          <a:xfrm>
            <a:off x="914400" y="3733920"/>
            <a:ext cx="6858000" cy="685800"/>
          </a:xfrm>
          <a:prstGeom prst="parallelogram">
            <a:avLst>
              <a:gd name="adj" fmla="val 250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8"/>
          <p:cNvSpPr/>
          <p:nvPr/>
        </p:nvSpPr>
        <p:spPr>
          <a:xfrm>
            <a:off x="2057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>
            <a:off x="2313720" y="5257800"/>
            <a:ext cx="95400" cy="609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1"/>
          <p:cNvSpPr/>
          <p:nvPr/>
        </p:nvSpPr>
        <p:spPr>
          <a:xfrm>
            <a:off x="2285280" y="4267080"/>
            <a:ext cx="95400" cy="6098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2362320" y="4267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be 14"/>
          <p:cNvSpPr/>
          <p:nvPr/>
        </p:nvSpPr>
        <p:spPr>
          <a:xfrm>
            <a:off x="2895480" y="4876920"/>
            <a:ext cx="457200" cy="380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1:54:55Z</dcterms:created>
  <dc:creator>CIENA Corporation</dc:creator>
  <dc:description/>
  <dc:language>en-US</dc:language>
  <cp:lastModifiedBy>lyong</cp:lastModifiedBy>
  <dcterms:modified xsi:type="dcterms:W3CDTF">2010-07-24T21:07:07Z</dcterms:modified>
  <cp:revision>85</cp:revision>
  <dc:subject/>
  <dc:title>ITU/OIF Report</dc:title>
</cp:coreProperties>
</file>