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2578-6898-4785-9DB8-26A424F2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1A2-6CA1-4C9A-8C59-F2F6B98B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08F8-94E9-43F4-8A19-B1A047B1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BA8-0BC0-42AE-91A7-3A04617B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1913-23E6-4D3C-87A5-EE07C2C1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B4D-CDC2-43E3-94E7-B0E2133E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639-E315-4E1D-A11F-1B288B8A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70C-5FB3-409B-AB18-4D2332BD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CC7-C5EF-4760-B9F9-72E316A5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91C9-A8F9-46C8-8EBF-A9DE2E54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204-4354-4283-BF57-820C54D5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7FB2-17B6-470D-869C-C9A2CF40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0162-DB08-424A-9B36-C495E36B5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roch@ciena.com" TargetMode="External"/><Relationship Id="rId2" Type="http://schemas.openxmlformats.org/officeDocument/2006/relationships/hyperlink" Target="mailto:thierry.marcot@orange-ftgroup.com" TargetMode="External"/><Relationship Id="rId3" Type="http://schemas.openxmlformats.org/officeDocument/2006/relationships/hyperlink" Target="mailto:lyong@ciena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quirements for auto-config of control plane adjacency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roch-ccamp-reqts-auto-adj-01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78 – Maastricht – Jul’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Roch (Ciena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roch@ciena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. Marcot (France Telecom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ierry.marcot@orange-ftgroup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. Ong (Ciena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yong@ciena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of dynamically signaled hierarchical L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presented at IETF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multiple client layers and address s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to draft-ietf-ccamp-lsp-hierarchy-bis-08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multiple LSP_INTERFACE_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er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additional sub-TLV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ddress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LSP_INTERFACE_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103480"/>
            <a:ext cx="67057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-NUM=193, C-Type =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     CLIENT_1_LSP_TUNNEL_INTERFACE_ID TLV             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                 ...                                  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     CLIENT_N_LSP_TUNNEL_INTERFACE_ID TLV             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783480" y="240840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7391520" y="24084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sub-TLV for each client layer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86640" y="1407960"/>
            <a:ext cx="654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LSP_INTERFACE_ID that allows multiple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ach CLIENT_LSP_TUNNEL_INTERFACE_ID TVL has the following form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Length               |     Reserved  |    Type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Encoding Type | Switching Type| Signal Type   |   Reserved    |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LSP_TUNNEL_INTERFACE_ID TLV (without header)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the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783480" y="27432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70866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783480" y="23623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086600" y="19810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is C-Type corresponding to forma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 rot="5400000">
            <a:off x="7696080" y="2590920"/>
            <a:ext cx="1067040" cy="1218960"/>
          </a:xfrm>
          <a:custGeom>
            <a:avLst/>
            <a:gdLst>
              <a:gd name="textAreaLeft" fmla="*/ 156240 w 1067040"/>
              <a:gd name="textAreaRight" fmla="*/ 910800 w 1067040"/>
              <a:gd name="textAreaTop" fmla="*/ 178200 h 1218960"/>
              <a:gd name="textAreaBottom" fmla="*/ 1040760 h 12189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ub-TLVs for address S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ype 3 (TBD) RC PC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Routing Controller Protocol Controller Identifier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ype 4 (TBD) RC PC IPv4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Routing Controller Protocol Controller Reachable IPv4 Addres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ype 5 (TBD) SC PC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Signaling Controller Protocol Controller Identifier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ype 6 (TBD) SC PC IPv4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Signaling Controller Protocol Controller Reachable IPv4 Address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21:54:55Z</dcterms:created>
  <dc:creator>CIENA Corporation</dc:creator>
  <dc:description/>
  <dc:language>en-US</dc:language>
  <cp:lastModifiedBy>lyong</cp:lastModifiedBy>
  <dcterms:modified xsi:type="dcterms:W3CDTF">2010-07-24T21:14:39Z</dcterms:modified>
  <cp:revision>83</cp:revision>
  <dc:subject/>
  <dc:title>ITU/OIF Report</dc:title>
</cp:coreProperties>
</file>