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2FA7-418E-40C5-8A61-51D1D0FBF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40BB-2385-4B9F-8172-A117C193E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3103-31CE-49DA-9338-3BB70062A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DF5D-C2C0-4116-A4E9-0ACD2DE8A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5E30-7C9D-4C80-B579-3F90BDA28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B669-4969-4832-823F-28B969FAA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C518-06CC-4F61-AA2A-2EF5FE4C2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3BF7-D456-422E-BC70-0837F5AA1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383C-2D04-4392-B248-06213FE1D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C2A0-4915-4696-9C71-9D6836D8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9F64-9EC0-4138-884D-5D1666731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5920-9366-4C2E-88CA-E502ACDF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A66D8-32EE-4791-8FCB-A57AB3E23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eroch@ciena.com" TargetMode="External"/><Relationship Id="rId2" Type="http://schemas.openxmlformats.org/officeDocument/2006/relationships/hyperlink" Target="mailto:thierry.marcot@orange-ftgroup.com" TargetMode="External"/><Relationship Id="rId3" Type="http://schemas.openxmlformats.org/officeDocument/2006/relationships/hyperlink" Target="mailto:lyong@ciena.com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quirements for auto-config of control plane adjacency</a:t>
            </a:r>
            <a:br>
              <a:rPr sz="36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-roch-ccamp-reqts-auto-adj-01.t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70106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TF 78 – Maastricht – Jul’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 Roch (Ciena)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roch@ciena.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. Marcot (France Telecom)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hierry.marcot@orange-ftgroup.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. Ong (Ciena)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lyong@ciena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of dynamically signaled hierarchical LS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ments presented at IETF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for multiple client layers and address sep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sions to draft-ietf-ccamp-lsp-hierarchy-bis-08.t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Ex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for multiple LSP_INTERFACE_I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per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s additional sub-TLV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ddress s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LSP_INTERFACE_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2103480"/>
            <a:ext cx="670572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-NUM=193, C-Type =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                   1                   2                  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 1 2 3 4 5 6 7 8 9 0 1 2 3 4 5 6 7 8 9 0 1 2 3 4 5 6 7 8 9 0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                                              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~              CLIENT_1_LSP_TUNNEL_INTERFACE_ID TLV             ~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                                              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                                              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~                          ...                                  ~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                                              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                                              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~              CLIENT_N_LSP_TUNNEL_INTERFACE_ID TLV             ~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                                              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6783480" y="2408400"/>
            <a:ext cx="48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7391520" y="240840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a sub-TLV for each client layer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386640" y="1407960"/>
            <a:ext cx="654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LSP_INTERFACE_ID that allows multiple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6840" y="1904760"/>
            <a:ext cx="67057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ach CLIENT_LSP_TUNNEL_INTERFACE_ID TVL has the following form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                   1                   2                  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 1 2 3 4 5 6 7 8 9 0 1 2 3 4 5 6 7 8 9 0 1 2 3 4 5 6 7 8 9 0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         Length               |     Reserved  |    Type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Encoding Type | Switching Type| Signal Type   |   Reserved    |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        LSP_TUNNEL_INTERFACE_ID TLV (without header)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ing the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6783480" y="27432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7086600" y="29718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y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783480" y="236232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7086600" y="198108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is C-Type corresponding to format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2"/>
          <p:cNvSpPr/>
          <p:nvPr/>
        </p:nvSpPr>
        <p:spPr>
          <a:xfrm rot="5400000">
            <a:off x="7696080" y="2590920"/>
            <a:ext cx="1067040" cy="1218960"/>
          </a:xfrm>
          <a:custGeom>
            <a:avLst/>
            <a:gdLst>
              <a:gd name="textAreaLeft" fmla="*/ 156240 w 1067040"/>
              <a:gd name="textAreaRight" fmla="*/ 910800 w 1067040"/>
              <a:gd name="textAreaTop" fmla="*/ 178200 h 1218960"/>
              <a:gd name="textAreaBottom" fmla="*/ 1040760 h 121896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Sub-TLVs for address S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ype 3 (TBD) RC PC 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                   1                   2                  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 1 2 3 4 5 6 7 8 9 0 1 2 3 4 5 6 7 8 9 0 1 2 3 4 5 6 7 8 9 0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    Routing Controller Protocol Controller Identifier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ype 4 (TBD) RC PC IPv4 Add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Routing Controller Protocol Controller Reachable IPv4 Address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ype 5 (TBD) SC PC 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    Signaling Controller Protocol Controller Identifier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ype 6 (TBD) SC PC IPv4 Add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Signaling Controller Protocol Controller Reachable IPv4 Address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1T21:54:55Z</dcterms:created>
  <dc:creator>CIENA Corporation</dc:creator>
  <dc:description/>
  <dc:language>en-US</dc:language>
  <cp:lastModifiedBy>lyong</cp:lastModifiedBy>
  <dcterms:modified xsi:type="dcterms:W3CDTF">2010-07-24T21:14:39Z</dcterms:modified>
  <cp:revision>83</cp:revision>
  <dc:subject/>
  <dc:title>ITU/OIF Report</dc:title>
</cp:coreProperties>
</file>