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3A1-2F46-47E6-8A32-E59FD59C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8E8-787D-4B9F-8482-4DAB527D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253-D8D5-49C2-94F2-01190531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461-A97D-43BB-9745-A1DAE920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EF9-EBB9-4020-9332-8735533C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D56-964C-415B-BFBE-6F43B80F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65C-7D55-42F1-85B8-5A990100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7B0-237F-48B2-9B35-68C2F061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700-5341-49DC-B261-4DC202CB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C57-CD04-491F-A33A-17E79F3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9F4-B3C2-4107-B377-840D214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BEF-0592-4D0F-9793-9E998A19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7D7D-1B99-4DE3-9B89-3FF0784B8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ong@ciena.com" TargetMode="External"/><Relationship Id="rId2" Type="http://schemas.openxmlformats.org/officeDocument/2006/relationships/hyperlink" Target="mailto:remi.theillaud@marben-products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ET/SDH B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ong-gmpls-ason-routing-exper-02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8 – Maastricht – Jul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ong@cien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Malis (andrew.g.malis@verizon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i Theillaud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mi.theillaud@marben-products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7 other people who don’t “get” the IS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posals regarding RFC 5787 now in draft-malis-ccamp-rfc5787bis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issue is optimization of SONET/SDH bandwidth adverti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d out and attempting to develop common solution with OTN advertisement (also TDM) as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D identifies switching capability, encoding typ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4202/3 and RFC 5787 suggest using multiple ISCDs to advertise for different SONET/SDH sign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lot of overhead and duplic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ularly if the TDM network does not support eight levels of priority – priority is not specified as a feature of 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lies on “min. reservable bandwidth” to distinguish one ISCD from another (since SC and encoding type are the s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e one ISCD for the smallest size signal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provides a high level bandwidth estimate in a generi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 with a TDM-specific object to carry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per signal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arries those priority levels supported (or no pri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act and easily interpreted for T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7-24T21:08:47Z</dcterms:modified>
  <cp:revision>86</cp:revision>
  <dc:subject/>
  <dc:title>ITU/OIF Report</dc:title>
</cp:coreProperties>
</file>