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9636-866B-4284-B09F-57FBB21E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A966-7844-45AE-A92A-E875E1F6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C72-1264-403E-AE99-27886D5B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CC2-8422-4321-84D8-CE2431F3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BCF-A8AF-4691-A050-201D821C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24F3-149A-45E5-9232-B55F918D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D13C-F5B0-4E49-905D-F74EA4AD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5A89-7DF4-41F2-A52F-D1081885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8CBD-F09C-4BC1-8120-C10E8B3E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4296-7366-4222-936F-684A14FE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0298-E525-4BB8-BCAC-E57A7FD3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3F0-6398-4358-85F1-83F15C8D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3D13-86B0-4061-965D-346789391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yong@ciena.com" TargetMode="External"/><Relationship Id="rId2" Type="http://schemas.openxmlformats.org/officeDocument/2006/relationships/hyperlink" Target="mailto:remi.theillaud@marben-products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ET/SDH BW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ong-gmpls-ason-routing-exper-02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78 – Maastricht – Jul’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. Ong (Ciena)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yong@cien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y Malis (andrew.g.malis@verizon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i Theillaud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mi.theillaud@marben-products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7 other people who don’t “get” the IS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roposals regarding RFC 5787 now in draft-malis-ccamp-rfc5787bis-00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issue is optimization of SONET/SDH bandwidth adverti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d out and attempting to develop common solution with OTN advertisement (also TDM) as requ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D identifies switching capability, encoding type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 4202/3 and RFC 5787 suggest using multiple ISCDs to advertise for different SONET/SDH signal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lot of overhead and duplicat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ularly if the TDM network does not support eight levels of priority – priority is not specified as a feature of 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lies on “min. reservable bandwidth” to distinguish one ISCD from another (since SC and encoding type are the s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tise one ISCD for the smallest size signal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provides a high level bandwidth estimate in a generic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ement with a TDM-specific object to carry more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 per signal 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arries those priority levels supported (or no prio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act and easily interpreted for T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21:54:55Z</dcterms:created>
  <dc:creator>CIENA Corporation</dc:creator>
  <dc:description/>
  <dc:language>en-US</dc:language>
  <cp:lastModifiedBy>lyong</cp:lastModifiedBy>
  <dcterms:modified xsi:type="dcterms:W3CDTF">2010-07-24T21:08:47Z</dcterms:modified>
  <cp:revision>86</cp:revision>
  <dc:subject/>
  <dc:title>ITU/OIF Report</dc:title>
</cp:coreProperties>
</file>