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3F34B-0657-46D8-9EDC-0A0A177932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7EC38-1C01-4DAE-9167-3247BBBC686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D1167-5819-4261-AEC2-5670F174DB5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A0779-09AD-4EAA-90E6-6A43CCB1746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8ABB7-9DF6-4073-AD87-82D65F38424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3157B-3A06-4B5B-B0CE-AF213148924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F3D16-FF94-4765-9196-95BE39C2299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41231-CC45-4ACF-B973-F2A5A81EC7D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49454-48F0-486F-87D7-54E39E1C089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C4AEB-38AA-411F-9D2E-8955F2D9453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53A23-5C3C-49FD-B24A-9D82399019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167BC-53C4-4678-99BD-966BD8890A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636084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  <a:defRPr b="0" lang="de-DE" sz="1200" spc="-1" strike="noStrike">
                <a:solidFill>
                  <a:srgbClr val="000000"/>
                </a:solidFill>
                <a:latin typeface="FrutigerNext LT Bold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5728DEE9-CF16-4FDD-BB47-1D6E2AD4A2E5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" name=""/>
          <p:cNvSpPr/>
          <p:nvPr/>
        </p:nvSpPr>
        <p:spPr>
          <a:xfrm>
            <a:off x="3710880" y="6438960"/>
            <a:ext cx="19893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Confiden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190800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2-35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0-32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0-22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18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18-2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18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9199440" y="1424160"/>
            <a:ext cx="1049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" name=""/>
          <p:cNvSpPr/>
          <p:nvPr/>
        </p:nvSpPr>
        <p:spPr>
          <a:xfrm>
            <a:off x="9269280" y="3429000"/>
            <a:ext cx="9194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12" name=""/>
            <p:cNvSpPr/>
            <p:nvPr/>
          </p:nvSpPr>
          <p:spPr>
            <a:xfrm flipV="1">
              <a:off x="9540720" y="3788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9725040" y="3788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>
              <a:off x="9909000" y="378864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>
              <a:off x="9354960" y="3788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17" name=""/>
            <p:cNvSpPr/>
            <p:nvPr/>
          </p:nvSpPr>
          <p:spPr>
            <a:xfrm flipV="1">
              <a:off x="9540720" y="400464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9725040" y="4004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>
              <a:off x="9909000" y="400464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V="1">
              <a:off x="9354960" y="4004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" name=""/>
          <p:cNvGrpSpPr/>
          <p:nvPr/>
        </p:nvGrpSpPr>
        <p:grpSpPr>
          <a:xfrm>
            <a:off x="9354960" y="4221000"/>
            <a:ext cx="739800" cy="182880"/>
            <a:chOff x="9354960" y="4221000"/>
            <a:chExt cx="739800" cy="182880"/>
          </a:xfrm>
        </p:grpSpPr>
        <p:sp>
          <p:nvSpPr>
            <p:cNvPr id="22" name=""/>
            <p:cNvSpPr/>
            <p:nvPr/>
          </p:nvSpPr>
          <p:spPr>
            <a:xfrm flipV="1">
              <a:off x="9540720" y="4221000"/>
              <a:ext cx="184320" cy="1828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>
              <a:off x="9725040" y="4221000"/>
              <a:ext cx="183960" cy="182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V="1">
              <a:off x="9909000" y="4221000"/>
              <a:ext cx="185760" cy="182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V="1">
              <a:off x="9354960" y="4221000"/>
              <a:ext cx="185760" cy="182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" name="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27" name=""/>
            <p:cNvSpPr/>
            <p:nvPr/>
          </p:nvSpPr>
          <p:spPr>
            <a:xfrm flipV="1">
              <a:off x="9725040" y="3572640"/>
              <a:ext cx="18396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>
              <a:off x="9909000" y="357264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>
              <a:off x="9354960" y="357264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>
              <a:off x="9540720" y="3572640"/>
              <a:ext cx="18432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" name=""/>
          <p:cNvGrpSpPr/>
          <p:nvPr/>
        </p:nvGrpSpPr>
        <p:grpSpPr>
          <a:xfrm>
            <a:off x="9354960" y="4581360"/>
            <a:ext cx="739800" cy="182880"/>
            <a:chOff x="9354960" y="4581360"/>
            <a:chExt cx="739800" cy="182880"/>
          </a:xfrm>
        </p:grpSpPr>
        <p:sp>
          <p:nvSpPr>
            <p:cNvPr id="32" name=""/>
            <p:cNvSpPr/>
            <p:nvPr/>
          </p:nvSpPr>
          <p:spPr>
            <a:xfrm flipV="1">
              <a:off x="9540720" y="4581360"/>
              <a:ext cx="184320" cy="182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 flipV="1">
              <a:off x="9725040" y="4581360"/>
              <a:ext cx="18396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 flipV="1">
              <a:off x="9909000" y="4581360"/>
              <a:ext cx="185760" cy="182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 flipV="1">
              <a:off x="9354960" y="4581360"/>
              <a:ext cx="185760" cy="182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" name="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37" name=""/>
            <p:cNvSpPr/>
            <p:nvPr/>
          </p:nvSpPr>
          <p:spPr>
            <a:xfrm flipV="1">
              <a:off x="9540720" y="479664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flipV="1">
              <a:off x="9725040" y="479664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flipV="1">
              <a:off x="9909000" y="4796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flipV="1">
              <a:off x="9354960" y="4796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" name="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42" name=""/>
            <p:cNvSpPr/>
            <p:nvPr/>
          </p:nvSpPr>
          <p:spPr>
            <a:xfrm flipV="1">
              <a:off x="9540720" y="5012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>
              <a:off x="9725040" y="5012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9909000" y="5012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9354960" y="5012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47" name=""/>
            <p:cNvSpPr/>
            <p:nvPr/>
          </p:nvSpPr>
          <p:spPr>
            <a:xfrm flipV="1">
              <a:off x="9540720" y="5373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9725040" y="5373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9909000" y="5373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9354960" y="5373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52" name=""/>
            <p:cNvSpPr/>
            <p:nvPr/>
          </p:nvSpPr>
          <p:spPr>
            <a:xfrm flipV="1">
              <a:off x="9540720" y="558900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9725040" y="5589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9909000" y="5589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9354960" y="5589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57" name=""/>
            <p:cNvSpPr/>
            <p:nvPr/>
          </p:nvSpPr>
          <p:spPr>
            <a:xfrm flipV="1">
              <a:off x="9540720" y="5804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9725040" y="5804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9909000" y="5804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9354960" y="580464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62" name=""/>
            <p:cNvSpPr/>
            <p:nvPr/>
          </p:nvSpPr>
          <p:spPr>
            <a:xfrm flipV="1">
              <a:off x="9540720" y="6165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9725040" y="6165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9909000" y="6165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9354960" y="616500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67" name=""/>
            <p:cNvSpPr/>
            <p:nvPr/>
          </p:nvSpPr>
          <p:spPr>
            <a:xfrm flipV="1">
              <a:off x="9540720" y="639072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9725040" y="639072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9909000" y="639072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9354960" y="639072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72" name=""/>
            <p:cNvSpPr/>
            <p:nvPr/>
          </p:nvSpPr>
          <p:spPr>
            <a:xfrm flipV="1">
              <a:off x="9540720" y="661428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9725040" y="661428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9909000" y="661428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9354960" y="66142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508880" y="5589720"/>
            <a:ext cx="763560" cy="763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78264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36120" y="1391760"/>
            <a:ext cx="5303880" cy="1667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FrutigerNext LT Medium"/>
              </a:rPr>
              <a:t>Click to edit the title text format</a:t>
            </a:r>
            <a:endParaRPr b="1" lang="en-US" sz="43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115" name=""/>
          <p:cNvSpPr/>
          <p:nvPr/>
        </p:nvSpPr>
        <p:spPr>
          <a:xfrm>
            <a:off x="555480" y="620712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77680" y="409428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</a:rPr>
              <a:t>www.huawei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2680" y="6207120"/>
            <a:ext cx="19893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Confiden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99400" y="247680"/>
            <a:ext cx="196632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666666"/>
                </a:solidFill>
                <a:latin typeface="FrutigerNext LT Regular"/>
              </a:rPr>
              <a:t>Security Level:</a:t>
            </a:r>
            <a:r>
              <a:rPr b="1" lang="zh-CN" sz="1400" spc="-1" strike="noStrike">
                <a:solidFill>
                  <a:srgbClr val="666666"/>
                </a:solidFill>
                <a:latin typeface="FrutigerNext LT Regular"/>
                <a:ea typeface="宋体"/>
              </a:rPr>
              <a:t>内部公开</a:t>
            </a:r>
            <a:r>
              <a:rPr b="1" lang="zh-CN" sz="1400" spc="-1" strike="noStrike">
                <a:solidFill>
                  <a:srgbClr val="666666"/>
                </a:solidFill>
                <a:latin typeface="FrutigerNext LT Regular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2"/>
          </p:nvPr>
        </p:nvSpPr>
        <p:spPr>
          <a:xfrm>
            <a:off x="684360" y="282600"/>
            <a:ext cx="2133360" cy="4744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  <a:defRPr b="0" lang="zh-CN" sz="1200" spc="-1" strike="noStrike">
                <a:solidFill>
                  <a:srgbClr val="000000"/>
                </a:solidFill>
                <a:latin typeface="FrutigerNext LT Regular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fld id="{EE4557C4-23A4-4956-AF4E-7EEAD28C9C61}" type="datetime">
              <a:rPr b="0" lang="zh-CN" sz="1200" spc="-1" strike="noStrike">
                <a:solidFill>
                  <a:srgbClr val="000000"/>
                </a:solidFill>
                <a:latin typeface="FrutigerNext LT Regular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1968480" y="1322280"/>
            <a:ext cx="196848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40-47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6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7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 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4-28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1960" y="638280"/>
            <a:ext cx="7929720" cy="8697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1844640" y="898560"/>
            <a:ext cx="184464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20-3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20-30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AE29-561A-49DE-B2FE-666FC7E8BE9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71280" y="2852280"/>
            <a:ext cx="7272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r" pos="286848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CAMP WG, IETF 78th, Maastricht, Netherla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r" pos="286848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r" pos="286848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ietf-ccamp-gmpls-g709-framework-02.t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685440" y="907920"/>
            <a:ext cx="81342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work for GMPLS and PCE Control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.709 Optical Transport Networ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8520" bIns="-38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042920" y="4437000"/>
            <a:ext cx="6769080" cy="15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r" pos="2514600"/>
                <a:tab algn="l" pos="286848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Arial"/>
                <a:ea typeface="宋体"/>
              </a:rPr>
              <a:t>	</a:t>
            </a:r>
            <a:r>
              <a:rPr b="1" lang="fr-FR" sz="1800" spc="-1" strike="noStrike">
                <a:solidFill>
                  <a:srgbClr val="0000ff"/>
                </a:solidFill>
                <a:latin typeface="Arial"/>
                <a:ea typeface="宋体"/>
              </a:rPr>
              <a:t>Fatai Zhang</a:t>
            </a:r>
            <a:r>
              <a:rPr b="1" lang="fr-FR" sz="1800" spc="-1" strike="noStrike">
                <a:solidFill>
                  <a:srgbClr val="0000ff"/>
                </a:solidFill>
                <a:latin typeface="Arial"/>
                <a:ea typeface="宋体"/>
              </a:rPr>
              <a:t>	</a:t>
            </a:r>
            <a:r>
              <a:rPr b="1" lang="fr-FR" sz="1800" spc="-1" strike="noStrike">
                <a:solidFill>
                  <a:srgbClr val="0000ff"/>
                </a:solidFill>
                <a:latin typeface="Arial"/>
                <a:ea typeface="宋体"/>
              </a:rPr>
              <a:t>(zhangfatai@huawei.c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r" pos="2514600"/>
                <a:tab algn="l" pos="286848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宋体"/>
              </a:rPr>
              <a:t>Dan L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宋体"/>
              </a:rPr>
              <a:t>(danli@huawei.c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r" pos="2514600"/>
                <a:tab algn="l" pos="286848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宋体"/>
              </a:rPr>
              <a:t>Han L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宋体"/>
              </a:rPr>
              <a:t>(lihan@chinamobile.c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r" pos="2514600"/>
                <a:tab algn="l" pos="286848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rgio Belott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sergio.belotti@alcatel-lucent.i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ents of this Dra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786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FrutigerNext LT Medium"/>
              </a:rPr>
              <a:t>Informative overview of the OTN layer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FrutigerNext LT Medium"/>
              </a:rPr>
              <a:t>Connection management in OT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FrutigerNext LT Medium"/>
              </a:rPr>
              <a:t>GMPLS and PCE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rutigerNext LT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Medium"/>
              </a:rPr>
              <a:t>Hierarchy LSP in OT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rutigerNext LT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Medium"/>
              </a:rPr>
              <a:t>GMPLS Signaling extension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rutigerNext LT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Medium"/>
              </a:rPr>
              <a:t>GMPLS Routing extension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rutigerNext LT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Medium"/>
              </a:rPr>
              <a:t>GMPLS LMP extension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rutigerNext LT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Medium"/>
              </a:rPr>
              <a:t>PCEP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s from Version 00 &amp; 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78692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Added some descriptions to indicate that "No additional Switching Type and LSP Encoding Type are required".  </a:t>
            </a:r>
            <a:r>
              <a:rPr b="0" i="1" lang="en-US" sz="18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(We can just reuse OTN LSP Encoding Type &amp; Switching Type defined in RFC432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Refined the routing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Added some text to refine ODU layer Hierarchy LS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Added some text to reflect requirement to support operator policies re transporting ODU connection services (i.e., flexibility re usage of full lambda, or sub-lambda, capacity in networ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44360" y="237600"/>
            <a:ext cx="7127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Courier New"/>
              </a:rPr>
              <a:t>Switching Type  &amp; Enc. T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5640" y="1125360"/>
            <a:ext cx="77263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SP Encoding Type and Switching Type are consistent with </a:t>
            </a:r>
            <a:r>
              <a:rPr b="1" i="1" lang="en-US" sz="2000" spc="-1" strike="noStrike">
                <a:solidFill>
                  <a:srgbClr val="6600cc"/>
                </a:solidFill>
                <a:latin typeface="Arial"/>
                <a:ea typeface="ＭＳ Ｐゴシック"/>
              </a:rPr>
              <a:t>[RFC432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witching 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G.709 ODUk (Digital Path)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-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TD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G.709 Optical Channel (OCh)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-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L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LSP Encoding 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2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-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G.709 ODUk (Digital Pat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3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---&gt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G.709 Optical Channel (O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DU0/ODU1/ODU2/ODU2e/ODU3/ODU4/ODUflex/… belong to the same encoding type and switching type, They just have different switching granula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1280" y="5445000"/>
            <a:ext cx="7991280" cy="771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宋体"/>
              </a:rPr>
              <a:t>Infinite number of switching granularitie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宋体"/>
              </a:rPr>
              <a:t>                        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宋体"/>
              </a:rPr>
              <a:t>-&gt; one single tech layer from CP persp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Courier New"/>
              </a:rPr>
              <a:t>OTN Routing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11280" y="907920"/>
            <a:ext cx="7993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following requirements should be considered for OTN rou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upport for carrying t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link multiplexing 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cate which LO ODUj can be multiplexed into the ODU switching capable TE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upport for carrying the supported TS granul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.e., 1.25G / 2.5G TS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upport any ODUs and ODUf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DUflex has some features which are different from ODUj (j=0/1/2/2e/3/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upport for differentiating between link multiplexing capacity and link rate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support operator policies re transporting ODU connection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upport flexible priorities for resource re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ther no priorities or up to 8 priority levels as defined in [RFC420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upport link bund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the same or different types of ODU switching capable TE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411280" y="6308640"/>
            <a:ext cx="4392720" cy="353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Need to be updated fur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90400" y="2376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Courier New"/>
              </a:rPr>
              <a:t>ODU layer Hierarchy L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1280" y="1413000"/>
            <a:ext cx="7993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data plane perspective, requirements of multi-stage multiplexing are being discussed in ITU-T SG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roducing dedicated boards in a few specific places in the network to provide an ODUk tunnel to carry the client ODUj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ction and representation of such constraints is F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connection management/control model should be consistent with Hierarchy LSP about ML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6600cc"/>
                </a:solidFill>
                <a:latin typeface="Arial"/>
                <a:ea typeface="ＭＳ Ｐゴシック"/>
              </a:rPr>
              <a:t>(</a:t>
            </a:r>
            <a:r>
              <a:rPr b="0" i="1" lang="en-US" sz="1600" spc="-1" strike="noStrike">
                <a:solidFill>
                  <a:srgbClr val="6600cc"/>
                </a:solidFill>
                <a:latin typeface="Arial"/>
                <a:ea typeface="ＭＳ Ｐゴシック"/>
              </a:rPr>
              <a:t>RFC4206</a:t>
            </a:r>
            <a:r>
              <a:rPr b="0" lang="en-US" sz="1600" spc="-1" strike="noStrike">
                <a:solidFill>
                  <a:srgbClr val="6600cc"/>
                </a:solidFill>
                <a:latin typeface="Arial"/>
                <a:ea typeface="ＭＳ Ｐゴシック"/>
              </a:rPr>
              <a:t>, </a:t>
            </a:r>
            <a:r>
              <a:rPr b="0" i="1" lang="en-US" sz="1600" spc="-1" strike="noStrike">
                <a:solidFill>
                  <a:srgbClr val="6600cc"/>
                </a:solidFill>
                <a:latin typeface="Arial"/>
                <a:ea typeface="ＭＳ Ｐゴシック"/>
              </a:rPr>
              <a:t>RFC4206bis</a:t>
            </a:r>
            <a:r>
              <a:rPr b="0" lang="en-US" sz="1600" spc="-1" strike="noStrike">
                <a:solidFill>
                  <a:srgbClr val="6600cc"/>
                </a:solidFill>
                <a:latin typeface="Arial"/>
                <a:ea typeface="ＭＳ Ｐゴシック"/>
              </a:rPr>
              <a:t>, </a:t>
            </a:r>
            <a:r>
              <a:rPr b="0" i="1" lang="en-US" sz="1600" spc="-1" strike="noStrike">
                <a:solidFill>
                  <a:srgbClr val="6600cc"/>
                </a:solidFill>
                <a:latin typeface="Arial"/>
                <a:ea typeface="ＭＳ Ｐゴシック"/>
              </a:rPr>
              <a:t>draft-ietf-ccamp-gmpls-mln-extensions</a:t>
            </a:r>
            <a:r>
              <a:rPr b="0" lang="en-US" sz="1600" spc="-1" strike="noStrike">
                <a:solidFill>
                  <a:srgbClr val="6600cc"/>
                </a:solidFill>
                <a:latin typeface="Arial"/>
                <a:ea typeface="ＭＳ Ｐゴシック"/>
              </a:rPr>
              <a:t> and other related documen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e ODUj connection can be nested into another ODUk connection (j&lt;k), which forms the LSP hierarchy in ODU lay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to create H-LSP is already defined in the existing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264320" y="3357720"/>
            <a:ext cx="6573600" cy="353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Termination cap. and switching cap. will be added in the 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90400" y="2376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Courier New"/>
              </a:rPr>
              <a:t>Full-Lambda / Sub-Lambda L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11280" y="981000"/>
            <a:ext cx="799308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Network policy/planning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 pre-configured 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Full-Lambda LS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DUk connection consuming the full lambda rate of OTUk li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 ODUj (j &lt; k) can be multiplexed into full-lambda ODUk L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ub-Lambda LS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DUj connection which can choose either directly over OTUk links or muxing into OD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549440" y="3645000"/>
            <a:ext cx="5032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917800" y="3645000"/>
            <a:ext cx="5032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9080" y="3645000"/>
            <a:ext cx="5032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940360" y="3645000"/>
            <a:ext cx="5032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310520" y="3645000"/>
            <a:ext cx="5032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0" name=""/>
          <p:cNvCxnSpPr>
            <a:stCxn id="295" idx="3"/>
            <a:endCxn id="296" idx="1"/>
          </p:cNvCxnSpPr>
          <p:nvPr/>
        </p:nvCxnSpPr>
        <p:spPr>
          <a:xfrm>
            <a:off x="2052360" y="3897000"/>
            <a:ext cx="865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1" name=""/>
          <p:cNvCxnSpPr>
            <a:stCxn id="296" idx="3"/>
            <a:endCxn id="297" idx="1"/>
          </p:cNvCxnSpPr>
          <p:nvPr/>
        </p:nvCxnSpPr>
        <p:spPr>
          <a:xfrm>
            <a:off x="3421080" y="3897000"/>
            <a:ext cx="10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2" name=""/>
          <p:cNvCxnSpPr>
            <a:stCxn id="297" idx="3"/>
            <a:endCxn id="298" idx="1"/>
          </p:cNvCxnSpPr>
          <p:nvPr/>
        </p:nvCxnSpPr>
        <p:spPr>
          <a:xfrm>
            <a:off x="4932360" y="3897000"/>
            <a:ext cx="10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98" idx="3"/>
            <a:endCxn id="299" idx="1"/>
          </p:cNvCxnSpPr>
          <p:nvPr/>
        </p:nvCxnSpPr>
        <p:spPr>
          <a:xfrm>
            <a:off x="6443640" y="3897000"/>
            <a:ext cx="867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 rot="16200000">
            <a:off x="4526640" y="2734560"/>
            <a:ext cx="308160" cy="2808000"/>
          </a:xfrm>
          <a:prstGeom prst="can">
            <a:avLst>
              <a:gd name="adj" fmla="val 6314"/>
            </a:avLst>
          </a:prstGeom>
          <a:solidFill>
            <a:srgbClr val="ffff99">
              <a:alpha val="6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76720" y="4148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084720" y="4148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76720" y="4543560"/>
            <a:ext cx="28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92360" y="4363920"/>
            <a:ext cx="2448000" cy="32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  <a:ea typeface="宋体"/>
              </a:rPr>
              <a:t>ODU3 Full-Lambda L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332000" y="3789360"/>
            <a:ext cx="6624720" cy="287280"/>
            <a:chOff x="1332000" y="3789360"/>
            <a:chExt cx="6624720" cy="287280"/>
          </a:xfrm>
        </p:grpSpPr>
        <p:sp>
          <p:nvSpPr>
            <p:cNvPr id="310" name=""/>
            <p:cNvSpPr/>
            <p:nvPr/>
          </p:nvSpPr>
          <p:spPr>
            <a:xfrm>
              <a:off x="1332000" y="3789360"/>
              <a:ext cx="1657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989440" y="3789360"/>
              <a:ext cx="358920" cy="287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348360" y="4076640"/>
              <a:ext cx="27367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085080" y="3789360"/>
              <a:ext cx="288720" cy="287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73800" y="3789360"/>
              <a:ext cx="1582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2052720" y="3860640"/>
            <a:ext cx="792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OTU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516720" y="3860640"/>
            <a:ext cx="792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OTU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492360" y="3645000"/>
            <a:ext cx="79236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OTU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005440" y="3645000"/>
            <a:ext cx="792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OTU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4360" y="3500280"/>
            <a:ext cx="8269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  <a:ea typeface="宋体"/>
              </a:rPr>
              <a:t>ODU1 L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549440" y="5299200"/>
            <a:ext cx="5032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17800" y="5299200"/>
            <a:ext cx="5032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29080" y="5299200"/>
            <a:ext cx="5032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940360" y="5299200"/>
            <a:ext cx="5032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310520" y="5299200"/>
            <a:ext cx="5032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20" idx="3"/>
            <a:endCxn id="321" idx="1"/>
          </p:cNvCxnSpPr>
          <p:nvPr/>
        </p:nvCxnSpPr>
        <p:spPr>
          <a:xfrm>
            <a:off x="2052360" y="5551200"/>
            <a:ext cx="865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6" name=""/>
          <p:cNvCxnSpPr>
            <a:stCxn id="321" idx="3"/>
            <a:endCxn id="322" idx="1"/>
          </p:cNvCxnSpPr>
          <p:nvPr/>
        </p:nvCxnSpPr>
        <p:spPr>
          <a:xfrm>
            <a:off x="3421080" y="5551200"/>
            <a:ext cx="10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" name=""/>
          <p:cNvCxnSpPr>
            <a:stCxn id="322" idx="3"/>
            <a:endCxn id="323" idx="1"/>
          </p:cNvCxnSpPr>
          <p:nvPr/>
        </p:nvCxnSpPr>
        <p:spPr>
          <a:xfrm>
            <a:off x="4932360" y="5551200"/>
            <a:ext cx="10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8" name=""/>
          <p:cNvCxnSpPr>
            <a:stCxn id="323" idx="3"/>
            <a:endCxn id="324" idx="1"/>
          </p:cNvCxnSpPr>
          <p:nvPr/>
        </p:nvCxnSpPr>
        <p:spPr>
          <a:xfrm>
            <a:off x="6443640" y="5551200"/>
            <a:ext cx="867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29" name=""/>
          <p:cNvSpPr/>
          <p:nvPr/>
        </p:nvSpPr>
        <p:spPr>
          <a:xfrm rot="16200000">
            <a:off x="4525920" y="4389480"/>
            <a:ext cx="309600" cy="2808000"/>
          </a:xfrm>
          <a:prstGeom prst="can">
            <a:avLst>
              <a:gd name="adj" fmla="val 6314"/>
            </a:avLst>
          </a:prstGeom>
          <a:solidFill>
            <a:srgbClr val="ffff99">
              <a:alpha val="6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76720" y="58024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084720" y="58024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76720" y="6199200"/>
            <a:ext cx="28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490200" y="6019920"/>
            <a:ext cx="2454120" cy="32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  <a:ea typeface="宋体"/>
              </a:rPr>
              <a:t>ODU2 Sub-Lambda L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052720" y="5514840"/>
            <a:ext cx="792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OTU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516720" y="5514840"/>
            <a:ext cx="792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OTU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492360" y="5299200"/>
            <a:ext cx="79236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OTU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05440" y="5299200"/>
            <a:ext cx="792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OTU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987640" y="5084280"/>
            <a:ext cx="3386160" cy="646560"/>
            <a:chOff x="2987640" y="5084280"/>
            <a:chExt cx="3386160" cy="646560"/>
          </a:xfrm>
        </p:grpSpPr>
        <p:sp>
          <p:nvSpPr>
            <p:cNvPr id="339" name=""/>
            <p:cNvSpPr/>
            <p:nvPr/>
          </p:nvSpPr>
          <p:spPr>
            <a:xfrm>
              <a:off x="2989440" y="5443560"/>
              <a:ext cx="358560" cy="287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48000" y="5730840"/>
              <a:ext cx="27367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084720" y="5443560"/>
              <a:ext cx="289080" cy="287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2987640" y="5084280"/>
              <a:ext cx="0" cy="358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6372360" y="5084280"/>
              <a:ext cx="0" cy="358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619280" y="4832280"/>
            <a:ext cx="273672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  <a:ea typeface="宋体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78483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 the routing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TS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termination cap. and switching c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, CCAMP requirements,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 the description about full-lambda LSP and sub-lambda L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 it according to the feedback from the meeting or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01:40:59Z</dcterms:created>
  <dc:creator> </dc:creator>
  <dc:description/>
  <dc:language>en-US</dc:language>
  <cp:lastModifiedBy>Fatai Zhang</cp:lastModifiedBy>
  <dcterms:modified xsi:type="dcterms:W3CDTF">2010-07-27T22:29:35Z</dcterms:modified>
  <cp:revision>63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79246964</vt:lpwstr>
  </property>
</Properties>
</file>