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605F2-8E87-437C-979F-FACDF601C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8F1C0-A364-403C-A9BE-9D3B42880D5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81C03-F10F-4D46-9055-E4CD7F50856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CB1BB-615E-4BA8-A16F-19B3A49189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27FD9-130B-48BC-9BF2-FAB8E8FA15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6A526-EB6C-4334-A5BF-ED250A6F8B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19E69-A2C7-4CDD-A3B7-0F31460F700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C5478-34DB-49CE-9322-EA536BB1133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4413C-4E07-4307-A3EB-7A4CDA38D01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B46C5-F400-4CA1-8F42-E4A6E60F8C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E87DF-45D3-467D-8AA9-486DE5146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7DFA5-14D3-40AE-BE5D-422DC5453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A7A876CF-FAF2-428B-911D-0B0D2467AD07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宋体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CA027C83-8870-4489-85F1-7A589C7D42EE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4B5E-18BA-4AE1-8FBD-23D5B1ED28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71280" y="2852280"/>
            <a:ext cx="7272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86848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CAMP WG, IETF 78th, Maastricht, Netherl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86848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86848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etf-ccamp-gmpls-g709-framework-02.t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5440" y="907920"/>
            <a:ext cx="81342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GMPLS and PCE Control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709 Optical Transport 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42920" y="4437000"/>
            <a:ext cx="6769080" cy="15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514600"/>
                <a:tab algn="l" pos="286848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宋体"/>
              </a:rPr>
              <a:t>Fatai Zhang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宋体"/>
              </a:rPr>
              <a:t>(zhangfatai@huawei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514600"/>
                <a:tab algn="l" pos="286848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Dan L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(danli@huawei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514600"/>
                <a:tab algn="l" pos="286848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Han L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(lihan@chinamobile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514600"/>
                <a:tab algn="l" pos="286848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rgio Belot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sergio.belotti@alcatel-lucent.i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 of this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utigerNext LT Medium"/>
              </a:rPr>
              <a:t>Informative overview of the OTN lay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utigerNext LT Medium"/>
              </a:rPr>
              <a:t>Connection management in OT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utigerNext LT Medium"/>
              </a:rPr>
              <a:t>GMPLS and PCE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Hierarchy LSP in O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GMPLS Signaling exten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GMPLS Routing exten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GMPLS LMP exten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PCEP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from Version 00 &amp; 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869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Added some descriptions to indicate that "No additional Switching Type and LSP Encoding Type are required".  </a:t>
            </a:r>
            <a:r>
              <a:rPr b="0" i="1" lang="en-US" sz="18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(We can just reuse OTN LSP Encoding Type &amp; Switching Type defined in RFC43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Refined the routing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Added some text to refine ODU layer Hierarchy LS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Added some text to reflect requirement to support operator policies re transporting ODU connection services (i.e., flexibility re usage of full lambda, or sub-lambda, capacity in net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4360" y="237600"/>
            <a:ext cx="71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Switching Type  &amp; Enc.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1125360"/>
            <a:ext cx="77263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 Encoding Type and Switching Type are consistent with </a:t>
            </a:r>
            <a:r>
              <a:rPr b="1" i="1" lang="en-US" sz="20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[RFC432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witching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.709 ODUk (Digital Path)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T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.709 Optical Channel (OCh)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L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SP Encoding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-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G.709 ODUk (Digital Pa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---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G.709 Optical Channel (O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DU0/ODU1/ODU2/ODU2e/ODU3/ODU4/ODUflex/… belong to the same encoding type and switching type, They just have different switching granul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5445000"/>
            <a:ext cx="7991280" cy="771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Infinite number of switching granulariti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-&gt; one single tech layer from CP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OTN Routing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907920"/>
            <a:ext cx="799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ollowing requirements should be considered for OTN rou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for carrying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ink multiplexing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te which LO ODUj can be multiplexed into the ODU switching capable TE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for carrying the supported TS gran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.e., 1.25G / 2.5G TS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any ODUs and ODU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DUflex has some features which are different from ODUj (j=0/1/2/2e/3/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for differentiating between link multiplexing capacity and link rate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support operator policies re transporting ODU conne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flexible priorities for resource re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ther no priorities or up to 8 priority levels as defined in [RFC420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link bund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the same or different types of ODU switching capable TE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11280" y="6308640"/>
            <a:ext cx="4392720" cy="35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eed to be updated 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904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ODU layer Hierarchy L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1413000"/>
            <a:ext cx="7993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data plane perspective, requirements of multi-stage multiplexing are being discussed in ITU-T SG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ing dedicated boards in a few specific places in the network to provide an ODUk tunnel to carry the client ODUj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ction and representation of such constraints is 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nnection management/control model should be consistent with Hierarchy LSP about ML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(</a:t>
            </a:r>
            <a:r>
              <a:rPr b="0" i="1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RFC4206</a:t>
            </a:r>
            <a:r>
              <a:rPr b="0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, </a:t>
            </a:r>
            <a:r>
              <a:rPr b="0" i="1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RFC4206bis</a:t>
            </a:r>
            <a:r>
              <a:rPr b="0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, </a:t>
            </a:r>
            <a:r>
              <a:rPr b="0" i="1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draft-ietf-ccamp-gmpls-mln-extensions</a:t>
            </a:r>
            <a:r>
              <a:rPr b="0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 and other related docu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ODUj connection can be nested into another ODUk connection (j&lt;k), which forms the LSP hierarchy in ODU la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create H-LSP is already defined in the existing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64320" y="3357720"/>
            <a:ext cx="6573600" cy="35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ermination cap. and switching cap. will be added in th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04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Full-Lambda / Sub-Lambda L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981000"/>
            <a:ext cx="7993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etwork policy/planning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pre-configured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ull-Lambda L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DUk connection consuming the full lambda rate of OTUk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 ODUj (j &lt; k) can be multiplexed into full-lambda ODUk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b-Lambda L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DUj connection which can choose either directly over OTUk links or muxing into OD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49440" y="36450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17800" y="36450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9080" y="36450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40360" y="36450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10520" y="36450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95" idx="3"/>
            <a:endCxn id="296" idx="1"/>
          </p:cNvCxnSpPr>
          <p:nvPr/>
        </p:nvCxnSpPr>
        <p:spPr>
          <a:xfrm>
            <a:off x="2052360" y="3897000"/>
            <a:ext cx="8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96" idx="3"/>
            <a:endCxn id="297" idx="1"/>
          </p:cNvCxnSpPr>
          <p:nvPr/>
        </p:nvCxnSpPr>
        <p:spPr>
          <a:xfrm>
            <a:off x="3421080" y="389700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7" idx="3"/>
            <a:endCxn id="298" idx="1"/>
          </p:cNvCxnSpPr>
          <p:nvPr/>
        </p:nvCxnSpPr>
        <p:spPr>
          <a:xfrm>
            <a:off x="4932360" y="389700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6443640" y="3897000"/>
            <a:ext cx="86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 rot="16200000">
            <a:off x="4526640" y="2734560"/>
            <a:ext cx="308160" cy="2808000"/>
          </a:xfrm>
          <a:prstGeom prst="can">
            <a:avLst>
              <a:gd name="adj" fmla="val 6314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4148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4720" y="4148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45435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92360" y="4363920"/>
            <a:ext cx="2448000" cy="3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ODU3 Full-Lambda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32000" y="3789360"/>
            <a:ext cx="6624720" cy="287280"/>
            <a:chOff x="1332000" y="3789360"/>
            <a:chExt cx="6624720" cy="287280"/>
          </a:xfrm>
        </p:grpSpPr>
        <p:sp>
          <p:nvSpPr>
            <p:cNvPr id="310" name=""/>
            <p:cNvSpPr/>
            <p:nvPr/>
          </p:nvSpPr>
          <p:spPr>
            <a:xfrm>
              <a:off x="1332000" y="3789360"/>
              <a:ext cx="16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89440" y="3789360"/>
              <a:ext cx="3589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48360" y="4076640"/>
              <a:ext cx="2736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085080" y="3789360"/>
              <a:ext cx="2887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3800" y="3789360"/>
              <a:ext cx="1582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052720" y="386064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6720" y="386064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92360" y="3645000"/>
            <a:ext cx="7923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05440" y="364500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4360" y="3500280"/>
            <a:ext cx="826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ODU1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49440" y="52992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7800" y="52992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9080" y="52992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52992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10520" y="52992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0" idx="3"/>
            <a:endCxn id="321" idx="1"/>
          </p:cNvCxnSpPr>
          <p:nvPr/>
        </p:nvCxnSpPr>
        <p:spPr>
          <a:xfrm>
            <a:off x="2052360" y="5551200"/>
            <a:ext cx="8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21" idx="3"/>
            <a:endCxn id="322" idx="1"/>
          </p:cNvCxnSpPr>
          <p:nvPr/>
        </p:nvCxnSpPr>
        <p:spPr>
          <a:xfrm>
            <a:off x="3421080" y="555120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22" idx="3"/>
            <a:endCxn id="323" idx="1"/>
          </p:cNvCxnSpPr>
          <p:nvPr/>
        </p:nvCxnSpPr>
        <p:spPr>
          <a:xfrm>
            <a:off x="4932360" y="555120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23" idx="3"/>
            <a:endCxn id="324" idx="1"/>
          </p:cNvCxnSpPr>
          <p:nvPr/>
        </p:nvCxnSpPr>
        <p:spPr>
          <a:xfrm>
            <a:off x="6443640" y="5551200"/>
            <a:ext cx="86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 rot="16200000">
            <a:off x="4525920" y="4389480"/>
            <a:ext cx="309600" cy="2808000"/>
          </a:xfrm>
          <a:prstGeom prst="can">
            <a:avLst>
              <a:gd name="adj" fmla="val 6314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58024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84720" y="58024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619920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90200" y="6019920"/>
            <a:ext cx="2454120" cy="3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ODU2 Sub-Lambda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2720" y="551484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16720" y="551484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92360" y="5299200"/>
            <a:ext cx="7923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5440" y="529920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987640" y="5084280"/>
            <a:ext cx="3386160" cy="646560"/>
            <a:chOff x="2987640" y="5084280"/>
            <a:chExt cx="3386160" cy="646560"/>
          </a:xfrm>
        </p:grpSpPr>
        <p:sp>
          <p:nvSpPr>
            <p:cNvPr id="339" name=""/>
            <p:cNvSpPr/>
            <p:nvPr/>
          </p:nvSpPr>
          <p:spPr>
            <a:xfrm>
              <a:off x="2989440" y="5443560"/>
              <a:ext cx="35856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8000" y="5730840"/>
              <a:ext cx="2736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84720" y="5443560"/>
              <a:ext cx="28908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987640" y="5084280"/>
              <a:ext cx="0" cy="358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372360" y="5084280"/>
              <a:ext cx="0" cy="358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19280" y="4832280"/>
            <a:ext cx="2736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848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the rou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S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ermination cap. and switching c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CCAMP requirements,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the description about full-lambda LSP and sub-lambda L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it according to the feedback from the meeting or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</dc:creator>
  <dc:description/>
  <dc:language>en-US</dc:language>
  <cp:lastModifiedBy>Fatai Zhang</cp:lastModifiedBy>
  <dcterms:modified xsi:type="dcterms:W3CDTF">2010-07-27T22:29:35Z</dcterms:modified>
  <cp:revision>6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246964</vt:lpwstr>
  </property>
</Properties>
</file>