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901E3-23FC-4234-930D-7DC7693698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5EE69-01C5-429B-805E-92E29B88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C0559-92AA-41B8-B4F8-686D944E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F6C72-F3AB-45FD-BBA9-81D6162E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5C24B-E499-4362-9A86-D6608EC6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A3B0-DF07-4DBA-BBEA-D38BC066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3640-A333-427C-B742-BD98BB3A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0047-0320-4735-884D-7786CC11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949B-D11D-4C46-9C59-C1F33D03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3A1F-C312-46D5-B985-9DF41875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F536-66BF-4399-B65E-E75B55A1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4FDF-CE0C-47CF-8217-C19FC2DA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A6F3D-C279-40BD-9098-F1AFE424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86D4-3AD4-4A81-9AF0-6EFF96C8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09AE-B361-489D-8B72-75B06CE3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437D-9337-40BD-8F18-C009AB60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697F-1FE0-4168-8412-850F0E89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02DF-BED8-40B4-9CB5-11FDA38A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940CB-C0C4-44BB-9B22-C6EFC6AB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93671-9EE0-44C3-A239-9F812021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4C06E-01EA-4067-ACAE-6CA095BD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9E5B9-16D3-494C-A7A1-84EAAC25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B17B0-70B5-4D1D-9C22-ACE5EF33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D11DB-7B24-444A-96DF-7EB81A29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53A6D-1A7A-4631-B803-2B6B5069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SimSu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8D65C0-F02E-4862-912B-2733E3305B9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5" name="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SimSu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2E61FB4-28E5-465F-98C8-F91C336D4AF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5776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SPF-TE extensions for GMPLS Control of Evolving G.709 OT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4436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draft-ceccarelli-ccamp-gmpls-ospf-g709-02/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SimSun"/>
              </a:rPr>
              <a:t>CCAMP WG, IETF 78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SimSun"/>
              </a:rPr>
              <a:t> Maastric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358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Compressing signal type and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4360" y="3860640"/>
            <a:ext cx="7273800" cy="6876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991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dvertising once the bandwidth common to differ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ignal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4508640"/>
            <a:ext cx="20160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ODU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ODU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ODU2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4508640"/>
            <a:ext cx="216000" cy="180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4508640"/>
            <a:ext cx="20160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00720" y="4508640"/>
            <a:ext cx="216000" cy="180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358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feedbacks from the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sh version -03 with new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feedback on the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lignment with OTN Framework and G.709 Info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4292640"/>
            <a:ext cx="82296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98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Quick overview of version -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greed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Overview of version -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Encoding format - SubTL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16360" y="1412640"/>
            <a:ext cx="4176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Priority fl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it set = priority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Non supported priorities are not adverti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Tributary s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1,25 or 2,5 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Data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Signal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ODUk sublamb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ODUk full lamb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ODUflex, ODUflex resiz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F bit (for ODUfl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F=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 Unres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F=0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 Max LSP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andwidth @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Unreserved bandwidth or Max LSP bandwidth expressed in number of T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17440" y="1197000"/>
            <a:ext cx="4210200" cy="5597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0920" y="1816200"/>
            <a:ext cx="1081080" cy="288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280" y="2133720"/>
            <a:ext cx="179640" cy="1942920"/>
          </a:xfrm>
          <a:custGeom>
            <a:avLst/>
            <a:gdLst>
              <a:gd name="textAreaLeft" fmla="*/ 114840 w 179640"/>
              <a:gd name="textAreaRight" fmla="*/ 180000 w 17964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280" y="4653000"/>
            <a:ext cx="179640" cy="1942920"/>
          </a:xfrm>
          <a:custGeom>
            <a:avLst/>
            <a:gdLst>
              <a:gd name="textAreaLeft" fmla="*/ 114840 w 179640"/>
              <a:gd name="textAreaRight" fmla="*/ 180000 w 17964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39840" y="1816200"/>
            <a:ext cx="504720" cy="288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2060640"/>
            <a:ext cx="4105080" cy="2089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Example – t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88000" y="2420640"/>
            <a:ext cx="4176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Supported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0,3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Tributary s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1,25 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Link componen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Full lambda: OD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Sub lambda: ODU0, 1, 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Link component 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Full lambda: OD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Sub lambda: ODU1, 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2133720"/>
            <a:ext cx="218880" cy="718920"/>
          </a:xfrm>
          <a:custGeom>
            <a:avLst/>
            <a:gdLst>
              <a:gd name="textAreaLeft" fmla="*/ 140040 w 218880"/>
              <a:gd name="textAreaRight" fmla="*/ 219240 w 2188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9640" y="1197000"/>
            <a:ext cx="792360" cy="1008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028000" y="1197000"/>
            <a:ext cx="792000" cy="1008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1484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1844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1197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 #1 – 8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84720" y="15494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 #2 – 32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5280" y="1241280"/>
            <a:ext cx="4270320" cy="5616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08000" y="2924280"/>
            <a:ext cx="218880" cy="718920"/>
          </a:xfrm>
          <a:custGeom>
            <a:avLst/>
            <a:gdLst>
              <a:gd name="textAreaLeft" fmla="*/ 140040 w 218880"/>
              <a:gd name="textAreaRight" fmla="*/ 219240 w 2188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8000" y="3716280"/>
            <a:ext cx="218880" cy="719280"/>
          </a:xfrm>
          <a:custGeom>
            <a:avLst/>
            <a:gdLst>
              <a:gd name="textAreaLeft" fmla="*/ 140040 w 218880"/>
              <a:gd name="textAreaRight" fmla="*/ 219240 w 2188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8000" y="4508640"/>
            <a:ext cx="218880" cy="718920"/>
          </a:xfrm>
          <a:custGeom>
            <a:avLst/>
            <a:gdLst>
              <a:gd name="textAreaLeft" fmla="*/ 140040 w 218880"/>
              <a:gd name="textAreaRight" fmla="*/ 219240 w 2188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8000" y="5229360"/>
            <a:ext cx="218880" cy="1512720"/>
          </a:xfrm>
          <a:custGeom>
            <a:avLst/>
            <a:gdLst>
              <a:gd name="textAreaLeft" fmla="*/ 140040 w 218880"/>
              <a:gd name="textAreaRight" fmla="*/ 219240 w 2188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844640"/>
            <a:ext cx="216000" cy="28908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9720" y="1844640"/>
            <a:ext cx="215640" cy="28908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22280" y="1844640"/>
            <a:ext cx="162000" cy="28908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Example – LSP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88000" y="3141360"/>
            <a:ext cx="4176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SimSun"/>
              </a:rPr>
              <a:t>LSP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– 35Gbps ODUFlex @P3 corresponding to 28 TS on LC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8000" y="2133720"/>
            <a:ext cx="218880" cy="718920"/>
          </a:xfrm>
          <a:custGeom>
            <a:avLst/>
            <a:gdLst>
              <a:gd name="textAreaLeft" fmla="*/ 140040 w 218880"/>
              <a:gd name="textAreaRight" fmla="*/ 219240 w 2188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76720" y="1628640"/>
            <a:ext cx="792360" cy="10083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85080" y="1628640"/>
            <a:ext cx="792360" cy="10083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6908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69080" y="2465280"/>
            <a:ext cx="201600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2160" y="1628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 #1 – 8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2160" y="2170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 #2 – 32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000" y="2924280"/>
            <a:ext cx="218880" cy="718920"/>
          </a:xfrm>
          <a:custGeom>
            <a:avLst/>
            <a:gdLst>
              <a:gd name="textAreaLeft" fmla="*/ 140040 w 218880"/>
              <a:gd name="textAreaRight" fmla="*/ 219240 w 2188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3716280"/>
            <a:ext cx="218880" cy="719280"/>
          </a:xfrm>
          <a:custGeom>
            <a:avLst/>
            <a:gdLst>
              <a:gd name="textAreaLeft" fmla="*/ 140040 w 218880"/>
              <a:gd name="textAreaRight" fmla="*/ 219240 w 2188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000" y="4508640"/>
            <a:ext cx="218880" cy="718920"/>
          </a:xfrm>
          <a:custGeom>
            <a:avLst/>
            <a:gdLst>
              <a:gd name="textAreaLeft" fmla="*/ 140040 w 218880"/>
              <a:gd name="textAreaRight" fmla="*/ 219240 w 2188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00" y="5229360"/>
            <a:ext cx="218880" cy="1512720"/>
          </a:xfrm>
          <a:custGeom>
            <a:avLst/>
            <a:gdLst>
              <a:gd name="textAreaLeft" fmla="*/ 140040 w 218880"/>
              <a:gd name="textAreaRight" fmla="*/ 219240 w 2188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43080" y="1225440"/>
            <a:ext cx="4327200" cy="5616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340000" y="2852640"/>
            <a:ext cx="1458720" cy="79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40000" y="3645000"/>
            <a:ext cx="1458720" cy="792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5229360"/>
            <a:ext cx="1458720" cy="1512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Example – LSP pree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88000" y="3141360"/>
            <a:ext cx="4176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SimSun"/>
              </a:rPr>
              <a:t>LSP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– 35Gbps ODUFlex @P3 corresponding to 28 TS on LC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SimSun"/>
              </a:rPr>
              <a:t>LSP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– 15 Gbps ODUFlex @P0 corresponding to 12 TS on LC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000" y="2133720"/>
            <a:ext cx="218880" cy="718920"/>
          </a:xfrm>
          <a:custGeom>
            <a:avLst/>
            <a:gdLst>
              <a:gd name="textAreaLeft" fmla="*/ 140040 w 218880"/>
              <a:gd name="textAreaRight" fmla="*/ 219240 w 2188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1628640"/>
            <a:ext cx="792360" cy="10083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85080" y="1628640"/>
            <a:ext cx="792360" cy="10083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908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69080" y="2465280"/>
            <a:ext cx="201600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42160" y="1628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 #1 – 8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42160" y="2170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 #2 – 32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8000" y="2924280"/>
            <a:ext cx="218880" cy="718920"/>
          </a:xfrm>
          <a:custGeom>
            <a:avLst/>
            <a:gdLst>
              <a:gd name="textAreaLeft" fmla="*/ 140040 w 218880"/>
              <a:gd name="textAreaRight" fmla="*/ 219240 w 2188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8000" y="3716280"/>
            <a:ext cx="218880" cy="719280"/>
          </a:xfrm>
          <a:custGeom>
            <a:avLst/>
            <a:gdLst>
              <a:gd name="textAreaLeft" fmla="*/ 140040 w 218880"/>
              <a:gd name="textAreaRight" fmla="*/ 219240 w 2188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8000" y="4508640"/>
            <a:ext cx="218880" cy="718920"/>
          </a:xfrm>
          <a:custGeom>
            <a:avLst/>
            <a:gdLst>
              <a:gd name="textAreaLeft" fmla="*/ 140040 w 218880"/>
              <a:gd name="textAreaRight" fmla="*/ 219240 w 2188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000" y="5229360"/>
            <a:ext cx="218880" cy="1512720"/>
          </a:xfrm>
          <a:custGeom>
            <a:avLst/>
            <a:gdLst>
              <a:gd name="textAreaLeft" fmla="*/ 140040 w 218880"/>
              <a:gd name="textAreaRight" fmla="*/ 219240 w 2188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2487600"/>
            <a:ext cx="201636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4000" y="1254240"/>
            <a:ext cx="4248000" cy="5559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340000" y="2852640"/>
            <a:ext cx="1458720" cy="79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3673440"/>
            <a:ext cx="1458720" cy="792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5229360"/>
            <a:ext cx="1458720" cy="1512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358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Requirements – From OTN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signal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ct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U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ecluding V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LSPs per signal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switched vs terminated,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ent with CCAMP charter and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e existing mechanisms wherever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ons permitted, but need to be Generic wherever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076720" y="1989000"/>
            <a:ext cx="3095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sensu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olution (-0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95280" y="5229360"/>
            <a:ext cx="8137440" cy="12556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New sub-T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Signal types are scoped within Switching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Compress Signal Type and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7920000" cy="709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995640" y="4653000"/>
            <a:ext cx="1008000" cy="647640"/>
          </a:xfrm>
          <a:prstGeom prst="downArrow">
            <a:avLst>
              <a:gd name="adj1" fmla="val 40472"/>
              <a:gd name="adj2" fmla="val 2892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5445000"/>
            <a:ext cx="865440" cy="4320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(-0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66800"/>
            <a:ext cx="5256000" cy="51912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435280" y="2420640"/>
            <a:ext cx="3529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ignal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ODU2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ODU 3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upported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1,2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 = 1 (terminating capa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 = 1 (switching capa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64000" y="1268280"/>
            <a:ext cx="792360" cy="10083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172360" y="1268280"/>
            <a:ext cx="792360" cy="10083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56360" y="15559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1280" y="2421000"/>
            <a:ext cx="179640" cy="2160360"/>
          </a:xfrm>
          <a:custGeom>
            <a:avLst/>
            <a:gdLst>
              <a:gd name="textAreaLeft" fmla="*/ 114840 w 179640"/>
              <a:gd name="textAreaRight" fmla="*/ 180000 w 17964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280" y="4581360"/>
            <a:ext cx="179640" cy="2160720"/>
          </a:xfrm>
          <a:custGeom>
            <a:avLst/>
            <a:gdLst>
              <a:gd name="textAreaLeft" fmla="*/ 114840 w 179640"/>
              <a:gd name="textAreaRight" fmla="*/ 180000 w 17964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6:55:26Z</dcterms:created>
  <dc:creator>diego caviglia</dc:creator>
  <dc:description/>
  <dc:language>en-US</dc:language>
  <cp:lastModifiedBy>Daniele Ceccarelli</cp:lastModifiedBy>
  <dcterms:modified xsi:type="dcterms:W3CDTF">2010-07-28T09:22:23Z</dcterms:modified>
  <cp:revision>123</cp:revision>
  <dc:subject/>
  <dc:title>CCAMP WG IETF 69 </dc:title>
</cp:coreProperties>
</file>