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7C37-4429-423D-880D-221B11E2C1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AC6F-890B-469A-A0EA-6F016D30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4AF6-34A2-4B36-B188-2E4714CB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ABCE-8B99-416A-AE60-C89E9318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97F6-B95F-4683-A561-3A1FA227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92F4-B36D-4EDD-8E27-A8653915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8C55-90B8-48B9-B621-4E81E342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B9C2-A8FE-4D4D-A8E1-FCC2DAA7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8194-B0AD-48AD-A425-89DAC4B3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BED8-B1D0-45D9-9638-99E0184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811C-6C1E-4E46-B1DD-3A3CDCAC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21A1-DEFD-42EA-8EDC-95293D5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B13C-9A9D-4341-8A91-A834BFA0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8E58-7561-457A-B3F7-00660C8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438-0145-499D-BF5C-3FC0CAE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00CB-41FB-45C3-A8C7-E669376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22D1-378A-49EA-9646-B3D07A2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420C-1601-4EEF-9548-BD286771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AEE0-3806-4DE0-81E7-F8CE46C9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29AB-3698-4F9B-B6F1-3277FA51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5025-ED3E-4566-AEE2-4E94DA42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D482-663D-486A-B349-84C4DFD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8D62-10D6-45D6-B659-7BD90D3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AE7A-CE24-4478-A5FB-6AFEF64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9F9C-A637-4F40-B92F-8021F58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5137FE-7E4E-49FA-BC5A-F2EB5177675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15183D-D093-434B-8AF8-C417F131449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raft-ceccarelli-ccamp-gmpls-ospf-g709-02/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CCAMP WG, IETF 78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 Maastric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ompressing signal type and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7273800" cy="687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91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ertising once the bandwidth common to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ign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4508640"/>
            <a:ext cx="2016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D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DU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DU2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4508640"/>
            <a:ext cx="216000" cy="180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4508640"/>
            <a:ext cx="2016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4508640"/>
            <a:ext cx="216000" cy="180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s from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version -03 with new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 on the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ignment with OTN Framework and G.709 Info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Quick overview of version 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gree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verview of version 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ncoding format - Sub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16360" y="1412640"/>
            <a:ext cx="4176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riority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it set = priority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Non supported priorities are not advert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ributary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1,25 or 2,5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at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k sublamb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k full lamb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flex, ODUflex res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 bit (for ODUf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=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Unres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=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Max LSP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andwidth @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reserved bandwidth or Max LSP bandwidth expressed in number of T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7440" y="1197000"/>
            <a:ext cx="4210200" cy="559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816200"/>
            <a:ext cx="108108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280" y="2133720"/>
            <a:ext cx="179640" cy="1942920"/>
          </a:xfrm>
          <a:custGeom>
            <a:avLst/>
            <a:gdLst>
              <a:gd name="textAreaLeft" fmla="*/ 114840 w 179640"/>
              <a:gd name="textAreaRight" fmla="*/ 180000 w 179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280" y="4653000"/>
            <a:ext cx="179640" cy="1942920"/>
          </a:xfrm>
          <a:custGeom>
            <a:avLst/>
            <a:gdLst>
              <a:gd name="textAreaLeft" fmla="*/ 114840 w 179640"/>
              <a:gd name="textAreaRight" fmla="*/ 180000 w 179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39840" y="1816200"/>
            <a:ext cx="50472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060640"/>
            <a:ext cx="4105080" cy="2089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xample – t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88000" y="2420640"/>
            <a:ext cx="41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upported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0,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ributary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1,25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Link componen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ull lambda: OD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ub lambda: ODU0, 1, 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Link componen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ull lambda: OD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ub lambda: ODU1, 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13372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1197000"/>
            <a:ext cx="79236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28000" y="1197000"/>
            <a:ext cx="79200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1484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84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19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1 – 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15494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2 – 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241280"/>
            <a:ext cx="4270320" cy="561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8000" y="292428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3716280"/>
            <a:ext cx="218880" cy="71928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00" y="450864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5229360"/>
            <a:ext cx="218880" cy="1512720"/>
          </a:xfrm>
          <a:custGeom>
            <a:avLst/>
            <a:gdLst>
              <a:gd name="textAreaLeft" fmla="*/ 140040 w 218880"/>
              <a:gd name="textAreaRight" fmla="*/ 219240 w 2188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844640"/>
            <a:ext cx="216000" cy="2890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9720" y="1844640"/>
            <a:ext cx="215640" cy="2890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22280" y="1844640"/>
            <a:ext cx="162000" cy="2890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xample – LSP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88000" y="3141360"/>
            <a:ext cx="41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SimSun"/>
              </a:rPr>
              <a:t>LS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– 35Gbps ODUFlex @P3 corresponding to 28 TS on LC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213372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7672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8508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908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9080" y="2465280"/>
            <a:ext cx="201600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2160" y="162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1 – 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2160" y="2170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2 – 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292428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3716280"/>
            <a:ext cx="218880" cy="71928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0864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5229360"/>
            <a:ext cx="218880" cy="1512720"/>
          </a:xfrm>
          <a:custGeom>
            <a:avLst/>
            <a:gdLst>
              <a:gd name="textAreaLeft" fmla="*/ 140040 w 218880"/>
              <a:gd name="textAreaRight" fmla="*/ 219240 w 2188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3080" y="1225440"/>
            <a:ext cx="4327200" cy="561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2852640"/>
            <a:ext cx="1458720" cy="7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3645000"/>
            <a:ext cx="1458720" cy="792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229360"/>
            <a:ext cx="1458720" cy="1512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xample – LSP pree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3141360"/>
            <a:ext cx="41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SimSun"/>
              </a:rPr>
              <a:t>LS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– 35Gbps ODUFlex @P3 corresponding to 28 TS on LC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SimSun"/>
              </a:rPr>
              <a:t>LS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– 15 Gbps ODUFlex @P0 corresponding to 12 TS on LC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213372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9080" y="2465280"/>
            <a:ext cx="201600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2160" y="162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1 – 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2160" y="2170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2 – 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292428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3716280"/>
            <a:ext cx="218880" cy="71928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450864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5229360"/>
            <a:ext cx="218880" cy="1512720"/>
          </a:xfrm>
          <a:custGeom>
            <a:avLst/>
            <a:gdLst>
              <a:gd name="textAreaLeft" fmla="*/ 140040 w 218880"/>
              <a:gd name="textAreaRight" fmla="*/ 219240 w 2188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487600"/>
            <a:ext cx="201636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1254240"/>
            <a:ext cx="4248000" cy="5559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40000" y="2852640"/>
            <a:ext cx="1458720" cy="7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673440"/>
            <a:ext cx="1458720" cy="792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5229360"/>
            <a:ext cx="1458720" cy="1512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Requirements – From OTN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ignal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c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ecluding V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SPs per 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witched vs terminated,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with CCAMP charter an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e existing mechanisms wherever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permitted, but need to be Generic wherever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720" y="1989000"/>
            <a:ext cx="3095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sens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olution (-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5229360"/>
            <a:ext cx="8137440" cy="1255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w sub-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Signal types are scoped within Switch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ompress Signal Type and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7920000" cy="709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95640" y="4653000"/>
            <a:ext cx="1008000" cy="647640"/>
          </a:xfrm>
          <a:prstGeom prst="downArrow">
            <a:avLst>
              <a:gd name="adj1" fmla="val 40472"/>
              <a:gd name="adj2" fmla="val 2892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445000"/>
            <a:ext cx="865440" cy="432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-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66800"/>
            <a:ext cx="5256000" cy="5191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35280" y="2420640"/>
            <a:ext cx="3529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ignal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DU2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DU 3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pporte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,2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 = 1 (terminating cap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 = 1 (switching cap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126828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2360" y="126828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56360" y="15559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280" y="2421000"/>
            <a:ext cx="179640" cy="216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280" y="4581360"/>
            <a:ext cx="179640" cy="2160720"/>
          </a:xfrm>
          <a:custGeom>
            <a:avLst/>
            <a:gdLst>
              <a:gd name="textAreaLeft" fmla="*/ 114840 w 179640"/>
              <a:gd name="textAreaRight" fmla="*/ 180000 w 179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0-07-28T09:22:23Z</dcterms:modified>
  <cp:revision>123</cp:revision>
  <dc:subject/>
  <dc:title>CCAMP WG IETF 69 </dc:title>
</cp:coreProperties>
</file>