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ETF – Maastricht, Netherlands,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95280"/>
            <a:ext cx="76320" cy="472464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066680"/>
            <a:ext cx="8077320" cy="7632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- </a:t>
            </a:r>
            <a:fld id="{29646794-5674-401F-B660-108D9DE31B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lee@huawei.com" TargetMode="External"/><Relationship Id="rId2" Type="http://schemas.openxmlformats.org/officeDocument/2006/relationships/hyperlink" Target="mailto:gregb@grotto-networking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uting and Wavelength Assignment Information Model for Wavelength Switched Optic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3962520"/>
            <a:ext cx="7086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ylee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uaw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gregb@grotto-networking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otto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9560" y="335268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aft-ietf-ccamp-wson-info-08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uthors/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Grotto Net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ego Caviglia  (Erics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nder Gavler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n 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aru Imaju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N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Jonas Martensson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aru Nishioka (NEC Cor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 Giovanni?,  ? Pier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es from 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ded shared fiber connectivity to resource pool modeling. This includes information for determining wavelength collision on an internal fiber providing access to resource blocks.  (This is a WSON specific change and does not impact general constraint enco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ing OEO Poo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block containing one or more identical resource that have identical “acces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ress and Egress connection matrices to specify “access” to the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133720"/>
            <a:ext cx="720072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1   +-------------+                       +-------------+ 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&gt;|             |      +--------+       |             |--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2   |             +------+ Rb #1  +-------+             | 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&gt;|             |      +--------+       |             |--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          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Resource    |      +--------+       |  Resource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Pool        +------+        +-------+  Pool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+ Rb #2  +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Ingress     +------+        +-------|  Egress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Connection  |      +--------+       |  Connection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Matrix      |           .           |  Matrix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     .    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     .    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   |             |      +--------+       |             | 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&gt;|             +------+ Rb #P  +-------+             |--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+--------+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------------+                       +-----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gure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chematic diagram of resource pool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505320" y="4952880"/>
            <a:ext cx="3808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038480" y="4876560"/>
            <a:ext cx="8384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5120" y="6019920"/>
            <a:ext cx="438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Only simple wavelength constraints here no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419720" y="4038480"/>
            <a:ext cx="25905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57913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Only state, if any, associated with resources in p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in modeling OEO p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looked just like previous situation, bu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67280" y="2093400"/>
            <a:ext cx="6034320" cy="3613320"/>
            <a:chOff x="1367280" y="2093400"/>
            <a:chExt cx="6034320" cy="3613320"/>
          </a:xfrm>
        </p:grpSpPr>
        <p:sp>
          <p:nvSpPr>
            <p:cNvPr id="61" name=""/>
            <p:cNvSpPr/>
            <p:nvPr/>
          </p:nvSpPr>
          <p:spPr>
            <a:xfrm>
              <a:off x="2746440" y="228600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46440" y="274320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440" y="320040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45320" y="228600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4400" y="274320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64400" y="320040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46440" y="2286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6440" y="27432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46440" y="3200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67000" y="2286000"/>
              <a:ext cx="23781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67000" y="2286000"/>
              <a:ext cx="2320920" cy="8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267000" y="2200320"/>
              <a:ext cx="236880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67000" y="2743200"/>
              <a:ext cx="234000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267000" y="2286000"/>
              <a:ext cx="23497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267000" y="2761920"/>
              <a:ext cx="234972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67280" y="2106720"/>
              <a:ext cx="14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Bk BT"/>
                </a:rPr>
                <a:t>From nod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2680" y="2557440"/>
              <a:ext cx="14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Bk BT"/>
                </a:rPr>
                <a:t>From nod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79880" y="3008160"/>
              <a:ext cx="140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Bk BT"/>
                </a:rPr>
                <a:t>From node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2480" y="210672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Bk BT"/>
                </a:rPr>
                <a:t>To nod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58240" y="255744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Bk BT"/>
                </a:rPr>
                <a:t>To nod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65440" y="3008160"/>
              <a:ext cx="113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Bk BT"/>
                </a:rPr>
                <a:t>To node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5400000">
              <a:off x="5569200" y="2602800"/>
              <a:ext cx="37332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5497560" y="2550600"/>
              <a:ext cx="277920" cy="37332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5569200" y="2145600"/>
              <a:ext cx="37332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5497560" y="2093400"/>
              <a:ext cx="277920" cy="37332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400000">
              <a:off x="5569200" y="3060000"/>
              <a:ext cx="373320" cy="269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5497560" y="3007800"/>
              <a:ext cx="277920" cy="373320"/>
            </a:xfrm>
            <a:prstGeom prst="line">
              <a:avLst/>
            </a:prstGeom>
            <a:ln w="1908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5497200" y="3932280"/>
              <a:ext cx="393120" cy="372960"/>
              <a:chOff x="5497200" y="3932280"/>
              <a:chExt cx="393120" cy="372960"/>
            </a:xfrm>
          </p:grpSpPr>
          <p:sp>
            <p:nvSpPr>
              <p:cNvPr id="89" name=""/>
              <p:cNvSpPr/>
              <p:nvPr/>
            </p:nvSpPr>
            <p:spPr>
              <a:xfrm rot="5400000">
                <a:off x="5568840" y="3983760"/>
                <a:ext cx="372960" cy="2696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 flipV="1">
                <a:off x="5497200" y="3932280"/>
                <a:ext cx="277560" cy="372960"/>
              </a:xfrm>
              <a:prstGeom prst="line">
                <a:avLst/>
              </a:prstGeom>
              <a:ln w="19080">
                <a:solidFill>
                  <a:srgbClr val="99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077560" y="2286000"/>
              <a:ext cx="4989960" cy="2696400"/>
              <a:chOff x="2077560" y="2286000"/>
              <a:chExt cx="4989960" cy="26964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3267360" y="2286000"/>
                <a:ext cx="2368440" cy="1914480"/>
                <a:chOff x="3267360" y="2286000"/>
                <a:chExt cx="2368440" cy="1914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267360" y="2286000"/>
                  <a:ext cx="2368440" cy="173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267360" y="2743200"/>
                  <a:ext cx="2349360" cy="137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267360" y="3200400"/>
                  <a:ext cx="2368440" cy="100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3267360" y="2361600"/>
                  <a:ext cx="2349360" cy="175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3267360" y="2838240"/>
                  <a:ext cx="2368440" cy="12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3267360" y="3314160"/>
                  <a:ext cx="2368440" cy="80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077560" y="3666960"/>
                <a:ext cx="4989960" cy="1315440"/>
                <a:chOff x="2077560" y="3666960"/>
                <a:chExt cx="4989960" cy="13154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864400" y="4114800"/>
                  <a:ext cx="333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664000" y="4114800"/>
                  <a:ext cx="61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168960" y="4114800"/>
                  <a:ext cx="295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2471400" y="4370400"/>
                  <a:ext cx="378360" cy="152280"/>
                  <a:chOff x="2471400" y="4370400"/>
                  <a:chExt cx="378360" cy="15228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 flipH="1">
                    <a:off x="2471400" y="4370400"/>
                    <a:ext cx="1890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>
                    <a:off x="2518560" y="4370400"/>
                    <a:ext cx="1414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>
                    <a:off x="2566080" y="4370400"/>
                    <a:ext cx="943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>
                    <a:off x="2612880" y="4370400"/>
                    <a:ext cx="4716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2660760" y="4370400"/>
                    <a:ext cx="4716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660760" y="4370400"/>
                    <a:ext cx="943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2660760" y="4370400"/>
                    <a:ext cx="1414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660760" y="4370400"/>
                    <a:ext cx="1890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 flipV="1">
                  <a:off x="2660760" y="4787640"/>
                  <a:ext cx="0" cy="1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2660400" y="4638600"/>
                  <a:ext cx="378360" cy="152280"/>
                  <a:chOff x="2660400" y="4638600"/>
                  <a:chExt cx="378360" cy="15228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H="1">
                    <a:off x="2660400" y="4638600"/>
                    <a:ext cx="1890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H="1">
                    <a:off x="2707560" y="4638600"/>
                    <a:ext cx="1414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H="1">
                    <a:off x="2755080" y="4638600"/>
                    <a:ext cx="943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>
                    <a:off x="2801880" y="4638600"/>
                    <a:ext cx="4716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2849760" y="4638600"/>
                    <a:ext cx="4716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2849760" y="4638600"/>
                    <a:ext cx="943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849760" y="4638600"/>
                    <a:ext cx="1414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849760" y="4638600"/>
                    <a:ext cx="1890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" name=""/>
                <p:cNvSpPr/>
                <p:nvPr/>
              </p:nvSpPr>
              <p:spPr>
                <a:xfrm flipV="1">
                  <a:off x="2847960" y="4527000"/>
                  <a:ext cx="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>
                  <a:off x="3041640" y="4793760"/>
                  <a:ext cx="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664000" y="4114800"/>
                  <a:ext cx="0" cy="26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077560" y="4079880"/>
                  <a:ext cx="496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cc99"/>
                      </a:solidFill>
                      <a:latin typeface="FuturaA Bk BT"/>
                    </a:rPr>
                    <a:t>ad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6080040" y="3666960"/>
                  <a:ext cx="570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cc99"/>
                      </a:solidFill>
                      <a:latin typeface="FuturaA Bk BT"/>
                    </a:rPr>
                    <a:t>dro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6153120" y="4267080"/>
                  <a:ext cx="610200" cy="152280"/>
                  <a:chOff x="6153120" y="4267080"/>
                  <a:chExt cx="610200" cy="15228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6458400" y="4267080"/>
                    <a:ext cx="3049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6458400" y="426708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458400" y="426708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458040" y="4267080"/>
                    <a:ext cx="763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>
                    <a:off x="6381720" y="4267080"/>
                    <a:ext cx="763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>
                    <a:off x="6305760" y="426708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H="1">
                    <a:off x="6229440" y="426708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>
                    <a:off x="6153120" y="4267080"/>
                    <a:ext cx="3049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"/>
                <p:cNvSpPr/>
                <p:nvPr/>
              </p:nvSpPr>
              <p:spPr>
                <a:xfrm>
                  <a:off x="6762960" y="441936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53120" y="441936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6287040" y="4443120"/>
                  <a:ext cx="34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FuturaA Bk BT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03584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67404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6687000" y="4645080"/>
                  <a:ext cx="34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FuturaA Bk BT"/>
                    </a:rPr>
                    <a:t>…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28020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91840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6458040" y="4111560"/>
                  <a:ext cx="0" cy="16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5873760" y="4492440"/>
                  <a:ext cx="1193760" cy="304920"/>
                  <a:chOff x="5873760" y="4492440"/>
                  <a:chExt cx="1193760" cy="30492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>
                    <a:off x="6610320" y="4492440"/>
                    <a:ext cx="457200" cy="30492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7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FuturaA Bk BT"/>
                      </a:rPr>
                      <a:t>Tun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7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FuturaA Bk BT"/>
                      </a:rPr>
                      <a:t>Dro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>
                    <a:off x="5873760" y="4492440"/>
                    <a:ext cx="457200" cy="30492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7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FuturaA Bk BT"/>
                      </a:rPr>
                      <a:t>Tun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7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FuturaA Bk BT"/>
                      </a:rPr>
                      <a:t>Dro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" name=""/>
                <p:cNvSpPr/>
                <p:nvPr/>
              </p:nvSpPr>
              <p:spPr>
                <a:xfrm>
                  <a:off x="2746440" y="411480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2793960" y="4793760"/>
                  <a:ext cx="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2936880" y="4793760"/>
                  <a:ext cx="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03252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14700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" name=""/>
            <p:cNvGrpSpPr/>
            <p:nvPr/>
          </p:nvGrpSpPr>
          <p:grpSpPr>
            <a:xfrm>
              <a:off x="2936880" y="4914720"/>
              <a:ext cx="4404960" cy="792000"/>
              <a:chOff x="2936880" y="4914720"/>
              <a:chExt cx="4404960" cy="792000"/>
            </a:xfrm>
          </p:grpSpPr>
          <p:cxnSp>
            <p:nvCxnSpPr>
              <p:cNvPr id="154" name=""/>
              <p:cNvCxnSpPr>
                <a:stCxn id="155" idx="1"/>
                <a:endCxn id="143" idx="0"/>
              </p:cNvCxnSpPr>
              <p:nvPr/>
            </p:nvCxnSpPr>
            <p:spPr>
              <a:xfrm flipV="1">
                <a:off x="4700160" y="4952160"/>
                <a:ext cx="1218600" cy="44820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sp>
            <p:nvSpPr>
              <p:cNvPr id="156" name=""/>
              <p:cNvSpPr/>
              <p:nvPr/>
            </p:nvSpPr>
            <p:spPr>
              <a:xfrm>
                <a:off x="6308280" y="5276880"/>
                <a:ext cx="103356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108000" bIns="10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rebuchet MS"/>
                  </a:rPr>
                  <a:t>OEO p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7" name=""/>
              <p:cNvCxnSpPr>
                <a:stCxn id="123" idx="0"/>
                <a:endCxn id="158" idx="0"/>
              </p:cNvCxnSpPr>
              <p:nvPr/>
            </p:nvCxnSpPr>
            <p:spPr>
              <a:xfrm flipH="1" rot="16200000">
                <a:off x="3281400" y="4674240"/>
                <a:ext cx="484560" cy="96588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grpSp>
            <p:nvGrpSpPr>
              <p:cNvPr id="159" name=""/>
              <p:cNvGrpSpPr/>
              <p:nvPr/>
            </p:nvGrpSpPr>
            <p:grpSpPr>
              <a:xfrm>
                <a:off x="4004640" y="5329080"/>
                <a:ext cx="694440" cy="141120"/>
                <a:chOff x="4004640" y="5329080"/>
                <a:chExt cx="694440" cy="141120"/>
              </a:xfrm>
            </p:grpSpPr>
            <p:sp>
              <p:nvSpPr>
                <p:cNvPr id="158" name=""/>
                <p:cNvSpPr/>
                <p:nvPr/>
              </p:nvSpPr>
              <p:spPr>
                <a:xfrm flipH="1" rot="16200000">
                  <a:off x="4051080" y="5281920"/>
                  <a:ext cx="141120" cy="23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rot="16200000">
                  <a:off x="4286160" y="5281920"/>
                  <a:ext cx="141120" cy="2350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 rot="16200000">
                  <a:off x="4511160" y="5282280"/>
                  <a:ext cx="141120" cy="23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61" name=""/>
              <p:cNvCxnSpPr>
                <a:stCxn id="150" idx="0"/>
                <a:endCxn id="162" idx="0"/>
              </p:cNvCxnSpPr>
              <p:nvPr/>
            </p:nvCxnSpPr>
            <p:spPr>
              <a:xfrm flipH="1" rot="16200000">
                <a:off x="3110760" y="4740480"/>
                <a:ext cx="721080" cy="106920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cxnSp>
            <p:nvCxnSpPr>
              <p:cNvPr id="163" name=""/>
              <p:cNvCxnSpPr>
                <a:stCxn id="151" idx="0"/>
                <a:endCxn id="164" idx="1"/>
              </p:cNvCxnSpPr>
              <p:nvPr/>
            </p:nvCxnSpPr>
            <p:spPr>
              <a:xfrm rot="5400000">
                <a:off x="5023080" y="4628160"/>
                <a:ext cx="684720" cy="1334160"/>
              </a:xfrm>
              <a:prstGeom prst="bentConnector2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grpSp>
            <p:nvGrpSpPr>
              <p:cNvPr id="165" name=""/>
              <p:cNvGrpSpPr/>
              <p:nvPr/>
            </p:nvGrpSpPr>
            <p:grpSpPr>
              <a:xfrm>
                <a:off x="4003200" y="5565600"/>
                <a:ext cx="694440" cy="141120"/>
                <a:chOff x="4003200" y="5565600"/>
                <a:chExt cx="694440" cy="141120"/>
              </a:xfrm>
            </p:grpSpPr>
            <p:sp>
              <p:nvSpPr>
                <p:cNvPr id="162" name=""/>
                <p:cNvSpPr/>
                <p:nvPr/>
              </p:nvSpPr>
              <p:spPr>
                <a:xfrm flipH="1" rot="16200000">
                  <a:off x="4049640" y="5518440"/>
                  <a:ext cx="141120" cy="23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rot="16200000">
                  <a:off x="4284720" y="5518440"/>
                  <a:ext cx="141120" cy="2350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 rot="16200000">
                  <a:off x="4509720" y="5518800"/>
                  <a:ext cx="141120" cy="23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7" name=""/>
          <p:cNvGrpSpPr/>
          <p:nvPr/>
        </p:nvGrpSpPr>
        <p:grpSpPr>
          <a:xfrm>
            <a:off x="914400" y="4159080"/>
            <a:ext cx="7543800" cy="2166120"/>
            <a:chOff x="914400" y="4159080"/>
            <a:chExt cx="7543800" cy="2166120"/>
          </a:xfrm>
        </p:grpSpPr>
        <p:sp>
          <p:nvSpPr>
            <p:cNvPr id="168" name=""/>
            <p:cNvSpPr/>
            <p:nvPr/>
          </p:nvSpPr>
          <p:spPr>
            <a:xfrm flipV="1">
              <a:off x="1752840" y="4159080"/>
              <a:ext cx="1218960" cy="1752480"/>
            </a:xfrm>
            <a:prstGeom prst="line">
              <a:avLst/>
            </a:prstGeom>
            <a:ln w="3816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905120" y="4234680"/>
              <a:ext cx="4191120" cy="1676520"/>
            </a:xfrm>
            <a:prstGeom prst="line">
              <a:avLst/>
            </a:prstGeom>
            <a:ln w="3816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14400" y="598788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Arial"/>
                </a:rPr>
                <a:t>These are single fibers shared by all wavelengths on ingress or eg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620120" y="2971800"/>
            <a:ext cx="1371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gure &amp; Example from Pierre Peloso and Giovanni Martinel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OEO poo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option for resource block access to be via a shared medium (fi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wavelength availability state information for the shared f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81160" y="2286000"/>
            <a:ext cx="67816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1   +-------------+                       +-------------+ 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&gt;|             |      +--------+       |             |--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2   |             +======+ Rb #1  +=======+             | 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&gt;|             |      +--------+       |             |--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          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Resource    |      +--------+       |  Resource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Pool        |      |  Pool  |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======+ Rb #2  +=======+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Ingress     |      +        |       |  Egress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Connection  |      +--------+       |  Connection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Matrix      |           .           |  Matrix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     .    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     .    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   |             |      +--------+       |             | 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&gt;|             +======+ Rb #P  +=======+             |--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|      +--------+       |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------------+                       +-----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048120" y="3886200"/>
            <a:ext cx="609480" cy="1752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124080" y="5181480"/>
            <a:ext cx="213372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57150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an be a shared fiber. Hence need wavelength state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Additions to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 Poo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ourcePoolState&gt;::=(&lt;ResourceBlockID&gt; &lt;NumResourcesInUse&gt;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&lt;InAvailableWavelengths&gt;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&lt;OutAvailableWavelengths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 Block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ourceBlockInfo&gt; ::= ([&lt;ResourceSet&gt;] &lt;InputConstraints&gt; &lt;ProcessingCapabilities&gt; &lt;OutputConstraints&gt;)*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Constraints&gt; ::=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&lt;SharedIngress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ModulationTypeList&gt; &lt;FECTypeList&gt; &lt;BitRateRange&gt; &lt;ClientSignalLi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utputConstraints&gt; :=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&lt;SharedEgress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ModulationTypeList&gt; &lt;FECTypeList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y more comme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 for last call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Young Lee</dc:creator>
  <dc:description/>
  <dc:language>en-US</dc:language>
  <cp:lastModifiedBy>Greg M. Bernstein</cp:lastModifiedBy>
  <dcterms:modified xsi:type="dcterms:W3CDTF">2010-07-14T22:05:44Z</dcterms:modified>
  <cp:revision>144</cp:revision>
  <dc:subject/>
  <dc:title>WSON Info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79144072</vt:lpwstr>
  </property>
</Properties>
</file>