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ADBC8-DC0A-43FC-A4FE-F301806B8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8D2AC-6A71-4DF7-B777-D007601F129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5AA3F-5716-4D0E-850D-C4FE5ED18F2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E1B2A-6FF6-4847-B978-DA92E9FDC01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D5002-3232-4075-BF50-FE8C5E8D42F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D875A-E2FE-4478-8BB3-3AB8778002B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106AE-76E4-42DD-932D-6CA0EA15CB3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2A256-252B-4299-8999-C32E928EFDD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BB63A-70B0-47BD-8DEC-216243687D4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C6DB5-7179-4389-A45D-49F01A77F42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62A21-7844-4FAB-A94A-2A034E288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EE952-DD65-4D0A-8423-7A25A46DE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8FA46AB6-47E3-4B8D-8091-FD12BDFE62FD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"/>
          <p:cNvSpPr/>
          <p:nvPr/>
        </p:nvSpPr>
        <p:spPr>
          <a:xfrm>
            <a:off x="3710880" y="643896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" name="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2" name="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7" name="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2" name="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7" name="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2" name="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7" name="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2" name="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7" name="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2" name="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7" name="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2" name="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7" name="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2" name="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6120" y="1391760"/>
            <a:ext cx="5303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FrutigerNext LT Medium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115" name="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7768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2680" y="620712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99400" y="247680"/>
            <a:ext cx="19663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</a:rPr>
              <a:t>Security Level: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宋体"/>
              </a:rPr>
              <a:t>内部公开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2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85536ED8-B789-409F-9A29-91671EBD6430}" type="datetime">
              <a:rPr b="0" lang="zh-CN" sz="1200" spc="-1" strike="noStrike">
                <a:solidFill>
                  <a:srgbClr val="000000"/>
                </a:solidFill>
                <a:latin typeface="FrutigerNext LT Regular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72D4-E7FC-4CFF-8905-1C269E4FC7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6560" y="2205000"/>
            <a:ext cx="741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CAMP WG, IETF 78th, Maastricht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zhang-ccamp-gmpls-evolving-g709-05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7603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MPLS Signaling Extensions for the Evolving G.709 OTN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6920" y="3933720"/>
            <a:ext cx="741708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宋体"/>
              </a:rPr>
              <a:t>Fatai Zhang 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宋体"/>
              </a:rPr>
              <a:t>&lt;zhangfatai@huawei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Guoying Zha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hangguoying@mail.ritt.com.c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Sergio Belotti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rgio.belotti@alcatel-lucent.i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Daniele Ceccarelli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aniele.ceccarelli@ericsson.co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368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from Version 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0643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2401"/>
              </a:spcBef>
              <a:buClr>
                <a:srgbClr val="0000ff"/>
              </a:buClr>
              <a:buFont typeface="FrutigerNext L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FrutigerNext LT Medium"/>
              </a:rPr>
              <a:t>Tributary Port Number (TPN) assignment by control plane</a:t>
            </a:r>
            <a:r>
              <a:rPr b="0" lang="en-US" sz="3200" spc="-1" strike="noStrike">
                <a:solidFill>
                  <a:srgbClr val="ff0000"/>
                </a:solidFill>
                <a:latin typeface="FrutigerNext LT Mediu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utigerNext LT Medium"/>
              </a:rPr>
              <a:t>is introduced in this new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FrutigerNext LT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Medium"/>
              </a:rPr>
              <a:t>Auto-MSI is deprecated by G.7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FrutigerNext LT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Medium"/>
              </a:rPr>
              <a:t>Added a section to introduce a new TPN object and describe the procedure of TPN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PN in Data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9640" y="1341360"/>
            <a:ext cx="8209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PN is carried by N MSI bytes in the OPU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 = the total number of 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Each byte indicates the multiplex structure of one 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ne TPN is assigned for the same LO ODUj in each OTUk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37080" y="4329000"/>
            <a:ext cx="129564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516720" y="4402080"/>
            <a:ext cx="1512720" cy="1295280"/>
            <a:chOff x="6516720" y="4402080"/>
            <a:chExt cx="1512720" cy="1295280"/>
          </a:xfrm>
        </p:grpSpPr>
        <p:sp>
          <p:nvSpPr>
            <p:cNvPr id="286" name=""/>
            <p:cNvSpPr/>
            <p:nvPr/>
          </p:nvSpPr>
          <p:spPr>
            <a:xfrm flipH="1" rot="5400000">
              <a:off x="6584400" y="4334400"/>
              <a:ext cx="1295280" cy="1430640"/>
            </a:xfrm>
            <a:prstGeom prst="can">
              <a:avLst>
                <a:gd name="adj" fmla="val 25000"/>
              </a:avLst>
            </a:prstGeom>
            <a:solidFill>
              <a:srgbClr val="ffff99">
                <a:alpha val="80000"/>
              </a:srgbClr>
            </a:soli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598800" y="4653000"/>
              <a:ext cx="143064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598800" y="4797360"/>
              <a:ext cx="143064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98800" y="4506840"/>
              <a:ext cx="1430640" cy="0"/>
            </a:xfrm>
            <a:prstGeom prst="line">
              <a:avLst/>
            </a:prstGeom>
            <a:ln w="57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598800" y="4940280"/>
              <a:ext cx="143064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598800" y="5229000"/>
              <a:ext cx="143064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598800" y="5084640"/>
              <a:ext cx="1430640" cy="0"/>
            </a:xfrm>
            <a:prstGeom prst="line">
              <a:avLst/>
            </a:prstGeom>
            <a:ln w="57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598800" y="5553000"/>
              <a:ext cx="1430640" cy="0"/>
            </a:xfrm>
            <a:prstGeom prst="line">
              <a:avLst/>
            </a:prstGeom>
            <a:ln w="57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843240" y="5337000"/>
              <a:ext cx="694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FrutigerNext LT Regular"/>
                  <a:ea typeface="宋体"/>
                </a:rPr>
                <a:t>…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153040" y="3757320"/>
            <a:ext cx="814320" cy="29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TPN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13680" y="3757320"/>
            <a:ext cx="797760" cy="29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TPN =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00720" y="4652640"/>
            <a:ext cx="287280" cy="360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300720" y="4797360"/>
            <a:ext cx="287280" cy="216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300720" y="4939920"/>
            <a:ext cx="287280" cy="730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00720" y="5013360"/>
            <a:ext cx="287280" cy="216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83160" y="4508640"/>
            <a:ext cx="122400" cy="863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588000" y="4053960"/>
            <a:ext cx="180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724360" y="40539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867280" y="4578480"/>
            <a:ext cx="432000" cy="650880"/>
            <a:chOff x="5867280" y="4578480"/>
            <a:chExt cx="432000" cy="650880"/>
          </a:xfrm>
        </p:grpSpPr>
        <p:grpSp>
          <p:nvGrpSpPr>
            <p:cNvPr id="305" name=""/>
            <p:cNvGrpSpPr/>
            <p:nvPr/>
          </p:nvGrpSpPr>
          <p:grpSpPr>
            <a:xfrm>
              <a:off x="5915880" y="4700160"/>
              <a:ext cx="335520" cy="406800"/>
              <a:chOff x="5915880" y="4700160"/>
              <a:chExt cx="335520" cy="4068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5915880" y="4700160"/>
                <a:ext cx="335520" cy="406800"/>
                <a:chOff x="5915880" y="4700160"/>
                <a:chExt cx="335520" cy="4068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915880" y="470016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150600" y="510696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016320" y="4700160"/>
                  <a:ext cx="133920" cy="40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915880" y="4700160"/>
                <a:ext cx="335520" cy="406800"/>
                <a:chOff x="5915880" y="4700160"/>
                <a:chExt cx="335520" cy="406800"/>
              </a:xfrm>
            </p:grpSpPr>
            <p:sp>
              <p:nvSpPr>
                <p:cNvPr id="311" name=""/>
                <p:cNvSpPr/>
                <p:nvPr/>
              </p:nvSpPr>
              <p:spPr>
                <a:xfrm flipH="1">
                  <a:off x="6150960" y="470016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5915880" y="510696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>
                  <a:off x="6017040" y="4700160"/>
                  <a:ext cx="133920" cy="40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4" name=""/>
            <p:cNvSpPr/>
            <p:nvPr/>
          </p:nvSpPr>
          <p:spPr>
            <a:xfrm>
              <a:off x="5867280" y="4578480"/>
              <a:ext cx="43200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rot="16200000">
            <a:off x="4216320" y="4341600"/>
            <a:ext cx="1280880" cy="1430280"/>
          </a:xfrm>
          <a:prstGeom prst="can">
            <a:avLst>
              <a:gd name="adj" fmla="val 25000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41800" y="4559400"/>
            <a:ext cx="143028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41800" y="4703760"/>
            <a:ext cx="143028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41800" y="4846680"/>
            <a:ext cx="143028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41800" y="4991040"/>
            <a:ext cx="143028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41800" y="5135400"/>
            <a:ext cx="143028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41800" y="5280120"/>
            <a:ext cx="143028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41800" y="5553000"/>
            <a:ext cx="143028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32480" y="5337000"/>
            <a:ext cx="695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00720" y="5697360"/>
            <a:ext cx="12222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OTU3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30920" y="569736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OTU3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5481720"/>
            <a:ext cx="5047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4329000"/>
            <a:ext cx="1081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421080" y="4578480"/>
            <a:ext cx="431640" cy="650880"/>
            <a:chOff x="3421080" y="4578480"/>
            <a:chExt cx="431640" cy="650880"/>
          </a:xfrm>
        </p:grpSpPr>
        <p:grpSp>
          <p:nvGrpSpPr>
            <p:cNvPr id="329" name=""/>
            <p:cNvGrpSpPr/>
            <p:nvPr/>
          </p:nvGrpSpPr>
          <p:grpSpPr>
            <a:xfrm>
              <a:off x="3468600" y="4700160"/>
              <a:ext cx="335520" cy="406800"/>
              <a:chOff x="3468600" y="4700160"/>
              <a:chExt cx="335520" cy="40680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3468600" y="4700160"/>
                <a:ext cx="335520" cy="406800"/>
                <a:chOff x="3468600" y="4700160"/>
                <a:chExt cx="335520" cy="4068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3468600" y="470016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703320" y="510696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569040" y="4700160"/>
                  <a:ext cx="133920" cy="40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3468600" y="4700160"/>
                <a:ext cx="335520" cy="406800"/>
                <a:chOff x="3468600" y="4700160"/>
                <a:chExt cx="335520" cy="406800"/>
              </a:xfrm>
            </p:grpSpPr>
            <p:sp>
              <p:nvSpPr>
                <p:cNvPr id="335" name=""/>
                <p:cNvSpPr/>
                <p:nvPr/>
              </p:nvSpPr>
              <p:spPr>
                <a:xfrm flipH="1">
                  <a:off x="3703680" y="470016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3468600" y="510696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3569760" y="4700160"/>
                  <a:ext cx="133920" cy="40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" name=""/>
            <p:cNvSpPr/>
            <p:nvPr/>
          </p:nvSpPr>
          <p:spPr>
            <a:xfrm>
              <a:off x="3421080" y="4578480"/>
              <a:ext cx="43164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492360" y="5445000"/>
            <a:ext cx="432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7040" y="3814200"/>
            <a:ext cx="814320" cy="29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TPN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852720" y="4543560"/>
            <a:ext cx="289080" cy="217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852720" y="4687560"/>
            <a:ext cx="289080" cy="730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52720" y="4761000"/>
            <a:ext cx="289080" cy="35856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52720" y="4761000"/>
            <a:ext cx="289080" cy="503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76560" y="4400640"/>
            <a:ext cx="123840" cy="863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17960" y="4111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68360" y="3500280"/>
          <a:ext cx="2590560" cy="2324160"/>
        </p:xfrm>
        <a:graphic>
          <a:graphicData uri="http://schemas.openxmlformats.org/drawingml/2006/table">
            <a:tbl>
              <a:tblPr/>
              <a:tblGrid>
                <a:gridCol w="863280"/>
                <a:gridCol w="1008360"/>
                <a:gridCol w="718920"/>
              </a:tblGrid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SI [i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 O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#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ODU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#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ODU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#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DU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#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DU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#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ODU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#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ODU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#7 ~ #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pSp>
        <p:nvGrpSpPr>
          <p:cNvPr id="348" name=""/>
          <p:cNvGrpSpPr/>
          <p:nvPr/>
        </p:nvGrpSpPr>
        <p:grpSpPr>
          <a:xfrm>
            <a:off x="5580000" y="4343400"/>
            <a:ext cx="289080" cy="934560"/>
            <a:chOff x="5580000" y="4343400"/>
            <a:chExt cx="289080" cy="934560"/>
          </a:xfrm>
        </p:grpSpPr>
        <p:sp>
          <p:nvSpPr>
            <p:cNvPr id="349" name=""/>
            <p:cNvSpPr/>
            <p:nvPr/>
          </p:nvSpPr>
          <p:spPr>
            <a:xfrm>
              <a:off x="5628600" y="4343400"/>
              <a:ext cx="144000" cy="86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80000" y="4559400"/>
              <a:ext cx="289080" cy="712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580000" y="4630680"/>
              <a:ext cx="289080" cy="712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5580000" y="4630680"/>
              <a:ext cx="289080" cy="504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580000" y="4630320"/>
              <a:ext cx="289080" cy="6476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 flipV="1">
            <a:off x="4932360" y="3573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060360" y="3573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60720" y="3284640"/>
            <a:ext cx="2232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MSI bytes in OPUk 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704000" y="4292640"/>
            <a:ext cx="1081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8245440" y="4581360"/>
            <a:ext cx="432000" cy="650880"/>
            <a:chOff x="8245440" y="4581360"/>
            <a:chExt cx="432000" cy="650880"/>
          </a:xfrm>
        </p:grpSpPr>
        <p:grpSp>
          <p:nvGrpSpPr>
            <p:cNvPr id="359" name=""/>
            <p:cNvGrpSpPr/>
            <p:nvPr/>
          </p:nvGrpSpPr>
          <p:grpSpPr>
            <a:xfrm>
              <a:off x="8292960" y="4703040"/>
              <a:ext cx="335520" cy="406800"/>
              <a:chOff x="8292960" y="4703040"/>
              <a:chExt cx="335520" cy="40680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8292960" y="4703040"/>
                <a:ext cx="335520" cy="406800"/>
                <a:chOff x="8292960" y="4703040"/>
                <a:chExt cx="335520" cy="4068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8292960" y="470304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8527680" y="510984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393400" y="4703040"/>
                  <a:ext cx="133920" cy="40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8292960" y="4703040"/>
                <a:ext cx="335520" cy="406800"/>
                <a:chOff x="8292960" y="4703040"/>
                <a:chExt cx="335520" cy="406800"/>
              </a:xfrm>
            </p:grpSpPr>
            <p:sp>
              <p:nvSpPr>
                <p:cNvPr id="365" name=""/>
                <p:cNvSpPr/>
                <p:nvPr/>
              </p:nvSpPr>
              <p:spPr>
                <a:xfrm flipH="1">
                  <a:off x="8528040" y="470304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8292960" y="510984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8394120" y="4703040"/>
                  <a:ext cx="133920" cy="40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8" name=""/>
            <p:cNvSpPr/>
            <p:nvPr/>
          </p:nvSpPr>
          <p:spPr>
            <a:xfrm>
              <a:off x="8245440" y="4581360"/>
              <a:ext cx="43200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8174160" y="5373720"/>
            <a:ext cx="4316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029440" y="4653000"/>
            <a:ext cx="216000" cy="360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29440" y="4797360"/>
            <a:ext cx="216000" cy="216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9440" y="4941720"/>
            <a:ext cx="216000" cy="716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8029440" y="5013360"/>
            <a:ext cx="216000" cy="216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9440" y="4508640"/>
            <a:ext cx="122400" cy="863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826760" y="3779280"/>
            <a:ext cx="797760" cy="29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TPN =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8101080" y="4076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PN Assignment by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84720" y="2351160"/>
            <a:ext cx="12952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716360" y="2490840"/>
            <a:ext cx="432000" cy="434880"/>
            <a:chOff x="4716360" y="2490840"/>
            <a:chExt cx="432000" cy="434880"/>
          </a:xfrm>
        </p:grpSpPr>
        <p:grpSp>
          <p:nvGrpSpPr>
            <p:cNvPr id="380" name=""/>
            <p:cNvGrpSpPr/>
            <p:nvPr/>
          </p:nvGrpSpPr>
          <p:grpSpPr>
            <a:xfrm>
              <a:off x="4764960" y="2572200"/>
              <a:ext cx="335520" cy="271800"/>
              <a:chOff x="4764960" y="2572200"/>
              <a:chExt cx="335520" cy="27180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4764960" y="2572200"/>
                <a:ext cx="335520" cy="271800"/>
                <a:chOff x="4764960" y="2572200"/>
                <a:chExt cx="335520" cy="2718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764960" y="257220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99680" y="284400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865400" y="257220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4764960" y="2572200"/>
                <a:ext cx="335520" cy="271800"/>
                <a:chOff x="4764960" y="2572200"/>
                <a:chExt cx="335520" cy="271800"/>
              </a:xfrm>
            </p:grpSpPr>
            <p:sp>
              <p:nvSpPr>
                <p:cNvPr id="386" name=""/>
                <p:cNvSpPr/>
                <p:nvPr/>
              </p:nvSpPr>
              <p:spPr>
                <a:xfrm flipH="1">
                  <a:off x="5000040" y="257220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>
                  <a:off x="4764960" y="284400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>
                  <a:off x="4866120" y="257220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9" name=""/>
            <p:cNvSpPr/>
            <p:nvPr/>
          </p:nvSpPr>
          <p:spPr>
            <a:xfrm>
              <a:off x="4716360" y="2490840"/>
              <a:ext cx="432000" cy="4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 rot="16200000">
            <a:off x="3118680" y="1802520"/>
            <a:ext cx="704880" cy="1973520"/>
          </a:xfrm>
          <a:prstGeom prst="can">
            <a:avLst>
              <a:gd name="adj" fmla="val 9250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484360" y="2494080"/>
            <a:ext cx="19735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84360" y="2565360"/>
            <a:ext cx="19735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84360" y="263844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84360" y="270972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484360" y="2781360"/>
            <a:ext cx="19735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84360" y="2854440"/>
            <a:ext cx="19735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484360" y="307008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60720" y="2925720"/>
            <a:ext cx="960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44720" y="2133720"/>
            <a:ext cx="12225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OTU3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716360" y="2962440"/>
            <a:ext cx="505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19280" y="2351160"/>
            <a:ext cx="10810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763640" y="2492280"/>
            <a:ext cx="432000" cy="435240"/>
            <a:chOff x="1763640" y="2492280"/>
            <a:chExt cx="432000" cy="435240"/>
          </a:xfrm>
        </p:grpSpPr>
        <p:grpSp>
          <p:nvGrpSpPr>
            <p:cNvPr id="403" name=""/>
            <p:cNvGrpSpPr/>
            <p:nvPr/>
          </p:nvGrpSpPr>
          <p:grpSpPr>
            <a:xfrm>
              <a:off x="1811160" y="2573640"/>
              <a:ext cx="335520" cy="272160"/>
              <a:chOff x="1811160" y="2573640"/>
              <a:chExt cx="335520" cy="27216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1811160" y="2573640"/>
                <a:ext cx="335520" cy="272160"/>
                <a:chOff x="1811160" y="2573640"/>
                <a:chExt cx="335520" cy="27216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1811160" y="257364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045880" y="284580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911600" y="2573640"/>
                  <a:ext cx="133920" cy="272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1811160" y="2573640"/>
                <a:ext cx="335520" cy="272160"/>
                <a:chOff x="1811160" y="2573640"/>
                <a:chExt cx="335520" cy="272160"/>
              </a:xfrm>
            </p:grpSpPr>
            <p:sp>
              <p:nvSpPr>
                <p:cNvPr id="409" name=""/>
                <p:cNvSpPr/>
                <p:nvPr/>
              </p:nvSpPr>
              <p:spPr>
                <a:xfrm flipH="1">
                  <a:off x="2046240" y="257364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1811160" y="284580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>
                  <a:off x="1912320" y="2573640"/>
                  <a:ext cx="133920" cy="272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"/>
            <p:cNvSpPr/>
            <p:nvPr/>
          </p:nvSpPr>
          <p:spPr>
            <a:xfrm>
              <a:off x="1763640" y="2492280"/>
              <a:ext cx="432000" cy="43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763640" y="2925720"/>
            <a:ext cx="432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195640" y="2492280"/>
            <a:ext cx="288720" cy="217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195640" y="2565000"/>
            <a:ext cx="288720" cy="14436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5640" y="2709720"/>
            <a:ext cx="288720" cy="716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195640" y="2709720"/>
            <a:ext cx="288720" cy="1447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68360" y="2421000"/>
            <a:ext cx="144720" cy="57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429080" y="2494080"/>
            <a:ext cx="287280" cy="856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429080" y="2565360"/>
            <a:ext cx="287280" cy="144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429080" y="2579760"/>
            <a:ext cx="287280" cy="2016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429080" y="2579400"/>
            <a:ext cx="287280" cy="2746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00720" y="2421000"/>
            <a:ext cx="144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237440" y="2351160"/>
            <a:ext cx="100800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669080" y="2490840"/>
            <a:ext cx="432000" cy="434880"/>
            <a:chOff x="7669080" y="2490840"/>
            <a:chExt cx="432000" cy="434880"/>
          </a:xfrm>
        </p:grpSpPr>
        <p:grpSp>
          <p:nvGrpSpPr>
            <p:cNvPr id="426" name=""/>
            <p:cNvGrpSpPr/>
            <p:nvPr/>
          </p:nvGrpSpPr>
          <p:grpSpPr>
            <a:xfrm>
              <a:off x="7717680" y="2572200"/>
              <a:ext cx="335520" cy="271800"/>
              <a:chOff x="7717680" y="2572200"/>
              <a:chExt cx="335520" cy="27180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7717680" y="2572200"/>
                <a:ext cx="335520" cy="271800"/>
                <a:chOff x="7717680" y="2572200"/>
                <a:chExt cx="335520" cy="27180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717680" y="257220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952400" y="284400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818120" y="257220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7717680" y="2572200"/>
                <a:ext cx="335520" cy="271800"/>
                <a:chOff x="7717680" y="2572200"/>
                <a:chExt cx="335520" cy="271800"/>
              </a:xfrm>
            </p:grpSpPr>
            <p:sp>
              <p:nvSpPr>
                <p:cNvPr id="432" name=""/>
                <p:cNvSpPr/>
                <p:nvPr/>
              </p:nvSpPr>
              <p:spPr>
                <a:xfrm flipH="1">
                  <a:off x="7952760" y="257220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>
                  <a:off x="7717680" y="284400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H="1">
                  <a:off x="7818840" y="257220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5" name=""/>
            <p:cNvSpPr/>
            <p:nvPr/>
          </p:nvSpPr>
          <p:spPr>
            <a:xfrm>
              <a:off x="7669080" y="2490840"/>
              <a:ext cx="432000" cy="4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 rot="16200000">
            <a:off x="6071400" y="1802520"/>
            <a:ext cx="704880" cy="1973520"/>
          </a:xfrm>
          <a:prstGeom prst="can">
            <a:avLst>
              <a:gd name="adj" fmla="val 9250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437080" y="249408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437080" y="2565360"/>
            <a:ext cx="19735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437080" y="263844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37080" y="2709720"/>
            <a:ext cx="19735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37080" y="2781360"/>
            <a:ext cx="19735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37080" y="2854440"/>
            <a:ext cx="19735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437080" y="307008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13440" y="2925720"/>
            <a:ext cx="960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97440" y="2133720"/>
            <a:ext cx="12225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OTU3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97800" y="2962440"/>
            <a:ext cx="5047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5148360" y="2708280"/>
            <a:ext cx="287280" cy="1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148360" y="2565000"/>
            <a:ext cx="288720" cy="144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48360" y="2709720"/>
            <a:ext cx="288720" cy="716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148360" y="2709720"/>
            <a:ext cx="288720" cy="144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21440" y="2421000"/>
            <a:ext cx="144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7380360" y="2579400"/>
            <a:ext cx="288720" cy="1285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81800" y="2565360"/>
            <a:ext cx="287280" cy="144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7381800" y="2579760"/>
            <a:ext cx="287280" cy="2016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7381800" y="2579400"/>
            <a:ext cx="287280" cy="274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453440" y="2421000"/>
            <a:ext cx="144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981080" y="3645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1981080" y="3789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557440" y="3357720"/>
            <a:ext cx="1655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ath: Req ODU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05440" y="3789360"/>
            <a:ext cx="2808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Resv: </a:t>
            </a: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Label = #2/4/5/6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, </a:t>
            </a:r>
            <a:r>
              <a:rPr b="1" lang="en-US" sz="1400" spc="-1" strike="noStrike">
                <a:solidFill>
                  <a:srgbClr val="cc3300"/>
                </a:solidFill>
                <a:latin typeface="FrutigerNext LT Regular"/>
              </a:rPr>
              <a:t>TPN =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81080" y="3789360"/>
            <a:ext cx="2881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Resv: </a:t>
            </a: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Label = #1/2/5/6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, </a:t>
            </a:r>
            <a:r>
              <a:rPr b="1" lang="en-US" sz="1400" spc="-1" strike="noStrike">
                <a:solidFill>
                  <a:srgbClr val="cc3300"/>
                </a:solidFill>
                <a:latin typeface="FrutigerNext LT Regular"/>
              </a:rPr>
              <a:t>TPN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933800" y="364500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933440" y="378936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10160" y="3357720"/>
            <a:ext cx="1655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ath: Req ODU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84720" y="4726080"/>
            <a:ext cx="12952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716360" y="4865760"/>
            <a:ext cx="432000" cy="434880"/>
            <a:chOff x="4716360" y="4865760"/>
            <a:chExt cx="432000" cy="434880"/>
          </a:xfrm>
        </p:grpSpPr>
        <p:grpSp>
          <p:nvGrpSpPr>
            <p:cNvPr id="467" name=""/>
            <p:cNvGrpSpPr/>
            <p:nvPr/>
          </p:nvGrpSpPr>
          <p:grpSpPr>
            <a:xfrm>
              <a:off x="4764960" y="4947120"/>
              <a:ext cx="335520" cy="271800"/>
              <a:chOff x="4764960" y="4947120"/>
              <a:chExt cx="335520" cy="27180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4764960" y="4947120"/>
                <a:ext cx="335520" cy="271800"/>
                <a:chOff x="4764960" y="4947120"/>
                <a:chExt cx="335520" cy="27180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4764960" y="494712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999680" y="521892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65400" y="494712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4764960" y="4947120"/>
                <a:ext cx="335520" cy="271800"/>
                <a:chOff x="4764960" y="4947120"/>
                <a:chExt cx="335520" cy="271800"/>
              </a:xfrm>
            </p:grpSpPr>
            <p:sp>
              <p:nvSpPr>
                <p:cNvPr id="473" name=""/>
                <p:cNvSpPr/>
                <p:nvPr/>
              </p:nvSpPr>
              <p:spPr>
                <a:xfrm flipH="1">
                  <a:off x="5000040" y="494712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4764960" y="521892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4866120" y="494712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"/>
            <p:cNvSpPr/>
            <p:nvPr/>
          </p:nvSpPr>
          <p:spPr>
            <a:xfrm>
              <a:off x="4716360" y="4865760"/>
              <a:ext cx="432000" cy="4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 rot="16200000">
            <a:off x="3118680" y="4177440"/>
            <a:ext cx="704880" cy="1973520"/>
          </a:xfrm>
          <a:prstGeom prst="can">
            <a:avLst>
              <a:gd name="adj" fmla="val 9250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484360" y="4869000"/>
            <a:ext cx="19735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84360" y="4940280"/>
            <a:ext cx="19735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484360" y="501336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484360" y="508464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84360" y="5156280"/>
            <a:ext cx="19735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484360" y="5229360"/>
            <a:ext cx="19735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84360" y="544500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60720" y="5300640"/>
            <a:ext cx="960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44720" y="4508640"/>
            <a:ext cx="12225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OTU3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716360" y="5337000"/>
            <a:ext cx="505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619280" y="4726080"/>
            <a:ext cx="10810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763640" y="4867200"/>
            <a:ext cx="432000" cy="434880"/>
            <a:chOff x="1763640" y="4867200"/>
            <a:chExt cx="432000" cy="434880"/>
          </a:xfrm>
        </p:grpSpPr>
        <p:grpSp>
          <p:nvGrpSpPr>
            <p:cNvPr id="490" name=""/>
            <p:cNvGrpSpPr/>
            <p:nvPr/>
          </p:nvGrpSpPr>
          <p:grpSpPr>
            <a:xfrm>
              <a:off x="1811160" y="4948560"/>
              <a:ext cx="335520" cy="271800"/>
              <a:chOff x="1811160" y="4948560"/>
              <a:chExt cx="335520" cy="27180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1811160" y="4948560"/>
                <a:ext cx="335520" cy="271800"/>
                <a:chOff x="1811160" y="4948560"/>
                <a:chExt cx="335520" cy="27180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1811160" y="494856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045880" y="522036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911600" y="494856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1811160" y="4948560"/>
                <a:ext cx="335520" cy="271800"/>
                <a:chOff x="1811160" y="4948560"/>
                <a:chExt cx="335520" cy="271800"/>
              </a:xfrm>
            </p:grpSpPr>
            <p:sp>
              <p:nvSpPr>
                <p:cNvPr id="496" name=""/>
                <p:cNvSpPr/>
                <p:nvPr/>
              </p:nvSpPr>
              <p:spPr>
                <a:xfrm flipH="1">
                  <a:off x="2046240" y="494856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1811160" y="522036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1912320" y="494856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9" name=""/>
            <p:cNvSpPr/>
            <p:nvPr/>
          </p:nvSpPr>
          <p:spPr>
            <a:xfrm>
              <a:off x="1763640" y="4867200"/>
              <a:ext cx="432000" cy="4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1763640" y="5300640"/>
            <a:ext cx="432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2195640" y="4867200"/>
            <a:ext cx="288720" cy="217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195640" y="4939920"/>
            <a:ext cx="288720" cy="14436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195640" y="5084640"/>
            <a:ext cx="288720" cy="716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195640" y="5084640"/>
            <a:ext cx="288720" cy="1447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68360" y="4795920"/>
            <a:ext cx="144720" cy="57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429080" y="4869000"/>
            <a:ext cx="287280" cy="856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29080" y="4940280"/>
            <a:ext cx="287280" cy="144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429080" y="4954680"/>
            <a:ext cx="287280" cy="2016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4429080" y="4954320"/>
            <a:ext cx="287280" cy="2746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500720" y="4795920"/>
            <a:ext cx="144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237440" y="4726080"/>
            <a:ext cx="100800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7669080" y="4865760"/>
            <a:ext cx="432000" cy="434880"/>
            <a:chOff x="7669080" y="4865760"/>
            <a:chExt cx="432000" cy="434880"/>
          </a:xfrm>
        </p:grpSpPr>
        <p:grpSp>
          <p:nvGrpSpPr>
            <p:cNvPr id="513" name=""/>
            <p:cNvGrpSpPr/>
            <p:nvPr/>
          </p:nvGrpSpPr>
          <p:grpSpPr>
            <a:xfrm>
              <a:off x="7717680" y="4947120"/>
              <a:ext cx="335520" cy="271800"/>
              <a:chOff x="7717680" y="4947120"/>
              <a:chExt cx="335520" cy="27180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7717680" y="4947120"/>
                <a:ext cx="335520" cy="271800"/>
                <a:chOff x="7717680" y="4947120"/>
                <a:chExt cx="335520" cy="27180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7717680" y="494712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952400" y="521892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818120" y="494712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7717680" y="4947120"/>
                <a:ext cx="335520" cy="271800"/>
                <a:chOff x="7717680" y="4947120"/>
                <a:chExt cx="335520" cy="271800"/>
              </a:xfrm>
            </p:grpSpPr>
            <p:sp>
              <p:nvSpPr>
                <p:cNvPr id="519" name=""/>
                <p:cNvSpPr/>
                <p:nvPr/>
              </p:nvSpPr>
              <p:spPr>
                <a:xfrm flipH="1">
                  <a:off x="7952760" y="494712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7717680" y="521892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7818840" y="494712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2" name=""/>
            <p:cNvSpPr/>
            <p:nvPr/>
          </p:nvSpPr>
          <p:spPr>
            <a:xfrm>
              <a:off x="7669080" y="4865760"/>
              <a:ext cx="432000" cy="4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 rot="16200000">
            <a:off x="6071400" y="4177440"/>
            <a:ext cx="704880" cy="1973520"/>
          </a:xfrm>
          <a:prstGeom prst="can">
            <a:avLst>
              <a:gd name="adj" fmla="val 9250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437080" y="486900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37080" y="4940280"/>
            <a:ext cx="19735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437080" y="501336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437080" y="5084640"/>
            <a:ext cx="19735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437080" y="5156280"/>
            <a:ext cx="19735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437080" y="5229360"/>
            <a:ext cx="19735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37080" y="544500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013440" y="5300640"/>
            <a:ext cx="960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797440" y="4508640"/>
            <a:ext cx="12225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OTU3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97800" y="5337000"/>
            <a:ext cx="5047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148360" y="5084640"/>
            <a:ext cx="2872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148360" y="4939920"/>
            <a:ext cx="288720" cy="144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148360" y="5084640"/>
            <a:ext cx="288720" cy="716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48360" y="5084640"/>
            <a:ext cx="288720" cy="144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221440" y="4795920"/>
            <a:ext cx="144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7380360" y="4954320"/>
            <a:ext cx="288720" cy="129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381800" y="4940280"/>
            <a:ext cx="287280" cy="144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7381800" y="4954680"/>
            <a:ext cx="287280" cy="2016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7381800" y="4954320"/>
            <a:ext cx="287280" cy="274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453440" y="4795920"/>
            <a:ext cx="144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81080" y="601992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1981080" y="616428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052720" y="5732640"/>
            <a:ext cx="2808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ath: </a:t>
            </a: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Label = #1/2/5/6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, </a:t>
            </a:r>
            <a:r>
              <a:rPr b="1" lang="en-US" sz="1400" spc="-1" strike="noStrike">
                <a:solidFill>
                  <a:srgbClr val="cc3300"/>
                </a:solidFill>
                <a:latin typeface="FrutigerNext LT Regular"/>
              </a:rPr>
              <a:t>TPN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005440" y="6164280"/>
            <a:ext cx="2808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Resv: ac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81080" y="6164280"/>
            <a:ext cx="2881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Resv: ac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81080" y="3286080"/>
            <a:ext cx="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33800" y="3286080"/>
            <a:ext cx="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885080" y="3286080"/>
            <a:ext cx="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81080" y="5505480"/>
            <a:ext cx="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933800" y="5505480"/>
            <a:ext cx="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885080" y="5505480"/>
            <a:ext cx="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933800" y="601992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4933440" y="616428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05440" y="5732640"/>
            <a:ext cx="27352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ath: </a:t>
            </a: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Label = #2/4/5/6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, </a:t>
            </a:r>
            <a:r>
              <a:rPr b="1" lang="en-US" sz="1400" spc="-1" strike="noStrike">
                <a:solidFill>
                  <a:srgbClr val="cc3300"/>
                </a:solidFill>
                <a:latin typeface="FrutigerNext LT Regular"/>
              </a:rPr>
              <a:t>TPN =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4360" y="4437000"/>
            <a:ext cx="7848360" cy="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24000" y="2997360"/>
            <a:ext cx="122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Downstream Ass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4000" y="5445000"/>
            <a:ext cx="1223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Upstream Ass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9640" y="1268280"/>
            <a:ext cx="820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Auto-MSI (data plane TPN assignment) is deprecated by G.798, so </a:t>
            </a:r>
            <a:r>
              <a:rPr b="1" lang="en-US" sz="2000" spc="-1" strike="noStrike">
                <a:solidFill>
                  <a:srgbClr val="0000ff"/>
                </a:solidFill>
                <a:latin typeface="FrutigerNext LT Regular"/>
              </a:rPr>
              <a:t>Control Plane TPN assignment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Object for T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900000" y="2924280"/>
            <a:ext cx="72723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Reserved              | 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P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84360" y="1773360"/>
            <a:ext cx="763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new TPN object is introduced in the PATH and/or RESV message to support TPN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84360" y="4292640"/>
            <a:ext cx="763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D b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indicate downstream or upstream TPN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TP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16 bits): the assigned TPN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848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dopt it as a WG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ny people are interested in this top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ignificant agreement have been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Quite stable for quite lo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e the possibility to put TPN information into Label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fine it according to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dback from the meeting or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1:40:59Z</dcterms:created>
  <dc:creator> </dc:creator>
  <dc:description/>
  <dc:language>en-US</dc:language>
  <cp:lastModifiedBy>Fatai Zhang</cp:lastModifiedBy>
  <dcterms:modified xsi:type="dcterms:W3CDTF">2010-07-23T14:49:21Z</dcterms:modified>
  <cp:revision>3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79246964</vt:lpwstr>
  </property>
</Properties>
</file>