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14DCB5-4329-4812-B9C3-57AFF5D277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9D1FDB-D775-4776-AF7B-896D5FE7452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75AAC3-F910-4563-98E3-BC215DB4979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A252A7-64B6-4AF1-8C52-4F56B86C373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F6A638-D58F-4FD0-A375-54F2CD7AFE5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AF46F3-DD1F-4D1B-AA92-71C6795418B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305CFB-E713-44C1-9C22-BA9BF6873B2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E03453-FBF8-4700-BD76-99D28395E52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E011BA-6C7D-4C69-8A90-CD6E884FC06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B8CA5F-C778-4C4A-903D-F08A9DC9B3D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FA4B4E-49A0-4840-8A82-0E1A4FEF18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B6BC1C-E9C0-48AF-87E3-3DB8289A7C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224760"/>
            <a:ext cx="9150480" cy="636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555480" y="6438960"/>
            <a:ext cx="28130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</a:rPr>
              <a:t>HUAWEI TECHNOLOGIES CO.,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7508880" y="6399360"/>
            <a:ext cx="1311120" cy="312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636084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  <a:defRPr b="0" lang="de-DE" sz="1200" spc="-1" strike="noStrike">
                <a:solidFill>
                  <a:srgbClr val="000000"/>
                </a:solidFill>
                <a:latin typeface="FrutigerNext LT Bold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Page </a:t>
            </a:r>
            <a:fld id="{552C1A8D-E9C0-49F4-A902-DA8025A7019B}" type="slidenum"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" name=""/>
          <p:cNvSpPr/>
          <p:nvPr/>
        </p:nvSpPr>
        <p:spPr>
          <a:xfrm>
            <a:off x="3710880" y="6438960"/>
            <a:ext cx="198936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</a:rPr>
              <a:t>Huawei Confident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-1908000" y="528480"/>
            <a:ext cx="184464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rmAutofit/>
          </a:bodyPr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2-35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0-32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0-22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 :18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FrutigerNext LT Regul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18-20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:18p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9199440" y="1424160"/>
            <a:ext cx="1049400" cy="20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配色参考方案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建议同一页面内不超过四种颜色，以下是</a:t>
            </a:r>
            <a:r>
              <a:rPr b="0" lang="en-US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13</a:t>
            </a: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组配色方案，同一页面内只选择一组使用。（仅供参考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199440" y="-61920"/>
            <a:ext cx="104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客户或者合作伙伴的标志放在右上角</a:t>
            </a:r>
            <a:r>
              <a:rPr b="0" lang="en-US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" name=""/>
          <p:cNvSpPr/>
          <p:nvPr/>
        </p:nvSpPr>
        <p:spPr>
          <a:xfrm>
            <a:off x="9269280" y="3429000"/>
            <a:ext cx="919440" cy="34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9354960" y="3789000"/>
            <a:ext cx="739800" cy="182520"/>
            <a:chOff x="9354960" y="3789000"/>
            <a:chExt cx="739800" cy="182520"/>
          </a:xfrm>
        </p:grpSpPr>
        <p:sp>
          <p:nvSpPr>
            <p:cNvPr id="12" name=""/>
            <p:cNvSpPr/>
            <p:nvPr/>
          </p:nvSpPr>
          <p:spPr>
            <a:xfrm flipV="1">
              <a:off x="9540720" y="3788640"/>
              <a:ext cx="18432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9725040" y="3788640"/>
              <a:ext cx="18396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>
              <a:off x="9909000" y="3788640"/>
              <a:ext cx="185760" cy="182520"/>
            </a:xfrm>
            <a:prstGeom prst="rect">
              <a:avLst/>
            </a:prstGeom>
            <a:solidFill>
              <a:srgbClr val="9966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>
              <a:off x="9354960" y="3788640"/>
              <a:ext cx="1857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9354960" y="4005000"/>
            <a:ext cx="739800" cy="182520"/>
            <a:chOff x="9354960" y="4005000"/>
            <a:chExt cx="739800" cy="182520"/>
          </a:xfrm>
        </p:grpSpPr>
        <p:sp>
          <p:nvSpPr>
            <p:cNvPr id="17" name=""/>
            <p:cNvSpPr/>
            <p:nvPr/>
          </p:nvSpPr>
          <p:spPr>
            <a:xfrm flipV="1">
              <a:off x="9540720" y="4004640"/>
              <a:ext cx="18432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9725040" y="4004640"/>
              <a:ext cx="1839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>
              <a:off x="9909000" y="4004640"/>
              <a:ext cx="18576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V="1">
              <a:off x="9354960" y="400464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" name=""/>
          <p:cNvGrpSpPr/>
          <p:nvPr/>
        </p:nvGrpSpPr>
        <p:grpSpPr>
          <a:xfrm>
            <a:off x="9354960" y="4221000"/>
            <a:ext cx="739800" cy="182880"/>
            <a:chOff x="9354960" y="4221000"/>
            <a:chExt cx="739800" cy="182880"/>
          </a:xfrm>
        </p:grpSpPr>
        <p:sp>
          <p:nvSpPr>
            <p:cNvPr id="22" name=""/>
            <p:cNvSpPr/>
            <p:nvPr/>
          </p:nvSpPr>
          <p:spPr>
            <a:xfrm flipV="1">
              <a:off x="9540720" y="4221000"/>
              <a:ext cx="184320" cy="18288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>
              <a:off x="9725040" y="4221000"/>
              <a:ext cx="183960" cy="18288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V="1">
              <a:off x="9909000" y="4221000"/>
              <a:ext cx="185760" cy="18288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V="1">
              <a:off x="9354960" y="4221000"/>
              <a:ext cx="185760" cy="1828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" name=""/>
          <p:cNvGrpSpPr/>
          <p:nvPr/>
        </p:nvGrpSpPr>
        <p:grpSpPr>
          <a:xfrm>
            <a:off x="9354960" y="3573000"/>
            <a:ext cx="739800" cy="189000"/>
            <a:chOff x="9354960" y="3573000"/>
            <a:chExt cx="739800" cy="189000"/>
          </a:xfrm>
        </p:grpSpPr>
        <p:sp>
          <p:nvSpPr>
            <p:cNvPr id="27" name=""/>
            <p:cNvSpPr/>
            <p:nvPr/>
          </p:nvSpPr>
          <p:spPr>
            <a:xfrm flipV="1">
              <a:off x="9725040" y="3572640"/>
              <a:ext cx="183960" cy="1890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>
              <a:off x="9909000" y="3572640"/>
              <a:ext cx="185760" cy="18900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>
              <a:off x="9354960" y="3572640"/>
              <a:ext cx="185760" cy="189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>
              <a:off x="9540720" y="3572640"/>
              <a:ext cx="184320" cy="18900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" name=""/>
          <p:cNvGrpSpPr/>
          <p:nvPr/>
        </p:nvGrpSpPr>
        <p:grpSpPr>
          <a:xfrm>
            <a:off x="9354960" y="4581360"/>
            <a:ext cx="739800" cy="182880"/>
            <a:chOff x="9354960" y="4581360"/>
            <a:chExt cx="739800" cy="182880"/>
          </a:xfrm>
        </p:grpSpPr>
        <p:sp>
          <p:nvSpPr>
            <p:cNvPr id="32" name=""/>
            <p:cNvSpPr/>
            <p:nvPr/>
          </p:nvSpPr>
          <p:spPr>
            <a:xfrm flipV="1">
              <a:off x="9540720" y="4581360"/>
              <a:ext cx="184320" cy="1828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 flipV="1">
              <a:off x="9725040" y="4581360"/>
              <a:ext cx="183960" cy="1828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 flipV="1">
              <a:off x="9909000" y="4581360"/>
              <a:ext cx="185760" cy="1828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 flipV="1">
              <a:off x="9354960" y="4581360"/>
              <a:ext cx="185760" cy="182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" name=""/>
          <p:cNvGrpSpPr/>
          <p:nvPr/>
        </p:nvGrpSpPr>
        <p:grpSpPr>
          <a:xfrm>
            <a:off x="9354960" y="4797000"/>
            <a:ext cx="739800" cy="182520"/>
            <a:chOff x="9354960" y="4797000"/>
            <a:chExt cx="739800" cy="182520"/>
          </a:xfrm>
        </p:grpSpPr>
        <p:sp>
          <p:nvSpPr>
            <p:cNvPr id="37" name=""/>
            <p:cNvSpPr/>
            <p:nvPr/>
          </p:nvSpPr>
          <p:spPr>
            <a:xfrm flipV="1">
              <a:off x="9540720" y="479664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flipV="1">
              <a:off x="9725040" y="479664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flipV="1">
              <a:off x="9909000" y="479664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flipV="1">
              <a:off x="9354960" y="4796640"/>
              <a:ext cx="185760" cy="1825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" name=""/>
          <p:cNvGrpSpPr/>
          <p:nvPr/>
        </p:nvGrpSpPr>
        <p:grpSpPr>
          <a:xfrm>
            <a:off x="9354960" y="5013000"/>
            <a:ext cx="739800" cy="182520"/>
            <a:chOff x="9354960" y="5013000"/>
            <a:chExt cx="739800" cy="182520"/>
          </a:xfrm>
        </p:grpSpPr>
        <p:sp>
          <p:nvSpPr>
            <p:cNvPr id="42" name=""/>
            <p:cNvSpPr/>
            <p:nvPr/>
          </p:nvSpPr>
          <p:spPr>
            <a:xfrm flipV="1">
              <a:off x="9540720" y="5012640"/>
              <a:ext cx="18432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V="1">
              <a:off x="9725040" y="5012640"/>
              <a:ext cx="183960" cy="18252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V="1">
              <a:off x="9909000" y="5012640"/>
              <a:ext cx="1857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>
              <a:off x="9354960" y="5012640"/>
              <a:ext cx="185760" cy="1825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9354960" y="5373360"/>
            <a:ext cx="739800" cy="182520"/>
            <a:chOff x="9354960" y="5373360"/>
            <a:chExt cx="739800" cy="182520"/>
          </a:xfrm>
        </p:grpSpPr>
        <p:sp>
          <p:nvSpPr>
            <p:cNvPr id="47" name=""/>
            <p:cNvSpPr/>
            <p:nvPr/>
          </p:nvSpPr>
          <p:spPr>
            <a:xfrm flipV="1">
              <a:off x="9540720" y="537300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9725040" y="5373000"/>
              <a:ext cx="1839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9909000" y="5373000"/>
              <a:ext cx="1857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9354960" y="537300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9354960" y="5589360"/>
            <a:ext cx="739800" cy="182520"/>
            <a:chOff x="9354960" y="5589360"/>
            <a:chExt cx="739800" cy="182520"/>
          </a:xfrm>
        </p:grpSpPr>
        <p:sp>
          <p:nvSpPr>
            <p:cNvPr id="52" name=""/>
            <p:cNvSpPr/>
            <p:nvPr/>
          </p:nvSpPr>
          <p:spPr>
            <a:xfrm flipV="1">
              <a:off x="9540720" y="558900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9725040" y="558900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9909000" y="558900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9354960" y="558900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9354960" y="5805000"/>
            <a:ext cx="739800" cy="182520"/>
            <a:chOff x="9354960" y="5805000"/>
            <a:chExt cx="739800" cy="182520"/>
          </a:xfrm>
        </p:grpSpPr>
        <p:sp>
          <p:nvSpPr>
            <p:cNvPr id="57" name=""/>
            <p:cNvSpPr/>
            <p:nvPr/>
          </p:nvSpPr>
          <p:spPr>
            <a:xfrm flipV="1">
              <a:off x="9540720" y="5804640"/>
              <a:ext cx="18432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9725040" y="5804640"/>
              <a:ext cx="183960" cy="18252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9909000" y="5804640"/>
              <a:ext cx="1857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9354960" y="580464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9354960" y="6165360"/>
            <a:ext cx="739800" cy="182520"/>
            <a:chOff x="9354960" y="6165360"/>
            <a:chExt cx="739800" cy="182520"/>
          </a:xfrm>
        </p:grpSpPr>
        <p:sp>
          <p:nvSpPr>
            <p:cNvPr id="62" name=""/>
            <p:cNvSpPr/>
            <p:nvPr/>
          </p:nvSpPr>
          <p:spPr>
            <a:xfrm flipV="1">
              <a:off x="9540720" y="616500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9725040" y="6165000"/>
              <a:ext cx="1839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9909000" y="6165000"/>
              <a:ext cx="1857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9354960" y="616500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9354960" y="6391080"/>
            <a:ext cx="739800" cy="182520"/>
            <a:chOff x="9354960" y="6391080"/>
            <a:chExt cx="739800" cy="182520"/>
          </a:xfrm>
        </p:grpSpPr>
        <p:sp>
          <p:nvSpPr>
            <p:cNvPr id="67" name=""/>
            <p:cNvSpPr/>
            <p:nvPr/>
          </p:nvSpPr>
          <p:spPr>
            <a:xfrm flipV="1">
              <a:off x="9540720" y="639072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9725040" y="639072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9909000" y="639072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9354960" y="639072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9354960" y="6614640"/>
            <a:ext cx="739800" cy="182520"/>
            <a:chOff x="9354960" y="6614640"/>
            <a:chExt cx="739800" cy="182520"/>
          </a:xfrm>
        </p:grpSpPr>
        <p:sp>
          <p:nvSpPr>
            <p:cNvPr id="72" name=""/>
            <p:cNvSpPr/>
            <p:nvPr/>
          </p:nvSpPr>
          <p:spPr>
            <a:xfrm flipV="1">
              <a:off x="9540720" y="661428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9725040" y="6614280"/>
              <a:ext cx="1839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9909000" y="6614280"/>
              <a:ext cx="1857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9354960" y="661428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508880" y="5589720"/>
            <a:ext cx="763560" cy="763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0" y="78264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36120" y="1391760"/>
            <a:ext cx="5303880" cy="16671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FrutigerNext LT Medium"/>
              </a:rPr>
              <a:t>Click to edit the title text format</a:t>
            </a:r>
            <a:endParaRPr b="1" lang="en-US" sz="4300" spc="-1" strike="noStrike">
              <a:solidFill>
                <a:srgbClr val="ffffff"/>
              </a:solidFill>
              <a:latin typeface="FrutigerNext LT Medium"/>
            </a:endParaRPr>
          </a:p>
        </p:txBody>
      </p:sp>
      <p:sp>
        <p:nvSpPr>
          <p:cNvPr id="115" name=""/>
          <p:cNvSpPr/>
          <p:nvPr/>
        </p:nvSpPr>
        <p:spPr>
          <a:xfrm>
            <a:off x="555480" y="6207120"/>
            <a:ext cx="28130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</a:rPr>
              <a:t>HUAWEI TECHNOLOGIES CO.,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177680" y="4094280"/>
            <a:ext cx="143388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utigerNext LT Regular"/>
              </a:rPr>
              <a:t>www.huawei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02680" y="6207120"/>
            <a:ext cx="198936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</a:rPr>
              <a:t>Huawei Confident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99400" y="247680"/>
            <a:ext cx="196632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666666"/>
                </a:solidFill>
                <a:latin typeface="FrutigerNext LT Regular"/>
              </a:rPr>
              <a:t>Security Level:</a:t>
            </a:r>
            <a:r>
              <a:rPr b="1" lang="zh-CN" sz="1400" spc="-1" strike="noStrike">
                <a:solidFill>
                  <a:srgbClr val="666666"/>
                </a:solidFill>
                <a:latin typeface="FrutigerNext LT Regular"/>
                <a:ea typeface="宋体"/>
              </a:rPr>
              <a:t>内部公开</a:t>
            </a:r>
            <a:r>
              <a:rPr b="1" lang="zh-CN" sz="1400" spc="-1" strike="noStrike">
                <a:solidFill>
                  <a:srgbClr val="666666"/>
                </a:solidFill>
                <a:latin typeface="FrutigerNext LT Regular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2"/>
          </p:nvPr>
        </p:nvSpPr>
        <p:spPr>
          <a:xfrm>
            <a:off x="684360" y="282600"/>
            <a:ext cx="2133360" cy="4744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  <a:defRPr b="0" lang="zh-CN" sz="1200" spc="-1" strike="noStrike">
                <a:solidFill>
                  <a:srgbClr val="000000"/>
                </a:solidFill>
                <a:latin typeface="FrutigerNext LT Regular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fld id="{942C8156-BC30-48E0-81EE-4DD84B496186}" type="datetime">
              <a:rPr b="0" lang="zh-CN" sz="1200" spc="-1" strike="noStrike">
                <a:solidFill>
                  <a:srgbClr val="000000"/>
                </a:solidFill>
                <a:latin typeface="FrutigerNext LT Regular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-1968480" y="1322280"/>
            <a:ext cx="1968480" cy="37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40-47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副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6-30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反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5-47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  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副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4-28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反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spcBef>
                <a:spcPts val="68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1960" y="638280"/>
            <a:ext cx="7929720" cy="8697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Arial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Arial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Arial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-1844640" y="898560"/>
            <a:ext cx="1844640" cy="53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rmAutofit/>
          </a:bodyPr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目录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5-40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目录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5-40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目录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8-30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 :20-30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FrutigerNext LT Regul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目录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8-30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:20-30p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0" y="5897520"/>
            <a:ext cx="9144000" cy="10033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33880" y="2674800"/>
            <a:ext cx="27799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273480" y="3435480"/>
            <a:ext cx="2745000" cy="4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600" spc="-1" strike="noStrike">
                <a:solidFill>
                  <a:srgbClr val="666666"/>
                </a:solidFill>
                <a:latin typeface="Arial"/>
              </a:rPr>
              <a:t>www.huawei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04AD8-7A4D-4A1F-8D4D-20DCE7F9C7A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755640" y="2709720"/>
            <a:ext cx="74167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r" pos="2514600"/>
                <a:tab algn="l" pos="277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CAMP WG, IETF 78th, Maastricht, Nether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r" pos="2514600"/>
                <a:tab algn="l" pos="277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r" pos="2514600"/>
                <a:tab algn="l" pos="277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-zhang-ccamp-gmpls-h-lsp-mln-01.t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684360" y="734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MPLS-based Hierarchy LSP creation in MRN/ML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-38520" bIns="-38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55640" y="4508640"/>
            <a:ext cx="7416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r" pos="2514600"/>
                <a:tab algn="l" pos="277812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Arial"/>
                <a:ea typeface="宋体"/>
              </a:rPr>
              <a:t>	</a:t>
            </a:r>
            <a:r>
              <a:rPr b="0" lang="fr-FR" sz="2000" spc="-1" strike="noStrike">
                <a:solidFill>
                  <a:srgbClr val="0000ff"/>
                </a:solidFill>
                <a:latin typeface="Arial"/>
                <a:ea typeface="宋体"/>
              </a:rPr>
              <a:t>Fatai Zhang</a:t>
            </a:r>
            <a:r>
              <a:rPr b="0" lang="fr-FR" sz="2000" spc="-1" strike="noStrike">
                <a:solidFill>
                  <a:srgbClr val="0000ff"/>
                </a:solidFill>
                <a:latin typeface="Arial"/>
                <a:ea typeface="宋体"/>
              </a:rPr>
              <a:t>	</a:t>
            </a:r>
            <a:r>
              <a:rPr b="0" lang="fr-FR" sz="2000" spc="-1" strike="noStrike">
                <a:solidFill>
                  <a:srgbClr val="0000ff"/>
                </a:solidFill>
                <a:latin typeface="Arial"/>
                <a:ea typeface="宋体"/>
              </a:rPr>
              <a:t>&lt;zhangfatai@huawei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r" pos="2514600"/>
                <a:tab algn="l" pos="277812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宋体"/>
              </a:rPr>
              <a:t>Dan Li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宋体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anli@huawei.com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宋体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95280" y="368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oti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55280" y="1341000"/>
            <a:ext cx="79930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FrutigerNext L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Next LT Light"/>
              </a:rPr>
              <a:t>In MLN/MR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FrutigerNext L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Light"/>
              </a:rPr>
              <a:t>There may be </a:t>
            </a:r>
            <a:r>
              <a:rPr b="0" lang="en-US" sz="2000" spc="-1" strike="noStrike">
                <a:solidFill>
                  <a:srgbClr val="0000ff"/>
                </a:solidFill>
                <a:latin typeface="FrutigerNext LT Light"/>
              </a:rPr>
              <a:t>multiple switching capabilities</a:t>
            </a:r>
            <a:r>
              <a:rPr b="0" lang="en-US" sz="2000" spc="-1" strike="noStrike">
                <a:solidFill>
                  <a:srgbClr val="000000"/>
                </a:solidFill>
                <a:latin typeface="FrutigerNext LT Light"/>
              </a:rPr>
              <a:t> in the server layer network: (Named as </a:t>
            </a:r>
            <a:r>
              <a:rPr b="0" lang="en-US" sz="2000" spc="-1" strike="noStrike">
                <a:solidFill>
                  <a:srgbClr val="0000ff"/>
                </a:solidFill>
                <a:latin typeface="FrutigerNext LT Light"/>
              </a:rPr>
              <a:t>MRN</a:t>
            </a:r>
            <a:r>
              <a:rPr b="0" lang="en-US" sz="2000" spc="-1" strike="noStrike">
                <a:solidFill>
                  <a:srgbClr val="000000"/>
                </a:solidFill>
                <a:latin typeface="FrutigerNext LT Light"/>
              </a:rPr>
              <a:t> in RFC521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28680" indent="-22860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PSC, TDM/SDH, TDM/OTN, WDM…(identified by IS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FrutigerNext L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Light"/>
              </a:rPr>
              <a:t>There may be </a:t>
            </a:r>
            <a:r>
              <a:rPr b="0" lang="en-US" sz="2000" spc="-1" strike="noStrike">
                <a:solidFill>
                  <a:srgbClr val="0000ff"/>
                </a:solidFill>
                <a:latin typeface="FrutigerNext LT Light"/>
              </a:rPr>
              <a:t>multiple switching granularities</a:t>
            </a:r>
            <a:r>
              <a:rPr b="0" lang="en-US" sz="2000" spc="-1" strike="noStrike">
                <a:solidFill>
                  <a:srgbClr val="000000"/>
                </a:solidFill>
                <a:latin typeface="FrutigerNext LT Light"/>
              </a:rPr>
              <a:t> for one switching capability (data plane switching layers of the same IS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28680" indent="-22860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VCxx in SDH, ODUj in OT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rm MLN is general, referring to a layered network, which may consist of either single or multiple regions (RFC52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FrutigerNext L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Next LT Light"/>
              </a:rPr>
              <a:t>When creating Hierarchy LSP through multi-layer network, the performance of </a:t>
            </a:r>
            <a:r>
              <a:rPr b="0" lang="en-US" sz="2400" spc="-1" strike="noStrike">
                <a:solidFill>
                  <a:srgbClr val="ff0000"/>
                </a:solidFill>
                <a:latin typeface="FrutigerNext LT Light"/>
              </a:rPr>
              <a:t>selection of server layer switching capability &amp; granularity</a:t>
            </a:r>
            <a:r>
              <a:rPr b="0" lang="en-US" sz="2400" spc="-1" strike="noStrike">
                <a:solidFill>
                  <a:srgbClr val="000000"/>
                </a:solidFill>
                <a:latin typeface="FrutigerNext LT Light"/>
              </a:rPr>
              <a:t> is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-Server Layer Sel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66560" y="1197000"/>
            <a:ext cx="820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marL="268200" indent="-268200">
              <a:lnSpc>
                <a:spcPct val="120000"/>
              </a:lnSpc>
              <a:buClr>
                <a:srgbClr val="000000"/>
              </a:buClr>
              <a:buFont typeface="FrutigerNext LT Regular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For hybrid node, one interface may have multiple Switching Capabilities (SC), so there may be multiple SC choices for FA-L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55640" y="2494080"/>
            <a:ext cx="649440" cy="57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738920" y="2494080"/>
            <a:ext cx="649440" cy="57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908000" y="2494080"/>
            <a:ext cx="1295640" cy="194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938920" y="2494080"/>
            <a:ext cx="1297080" cy="194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24360" y="3429000"/>
            <a:ext cx="1295280" cy="100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828720" y="2637000"/>
            <a:ext cx="50328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PS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812000" y="2637000"/>
            <a:ext cx="50328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PS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340000" y="2637000"/>
            <a:ext cx="43164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PS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370560" y="2637000"/>
            <a:ext cx="43200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PS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356000" y="3502080"/>
            <a:ext cx="43200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TD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356000" y="4076640"/>
            <a:ext cx="43200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WD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rot="5400000">
            <a:off x="3744000" y="3826440"/>
            <a:ext cx="718920" cy="216000"/>
          </a:xfrm>
          <a:custGeom>
            <a:avLst/>
            <a:gdLst>
              <a:gd name="textAreaLeft" fmla="*/ 158040 w 718920"/>
              <a:gd name="textAreaRight" fmla="*/ 560880 w 718920"/>
              <a:gd name="textAreaTop" fmla="*/ 47520 h 216000"/>
              <a:gd name="textAreaBottom" fmla="*/ 1684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 rot="16200000">
            <a:off x="4680720" y="3826440"/>
            <a:ext cx="718920" cy="216000"/>
          </a:xfrm>
          <a:custGeom>
            <a:avLst/>
            <a:gdLst>
              <a:gd name="textAreaLeft" fmla="*/ 158040 w 718920"/>
              <a:gd name="textAreaRight" fmla="*/ 560880 w 718920"/>
              <a:gd name="textAreaTop" fmla="*/ 47520 h 216000"/>
              <a:gd name="textAreaBottom" fmla="*/ 1684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211640" y="3645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211640" y="42228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788000" y="3645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788000" y="42228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0" y="3789360"/>
            <a:ext cx="0" cy="28908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340000" y="3503520"/>
            <a:ext cx="43164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TD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340000" y="4078440"/>
            <a:ext cx="43164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WD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 rot="16200000">
            <a:off x="2663280" y="3828240"/>
            <a:ext cx="719280" cy="215640"/>
          </a:xfrm>
          <a:custGeom>
            <a:avLst/>
            <a:gdLst>
              <a:gd name="textAreaLeft" fmla="*/ 158040 w 719280"/>
              <a:gd name="textAreaRight" fmla="*/ 561240 w 719280"/>
              <a:gd name="textAreaTop" fmla="*/ 47160 h 215640"/>
              <a:gd name="textAreaBottom" fmla="*/ 16848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771640" y="36464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71640" y="42242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556000" y="3790800"/>
            <a:ext cx="0" cy="28908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70560" y="3503520"/>
            <a:ext cx="43200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TD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370560" y="4078440"/>
            <a:ext cx="43200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WD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5758560" y="3828240"/>
            <a:ext cx="719280" cy="216000"/>
          </a:xfrm>
          <a:custGeom>
            <a:avLst/>
            <a:gdLst>
              <a:gd name="textAreaLeft" fmla="*/ 158040 w 719280"/>
              <a:gd name="textAreaRight" fmla="*/ 561240 w 719280"/>
              <a:gd name="textAreaTop" fmla="*/ 47520 h 216000"/>
              <a:gd name="textAreaBottom" fmla="*/ 1684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226200" y="36464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226200" y="42242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586560" y="3790800"/>
            <a:ext cx="0" cy="28908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332000" y="2781360"/>
            <a:ext cx="10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1640" y="2781360"/>
            <a:ext cx="3600720" cy="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804000" y="2781360"/>
            <a:ext cx="10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556000" y="2925720"/>
            <a:ext cx="0" cy="576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2124000" y="2925720"/>
            <a:ext cx="287280" cy="1298520"/>
            <a:chOff x="2124000" y="2925720"/>
            <a:chExt cx="287280" cy="1298520"/>
          </a:xfrm>
        </p:grpSpPr>
        <p:sp>
          <p:nvSpPr>
            <p:cNvPr id="319" name=""/>
            <p:cNvSpPr/>
            <p:nvPr/>
          </p:nvSpPr>
          <p:spPr>
            <a:xfrm>
              <a:off x="2124000" y="4221000"/>
              <a:ext cx="216000" cy="324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2124000" y="3213000"/>
              <a:ext cx="0" cy="100800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124000" y="3213000"/>
              <a:ext cx="28728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2411280" y="2925720"/>
              <a:ext cx="0" cy="28728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6588000" y="2925720"/>
            <a:ext cx="0" cy="576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6732720" y="2925720"/>
            <a:ext cx="287280" cy="1298520"/>
            <a:chOff x="6732720" y="2925720"/>
            <a:chExt cx="287280" cy="1298520"/>
          </a:xfrm>
        </p:grpSpPr>
        <p:sp>
          <p:nvSpPr>
            <p:cNvPr id="325" name=""/>
            <p:cNvSpPr/>
            <p:nvPr/>
          </p:nvSpPr>
          <p:spPr>
            <a:xfrm flipH="1">
              <a:off x="6804000" y="4221000"/>
              <a:ext cx="216000" cy="324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7020000" y="3213000"/>
              <a:ext cx="0" cy="100800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6732720" y="3213000"/>
              <a:ext cx="28728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6732720" y="2925720"/>
              <a:ext cx="0" cy="28728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3132000" y="3933720"/>
            <a:ext cx="863640" cy="0"/>
          </a:xfrm>
          <a:prstGeom prst="line">
            <a:avLst/>
          </a:prstGeom>
          <a:ln w="507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148360" y="3933720"/>
            <a:ext cx="863640" cy="0"/>
          </a:xfrm>
          <a:prstGeom prst="line">
            <a:avLst/>
          </a:prstGeom>
          <a:ln w="507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276720" y="4724280"/>
            <a:ext cx="72072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276720" y="5013360"/>
            <a:ext cx="720720" cy="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364000" y="4726080"/>
            <a:ext cx="720720" cy="0"/>
          </a:xfrm>
          <a:prstGeom prst="line">
            <a:avLst/>
          </a:prstGeom>
          <a:ln w="507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364000" y="5014800"/>
            <a:ext cx="720720" cy="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997440" y="4581360"/>
            <a:ext cx="934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FA-L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997440" y="4869000"/>
            <a:ext cx="934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PSC F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084720" y="4581360"/>
            <a:ext cx="244800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Link with TDM &amp; WDM S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084720" y="4865760"/>
            <a:ext cx="12956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Internal 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778200" y="2778120"/>
            <a:ext cx="14414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FrutigerNext LT Regular"/>
              </a:rPr>
              <a:t>F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132000" y="3932280"/>
            <a:ext cx="86364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TDM &amp; WD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148360" y="3932280"/>
            <a:ext cx="86364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TDM &amp; WD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771640" y="2903400"/>
            <a:ext cx="3600720" cy="957240"/>
          </a:xfrm>
          <a:custGeom>
            <a:avLst/>
            <a:gdLst/>
            <a:ahLst/>
            <a:rect l="l" t="t" r="r" b="b"/>
            <a:pathLst>
              <a:path w="2268" h="377">
                <a:moveTo>
                  <a:pt x="0" y="0"/>
                </a:moveTo>
                <a:cubicBezTo>
                  <a:pt x="75" y="128"/>
                  <a:pt x="151" y="257"/>
                  <a:pt x="272" y="317"/>
                </a:cubicBezTo>
                <a:cubicBezTo>
                  <a:pt x="393" y="377"/>
                  <a:pt x="514" y="355"/>
                  <a:pt x="726" y="363"/>
                </a:cubicBezTo>
                <a:cubicBezTo>
                  <a:pt x="938" y="371"/>
                  <a:pt x="1330" y="371"/>
                  <a:pt x="1542" y="363"/>
                </a:cubicBezTo>
                <a:cubicBezTo>
                  <a:pt x="1754" y="355"/>
                  <a:pt x="1875" y="377"/>
                  <a:pt x="1996" y="317"/>
                </a:cubicBezTo>
                <a:cubicBezTo>
                  <a:pt x="2117" y="257"/>
                  <a:pt x="2245" y="37"/>
                  <a:pt x="2268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203640" y="2997360"/>
            <a:ext cx="934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FrutigerNext LT Regular"/>
              </a:rPr>
              <a:t>FA-L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2987280" y="314172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11280" y="2205000"/>
            <a:ext cx="8650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Node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24000" y="2205000"/>
            <a:ext cx="8654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Node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156360" y="2205000"/>
            <a:ext cx="8650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Node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596360" y="2205000"/>
            <a:ext cx="8650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Node 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140360" y="3141720"/>
            <a:ext cx="8650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Node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11280" y="2565360"/>
            <a:ext cx="7921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635280" y="2278080"/>
            <a:ext cx="158436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FrutigerNext LT Regular"/>
              </a:rPr>
              <a:t>Client Layer L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11280" y="5011560"/>
            <a:ext cx="71892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330200" y="4869000"/>
            <a:ext cx="158436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Client layer L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11280" y="4726080"/>
            <a:ext cx="72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332000" y="4581360"/>
            <a:ext cx="158436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Client layer 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39640" y="5516640"/>
            <a:ext cx="8353440" cy="1224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marL="268200" indent="-268200">
              <a:lnSpc>
                <a:spcPct val="120000"/>
              </a:lnSpc>
              <a:buClr>
                <a:srgbClr val="990099"/>
              </a:buClr>
              <a:buFont typeface="FrutigerNext LT Regular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i="1" lang="en-US" sz="1800" spc="-1" strike="noStrike">
                <a:solidFill>
                  <a:srgbClr val="990099"/>
                </a:solidFill>
                <a:latin typeface="FrutigerNext LT Regular"/>
              </a:rPr>
              <a:t>draft-ietf-ccamp-gmpls-mln-extensions-12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 provides 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  <a:ea typeface="宋体"/>
              </a:rPr>
              <a:t>an SC sub-object in XRO (in the PATH message for the client layer LSP) to exclude SCs not to be used, which indicates the selected SC impliedly (but it is not straightforwa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-Granularity Sel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12720" y="2638440"/>
            <a:ext cx="64944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596360" y="2638440"/>
            <a:ext cx="64908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765440" y="2638440"/>
            <a:ext cx="1295280" cy="15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796000" y="2638440"/>
            <a:ext cx="1297080" cy="15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781440" y="3573360"/>
            <a:ext cx="129528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85800" y="2781360"/>
            <a:ext cx="50328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PS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669080" y="2781360"/>
            <a:ext cx="50328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PS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197080" y="2781360"/>
            <a:ext cx="43200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PS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227640" y="2781360"/>
            <a:ext cx="43200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PS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213080" y="3714840"/>
            <a:ext cx="43200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TD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197080" y="3716280"/>
            <a:ext cx="43200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TD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227640" y="3716280"/>
            <a:ext cx="43200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TD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189080" y="2925720"/>
            <a:ext cx="10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629080" y="2925720"/>
            <a:ext cx="3600360" cy="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661080" y="2925720"/>
            <a:ext cx="10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413080" y="3070080"/>
            <a:ext cx="0" cy="64800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445080" y="3070080"/>
            <a:ext cx="0" cy="64800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635280" y="2922480"/>
            <a:ext cx="14414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FrutigerNext LT Regular"/>
              </a:rPr>
              <a:t>F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629080" y="3048120"/>
            <a:ext cx="3600360" cy="669960"/>
          </a:xfrm>
          <a:custGeom>
            <a:avLst/>
            <a:gdLst/>
            <a:ahLst/>
            <a:rect l="l" t="t" r="r" b="b"/>
            <a:pathLst>
              <a:path w="2268" h="377">
                <a:moveTo>
                  <a:pt x="0" y="0"/>
                </a:moveTo>
                <a:cubicBezTo>
                  <a:pt x="75" y="128"/>
                  <a:pt x="151" y="257"/>
                  <a:pt x="272" y="317"/>
                </a:cubicBezTo>
                <a:cubicBezTo>
                  <a:pt x="393" y="377"/>
                  <a:pt x="514" y="355"/>
                  <a:pt x="726" y="363"/>
                </a:cubicBezTo>
                <a:cubicBezTo>
                  <a:pt x="938" y="371"/>
                  <a:pt x="1330" y="371"/>
                  <a:pt x="1542" y="363"/>
                </a:cubicBezTo>
                <a:cubicBezTo>
                  <a:pt x="1754" y="355"/>
                  <a:pt x="1875" y="377"/>
                  <a:pt x="1996" y="317"/>
                </a:cubicBezTo>
                <a:cubicBezTo>
                  <a:pt x="2117" y="257"/>
                  <a:pt x="2245" y="37"/>
                  <a:pt x="2268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060720" y="3141720"/>
            <a:ext cx="934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FrutigerNext LT Regular"/>
              </a:rPr>
              <a:t>FA-L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2916360" y="3286080"/>
            <a:ext cx="288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68360" y="2349360"/>
            <a:ext cx="8650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Node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981080" y="2349360"/>
            <a:ext cx="8654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Node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013440" y="2349360"/>
            <a:ext cx="8650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Node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453440" y="2349360"/>
            <a:ext cx="8650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Node 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997440" y="3286080"/>
            <a:ext cx="8650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Node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68360" y="2709720"/>
            <a:ext cx="7921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492360" y="2422440"/>
            <a:ext cx="158436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FrutigerNext LT Regular"/>
              </a:rPr>
              <a:t>Client Layer L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629080" y="3860640"/>
            <a:ext cx="158400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645080" y="3860640"/>
            <a:ext cx="158436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989440" y="3860640"/>
            <a:ext cx="86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OTU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005440" y="3860640"/>
            <a:ext cx="8636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OTU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12720" y="5011560"/>
            <a:ext cx="64944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596360" y="5011560"/>
            <a:ext cx="64908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765440" y="5011560"/>
            <a:ext cx="1295280" cy="151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796000" y="5011560"/>
            <a:ext cx="1297080" cy="151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781440" y="5946840"/>
            <a:ext cx="129528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85800" y="5154480"/>
            <a:ext cx="50328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TD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669080" y="5154480"/>
            <a:ext cx="50328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TD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213080" y="6087960"/>
            <a:ext cx="43200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TD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197080" y="5227560"/>
            <a:ext cx="432000" cy="10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TD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189080" y="5299200"/>
            <a:ext cx="10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629080" y="5299200"/>
            <a:ext cx="3600360" cy="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661080" y="5299200"/>
            <a:ext cx="10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635280" y="5295960"/>
            <a:ext cx="14414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FrutigerNext LT Regular"/>
              </a:rPr>
              <a:t>F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629080" y="5421240"/>
            <a:ext cx="3600360" cy="669960"/>
          </a:xfrm>
          <a:custGeom>
            <a:avLst/>
            <a:gdLst/>
            <a:ahLst/>
            <a:rect l="l" t="t" r="r" b="b"/>
            <a:pathLst>
              <a:path w="2268" h="377">
                <a:moveTo>
                  <a:pt x="0" y="0"/>
                </a:moveTo>
                <a:cubicBezTo>
                  <a:pt x="75" y="128"/>
                  <a:pt x="151" y="257"/>
                  <a:pt x="272" y="317"/>
                </a:cubicBezTo>
                <a:cubicBezTo>
                  <a:pt x="393" y="377"/>
                  <a:pt x="514" y="355"/>
                  <a:pt x="726" y="363"/>
                </a:cubicBezTo>
                <a:cubicBezTo>
                  <a:pt x="938" y="371"/>
                  <a:pt x="1330" y="371"/>
                  <a:pt x="1542" y="363"/>
                </a:cubicBezTo>
                <a:cubicBezTo>
                  <a:pt x="1754" y="355"/>
                  <a:pt x="1875" y="377"/>
                  <a:pt x="1996" y="317"/>
                </a:cubicBezTo>
                <a:cubicBezTo>
                  <a:pt x="2117" y="257"/>
                  <a:pt x="2245" y="37"/>
                  <a:pt x="2268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060720" y="5514840"/>
            <a:ext cx="934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FrutigerNext LT Regular"/>
              </a:rPr>
              <a:t>FA-L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2916360" y="5659560"/>
            <a:ext cx="2887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68360" y="4722840"/>
            <a:ext cx="8650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Node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81080" y="4722840"/>
            <a:ext cx="8654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Node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013440" y="4722840"/>
            <a:ext cx="8650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Node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453440" y="4722840"/>
            <a:ext cx="8650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Node 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997440" y="5659560"/>
            <a:ext cx="8650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Node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68360" y="5083200"/>
            <a:ext cx="7921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492360" y="4795920"/>
            <a:ext cx="158436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FrutigerNext LT Regular"/>
              </a:rPr>
              <a:t>ODU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629080" y="6234120"/>
            <a:ext cx="158400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645080" y="6234120"/>
            <a:ext cx="158436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989440" y="6234120"/>
            <a:ext cx="86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OTU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005440" y="6234120"/>
            <a:ext cx="8636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OTU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229440" y="5227560"/>
            <a:ext cx="431640" cy="10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TD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940360" y="3502080"/>
            <a:ext cx="1295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236000" y="3357720"/>
            <a:ext cx="1657080" cy="576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FrutigerNext LT Regular"/>
              </a:rPr>
              <a:t>Multi-choic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FrutigerNext LT Regular"/>
              </a:rPr>
              <a:t>ODU1 / 0DU2 / 0DU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940360" y="5878440"/>
            <a:ext cx="1295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236000" y="5734080"/>
            <a:ext cx="1657080" cy="576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FrutigerNext LT Regular"/>
              </a:rPr>
              <a:t>Multi-choic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FrutigerNext LT Regular"/>
              </a:rPr>
              <a:t>ODU1 / 0DU2 / 0DU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68360" y="2060640"/>
            <a:ext cx="395928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FrutigerNext LT Regular"/>
              </a:rPr>
              <a:t>Case1: Multi-Region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66560" y="4437000"/>
            <a:ext cx="518508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FrutigerNext LT Regular"/>
              </a:rPr>
              <a:t>Case2: Multi-Layer Network in same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68360" y="1123920"/>
            <a:ext cx="820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marL="268200" indent="-268200">
              <a:lnSpc>
                <a:spcPct val="120000"/>
              </a:lnSpc>
              <a:buClr>
                <a:srgbClr val="000000"/>
              </a:buClr>
              <a:buFont typeface="FrutigerNext LT Regular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Even when there is only one SC in server layer, there may be still multiple choices of server layer switching granularities for FA-L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aling Ext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5640" y="4003560"/>
            <a:ext cx="64944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738920" y="4003560"/>
            <a:ext cx="64944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908000" y="4003560"/>
            <a:ext cx="1295640" cy="15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938920" y="4003560"/>
            <a:ext cx="1297080" cy="15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924360" y="4938840"/>
            <a:ext cx="1295280" cy="57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828720" y="4146480"/>
            <a:ext cx="50328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PS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812000" y="4146480"/>
            <a:ext cx="50328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PS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340000" y="4146480"/>
            <a:ext cx="43164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PS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370560" y="4146480"/>
            <a:ext cx="43200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PS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356000" y="5079960"/>
            <a:ext cx="43200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TD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340000" y="5081760"/>
            <a:ext cx="43164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TD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370560" y="5081760"/>
            <a:ext cx="43200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TD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332000" y="4290840"/>
            <a:ext cx="10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771640" y="4290840"/>
            <a:ext cx="3600720" cy="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804000" y="4290840"/>
            <a:ext cx="10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56000" y="4435560"/>
            <a:ext cx="0" cy="6476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588000" y="4435560"/>
            <a:ext cx="0" cy="6476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778200" y="4287960"/>
            <a:ext cx="14414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FrutigerNext LT Regular"/>
              </a:rPr>
              <a:t>PSC F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771640" y="4413240"/>
            <a:ext cx="3600720" cy="669960"/>
          </a:xfrm>
          <a:custGeom>
            <a:avLst/>
            <a:gdLst/>
            <a:ahLst/>
            <a:rect l="l" t="t" r="r" b="b"/>
            <a:pathLst>
              <a:path w="2268" h="377">
                <a:moveTo>
                  <a:pt x="0" y="0"/>
                </a:moveTo>
                <a:cubicBezTo>
                  <a:pt x="75" y="128"/>
                  <a:pt x="151" y="257"/>
                  <a:pt x="272" y="317"/>
                </a:cubicBezTo>
                <a:cubicBezTo>
                  <a:pt x="393" y="377"/>
                  <a:pt x="514" y="355"/>
                  <a:pt x="726" y="363"/>
                </a:cubicBezTo>
                <a:cubicBezTo>
                  <a:pt x="938" y="371"/>
                  <a:pt x="1330" y="371"/>
                  <a:pt x="1542" y="363"/>
                </a:cubicBezTo>
                <a:cubicBezTo>
                  <a:pt x="1754" y="355"/>
                  <a:pt x="1875" y="377"/>
                  <a:pt x="1996" y="317"/>
                </a:cubicBezTo>
                <a:cubicBezTo>
                  <a:pt x="2117" y="257"/>
                  <a:pt x="2245" y="37"/>
                  <a:pt x="2268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203640" y="4506840"/>
            <a:ext cx="934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FrutigerNext LT Regular"/>
              </a:rPr>
              <a:t>FA-L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3059280" y="4651200"/>
            <a:ext cx="288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11280" y="3714840"/>
            <a:ext cx="8650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Node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124000" y="3714840"/>
            <a:ext cx="8654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Node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156360" y="3714840"/>
            <a:ext cx="8650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Node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596360" y="3714840"/>
            <a:ext cx="8650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Node 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140360" y="4651200"/>
            <a:ext cx="8650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Node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11280" y="4075200"/>
            <a:ext cx="7921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635280" y="3787920"/>
            <a:ext cx="158436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FrutigerNext LT Regular"/>
              </a:rPr>
              <a:t>Client Layer L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771640" y="5226120"/>
            <a:ext cx="158436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788000" y="5226120"/>
            <a:ext cx="158436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203640" y="5226120"/>
            <a:ext cx="8636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OTU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219640" y="5226120"/>
            <a:ext cx="8636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OTU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258920" y="4148280"/>
            <a:ext cx="288720" cy="288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059280" y="5084640"/>
            <a:ext cx="288720" cy="28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076720" y="5084640"/>
            <a:ext cx="289080" cy="28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7093080" y="4148280"/>
            <a:ext cx="288720" cy="288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116000" y="4579920"/>
            <a:ext cx="6476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IF_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989440" y="5516640"/>
            <a:ext cx="6476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IF_t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932360" y="5516640"/>
            <a:ext cx="6476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IF_t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164360" y="4579920"/>
            <a:ext cx="6476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IF_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H="1" flipV="1">
            <a:off x="1476360" y="4437000"/>
            <a:ext cx="71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H="1" flipV="1">
            <a:off x="3276720" y="5371920"/>
            <a:ext cx="712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5292720" y="5371920"/>
            <a:ext cx="712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H="1" flipV="1">
            <a:off x="7380000" y="4363560"/>
            <a:ext cx="144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557440" y="5950080"/>
            <a:ext cx="647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IF_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349800" y="5950080"/>
            <a:ext cx="647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IF_t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791240" y="5950080"/>
            <a:ext cx="647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IF_t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229440" y="5950080"/>
            <a:ext cx="647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IF_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998880" y="5950080"/>
            <a:ext cx="647640" cy="43164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FrutigerNext LT Regular"/>
              </a:rPr>
              <a:t>ODU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438880" y="5950080"/>
            <a:ext cx="647640" cy="43164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FrutigerNext LT Regular"/>
              </a:rPr>
              <a:t>ODU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693800" y="6022800"/>
            <a:ext cx="8636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ERO 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042920" y="3645000"/>
            <a:ext cx="1368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68360" y="3357720"/>
            <a:ext cx="410364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072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FrutigerNext LT Regular"/>
              </a:rPr>
              <a:t>PATH: </a:t>
            </a:r>
            <a:r>
              <a:rPr b="1" lang="en-US" sz="1400" spc="-1" strike="noStrike">
                <a:solidFill>
                  <a:srgbClr val="ff0000"/>
                </a:solidFill>
                <a:latin typeface="FrutigerNext LT Regular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FrutigerNext LT Regular"/>
              </a:rPr>
              <a:t>server SC = TDM, granularity = ODU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95280" y="1197000"/>
            <a:ext cx="820908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marL="268200" indent="-268200">
              <a:lnSpc>
                <a:spcPct val="120000"/>
              </a:lnSpc>
              <a:buClr>
                <a:srgbClr val="000000"/>
              </a:buClr>
              <a:buFont typeface="FrutigerNext LT Regular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If the source node of the client layer LSP performs the full inter-layer path computation, the client layer PATH message needs to indicate the edge node the path information of the server layer FA-L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20000"/>
              </a:lnSpc>
              <a:buClr>
                <a:srgbClr val="000000"/>
              </a:buClr>
              <a:buFont typeface="FrutigerNext LT Regular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Extension: Added a new </a:t>
            </a:r>
            <a:r>
              <a:rPr b="0" lang="en-US" sz="2000" spc="-1" strike="noStrike">
                <a:solidFill>
                  <a:srgbClr val="0000ff"/>
                </a:solidFill>
                <a:latin typeface="FrutigerNext LT Regular"/>
              </a:rPr>
              <a:t>Server_Layer_Info sub-object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 in 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2880">
              <a:lnSpc>
                <a:spcPct val="120000"/>
              </a:lnSpc>
              <a:buClr>
                <a:srgbClr val="000000"/>
              </a:buClr>
              <a:buFont typeface="FrutigerNext LT Regular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Indicate the </a:t>
            </a:r>
            <a:r>
              <a:rPr b="0" lang="en-US" sz="2000" spc="-1" strike="noStrike">
                <a:solidFill>
                  <a:srgbClr val="ff0000"/>
                </a:solidFill>
                <a:latin typeface="FrutigerNext LT Regular"/>
                <a:ea typeface="ＭＳ Ｐゴシック"/>
              </a:rPr>
              <a:t>server layer SC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 and </a:t>
            </a:r>
            <a:r>
              <a:rPr b="0" lang="en-US" sz="2000" spc="-1" strike="noStrike">
                <a:solidFill>
                  <a:srgbClr val="ff0000"/>
                </a:solidFill>
                <a:latin typeface="FrutigerNext LT Regular"/>
                <a:ea typeface="ＭＳ Ｐゴシック"/>
              </a:rPr>
              <a:t>gran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b-Objec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826920" y="1933560"/>
            <a:ext cx="727236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                   1                   2                  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 1 2 3 4 5 6 7 8 9 0 1 2 3 4 5 6 7 8 9 0 1 2 3 4 5 6 7 8 9 0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|L|    Type     |     Length    |M|         Reserved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| LSP Enc. Type |Switching Type |           Reserved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|                     Traffic Parameters           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~                                                               ~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33320" y="4148280"/>
            <a:ext cx="7942320" cy="20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LSP Encoding Type &amp; Switching Typ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dicate the selected server layer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switching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Traffic Paramete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dicate the selected server layer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switching granularity (e.g., VC3/VC4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 bit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dicate such selection is mandatory or 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39640" y="133992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marL="268200" indent="-268200">
              <a:lnSpc>
                <a:spcPct val="120000"/>
              </a:lnSpc>
              <a:buClr>
                <a:srgbClr val="000000"/>
              </a:buClr>
              <a:buFont typeface="FrutigerNext LT Regular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e format of Server_Layer_Info sub-object in ER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26920" y="1773000"/>
            <a:ext cx="77774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ents are always appreci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Refine it according to th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edback from the meeting or mailing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4T01:40:59Z</dcterms:created>
  <dc:creator> </dc:creator>
  <dc:description/>
  <dc:language>en-US</dc:language>
  <cp:lastModifiedBy>Fatai Zhang</cp:lastModifiedBy>
  <dcterms:modified xsi:type="dcterms:W3CDTF">2010-07-23T21:34:48Z</dcterms:modified>
  <cp:revision>39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279246964</vt:lpwstr>
  </property>
</Properties>
</file>