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70262-9DA9-4385-AC17-E63403902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0515C-F27E-4C45-A77E-B940A05B2D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DAD1C-32E0-447B-AA6E-7D85C0912B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CD0F4-CAC2-47E7-AA56-14BA66198B6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B89B2-EE7A-457F-99E3-C0ECE97412B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143FE-C46E-4DEA-9AFC-9FE8EFACE6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7D851-39D9-45CE-9E7F-1B7149DFEE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17933-B097-45E5-912A-21D8F89E533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2E152-EE9B-4301-8C22-37C151A5CE1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1A897-E8BC-47C9-B0A0-5ACD63B0096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4B363-E2B5-4A4F-BC9F-F6D1142EF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44252-51B5-4E32-BDEE-81490A07A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00A2B52D-F603-4889-ACFF-0FB23847555F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D46B03D6-0D94-413E-8537-1CDE792EDBB3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837D-B407-4D8F-9B9B-DB9ED803B3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55640" y="2709720"/>
            <a:ext cx="7416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CAMP WG, IETF 78th, Maastricht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hang-ccamp-gmpls-h-lsp-mln-01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4360" y="73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MPLS-based Hierarchy LSP creation in MRN/M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450864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Fatai Zhang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&lt;zhangfatai@huawei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Dan L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nli@huawei.co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368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FrutigerNext L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Light"/>
              </a:rPr>
              <a:t>In MLN/M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FrutigerNext L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There may be </a:t>
            </a:r>
            <a:r>
              <a:rPr b="0" lang="en-US" sz="2000" spc="-1" strike="noStrike">
                <a:solidFill>
                  <a:srgbClr val="0000ff"/>
                </a:solidFill>
                <a:latin typeface="FrutigerNext LT Light"/>
              </a:rPr>
              <a:t>multiple switching capabilities</a:t>
            </a: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 in the server layer network: (Named as </a:t>
            </a:r>
            <a:r>
              <a:rPr b="0" lang="en-US" sz="2000" spc="-1" strike="noStrike">
                <a:solidFill>
                  <a:srgbClr val="0000ff"/>
                </a:solidFill>
                <a:latin typeface="FrutigerNext LT Light"/>
              </a:rPr>
              <a:t>MRN</a:t>
            </a: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 in RFC52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PSC, TDM/SDH, TDM/OTN, WDM…(identified by 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FrutigerNext L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There may be </a:t>
            </a:r>
            <a:r>
              <a:rPr b="0" lang="en-US" sz="2000" spc="-1" strike="noStrike">
                <a:solidFill>
                  <a:srgbClr val="0000ff"/>
                </a:solidFill>
                <a:latin typeface="FrutigerNext LT Light"/>
              </a:rPr>
              <a:t>multiple switching granularities</a:t>
            </a:r>
            <a:r>
              <a:rPr b="0" lang="en-US" sz="2000" spc="-1" strike="noStrike">
                <a:solidFill>
                  <a:srgbClr val="000000"/>
                </a:solidFill>
                <a:latin typeface="FrutigerNext LT Light"/>
              </a:rPr>
              <a:t> for one switching capability (data plane switching layers of the same I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VCxx in SDH, ODUj in OT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MLN is general, referring to a layered network, which may consist of either single or multiple regions (RFC52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FrutigerNext L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Light"/>
              </a:rPr>
              <a:t>When creating Hierarchy LSP through multi-layer network, the performance of </a:t>
            </a:r>
            <a:r>
              <a:rPr b="0" lang="en-US" sz="2400" spc="-1" strike="noStrike">
                <a:solidFill>
                  <a:srgbClr val="ff0000"/>
                </a:solidFill>
                <a:latin typeface="FrutigerNext LT Light"/>
              </a:rPr>
              <a:t>selection of server layer switching capability &amp; granularity</a:t>
            </a:r>
            <a:r>
              <a:rPr b="0" lang="en-US" sz="2400" spc="-1" strike="noStrike">
                <a:solidFill>
                  <a:srgbClr val="000000"/>
                </a:solidFill>
                <a:latin typeface="FrutigerNext LT Light"/>
              </a:rPr>
              <a:t>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Server Layer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6560" y="119700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r hybrid node, one interface may have multiple Switching Capabilities (SC), so there may be multiple SC choices for FA-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2494080"/>
            <a:ext cx="64944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38920" y="2494080"/>
            <a:ext cx="64944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8000" y="2494080"/>
            <a:ext cx="12956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38920" y="2494080"/>
            <a:ext cx="129708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24360" y="3429000"/>
            <a:ext cx="12952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8720" y="2637000"/>
            <a:ext cx="50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2000" y="2637000"/>
            <a:ext cx="50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263700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70560" y="263700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56000" y="350208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56000" y="407664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3744000" y="3826440"/>
            <a:ext cx="718920" cy="216000"/>
          </a:xfrm>
          <a:custGeom>
            <a:avLst/>
            <a:gdLst>
              <a:gd name="textAreaLeft" fmla="*/ 158040 w 718920"/>
              <a:gd name="textAreaRight" fmla="*/ 560880 w 7189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rot="16200000">
            <a:off x="4680720" y="3826440"/>
            <a:ext cx="718920" cy="216000"/>
          </a:xfrm>
          <a:custGeom>
            <a:avLst/>
            <a:gdLst>
              <a:gd name="textAreaLeft" fmla="*/ 158040 w 718920"/>
              <a:gd name="textAreaRight" fmla="*/ 560880 w 7189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11640" y="42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42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3789360"/>
            <a:ext cx="0" cy="289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40000" y="3503520"/>
            <a:ext cx="4316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40000" y="40784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rot="16200000">
            <a:off x="2663280" y="3828240"/>
            <a:ext cx="719280" cy="215640"/>
          </a:xfrm>
          <a:custGeom>
            <a:avLst/>
            <a:gdLst>
              <a:gd name="textAreaLeft" fmla="*/ 158040 w 719280"/>
              <a:gd name="textAreaRight" fmla="*/ 561240 w 71928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71640" y="36464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71640" y="42242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56000" y="3790800"/>
            <a:ext cx="0" cy="289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0560" y="350352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70560" y="40784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5758560" y="3828240"/>
            <a:ext cx="719280" cy="216000"/>
          </a:xfrm>
          <a:custGeom>
            <a:avLst/>
            <a:gdLst>
              <a:gd name="textAreaLeft" fmla="*/ 158040 w 719280"/>
              <a:gd name="textAreaRight" fmla="*/ 561240 w 71928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26200" y="36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26200" y="4224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6560" y="3790800"/>
            <a:ext cx="0" cy="289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2000" y="27813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1640" y="2781360"/>
            <a:ext cx="36007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04000" y="27813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925720"/>
            <a:ext cx="0" cy="576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124000" y="2925720"/>
            <a:ext cx="287280" cy="1298520"/>
            <a:chOff x="2124000" y="2925720"/>
            <a:chExt cx="287280" cy="1298520"/>
          </a:xfrm>
        </p:grpSpPr>
        <p:sp>
          <p:nvSpPr>
            <p:cNvPr id="319" name=""/>
            <p:cNvSpPr/>
            <p:nvPr/>
          </p:nvSpPr>
          <p:spPr>
            <a:xfrm>
              <a:off x="2124000" y="4221000"/>
              <a:ext cx="216000" cy="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124000" y="3213000"/>
              <a:ext cx="0" cy="1008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4000" y="3213000"/>
              <a:ext cx="2872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411280" y="2925720"/>
              <a:ext cx="0" cy="2872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588000" y="2925720"/>
            <a:ext cx="0" cy="5763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732720" y="2925720"/>
            <a:ext cx="287280" cy="1298520"/>
            <a:chOff x="6732720" y="2925720"/>
            <a:chExt cx="287280" cy="1298520"/>
          </a:xfrm>
        </p:grpSpPr>
        <p:sp>
          <p:nvSpPr>
            <p:cNvPr id="325" name=""/>
            <p:cNvSpPr/>
            <p:nvPr/>
          </p:nvSpPr>
          <p:spPr>
            <a:xfrm flipH="1">
              <a:off x="6804000" y="4221000"/>
              <a:ext cx="216000" cy="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020000" y="3213000"/>
              <a:ext cx="0" cy="1008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732720" y="3213000"/>
              <a:ext cx="2872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732720" y="2925720"/>
              <a:ext cx="0" cy="2872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132000" y="3933720"/>
            <a:ext cx="863640" cy="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3933720"/>
            <a:ext cx="863640" cy="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472428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501336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64000" y="4726080"/>
            <a:ext cx="720720" cy="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64000" y="5014800"/>
            <a:ext cx="7207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7440" y="458136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7440" y="486900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 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4581360"/>
            <a:ext cx="2448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Link with TDM &amp; WDM S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84720" y="4865760"/>
            <a:ext cx="1295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nternal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78200" y="2778120"/>
            <a:ext cx="144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2000" y="3932280"/>
            <a:ext cx="863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 &amp; 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8360" y="3932280"/>
            <a:ext cx="863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 &amp; 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71640" y="2903400"/>
            <a:ext cx="3600720" cy="957240"/>
          </a:xfrm>
          <a:custGeom>
            <a:avLst/>
            <a:gdLst/>
            <a:ahLst/>
            <a:rect l="l" t="t" r="r" b="b"/>
            <a:pathLst>
              <a:path w="2268" h="377">
                <a:moveTo>
                  <a:pt x="0" y="0"/>
                </a:moveTo>
                <a:cubicBezTo>
                  <a:pt x="75" y="128"/>
                  <a:pt x="151" y="257"/>
                  <a:pt x="272" y="317"/>
                </a:cubicBezTo>
                <a:cubicBezTo>
                  <a:pt x="393" y="377"/>
                  <a:pt x="514" y="355"/>
                  <a:pt x="726" y="363"/>
                </a:cubicBezTo>
                <a:cubicBezTo>
                  <a:pt x="938" y="371"/>
                  <a:pt x="1330" y="371"/>
                  <a:pt x="1542" y="363"/>
                </a:cubicBezTo>
                <a:cubicBezTo>
                  <a:pt x="1754" y="355"/>
                  <a:pt x="1875" y="377"/>
                  <a:pt x="1996" y="317"/>
                </a:cubicBezTo>
                <a:cubicBezTo>
                  <a:pt x="2117" y="257"/>
                  <a:pt x="2245" y="37"/>
                  <a:pt x="2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03640" y="299736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98728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220500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24000" y="2205000"/>
            <a:ext cx="865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220500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6360" y="220500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40360" y="314172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2565360"/>
            <a:ext cx="7921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27808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FrutigerNext LT Regular"/>
              </a:rPr>
              <a:t>Client Laye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5011560"/>
            <a:ext cx="7189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30200" y="486900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Client laye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47260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32000" y="458136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Client layer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9640" y="5516640"/>
            <a:ext cx="835344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990099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990099"/>
                </a:solidFill>
                <a:latin typeface="FrutigerNext LT Regular"/>
              </a:rPr>
              <a:t>draft-ietf-ccamp-gmpls-mln-extensions-12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provides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an SC sub-object in XRO (in the PATH message for the client layer LSP) to exclude SCs not to be used, which indicates the selected SC impliedly (but it is not straightforw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Granularity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2720" y="2638440"/>
            <a:ext cx="649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96360" y="2638440"/>
            <a:ext cx="649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65440" y="2638440"/>
            <a:ext cx="12952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6000" y="2638440"/>
            <a:ext cx="1297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81440" y="3573360"/>
            <a:ext cx="1295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2781360"/>
            <a:ext cx="50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69080" y="2781360"/>
            <a:ext cx="50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97080" y="278136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278136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13080" y="37148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97080" y="3716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27640" y="3716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9080" y="292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29080" y="2925720"/>
            <a:ext cx="360036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1080" y="292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13080" y="3070080"/>
            <a:ext cx="0" cy="648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445080" y="3070080"/>
            <a:ext cx="0" cy="648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35280" y="2922480"/>
            <a:ext cx="144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29080" y="3048120"/>
            <a:ext cx="3600360" cy="669960"/>
          </a:xfrm>
          <a:custGeom>
            <a:avLst/>
            <a:gdLst/>
            <a:ahLst/>
            <a:rect l="l" t="t" r="r" b="b"/>
            <a:pathLst>
              <a:path w="2268" h="377">
                <a:moveTo>
                  <a:pt x="0" y="0"/>
                </a:moveTo>
                <a:cubicBezTo>
                  <a:pt x="75" y="128"/>
                  <a:pt x="151" y="257"/>
                  <a:pt x="272" y="317"/>
                </a:cubicBezTo>
                <a:cubicBezTo>
                  <a:pt x="393" y="377"/>
                  <a:pt x="514" y="355"/>
                  <a:pt x="726" y="363"/>
                </a:cubicBezTo>
                <a:cubicBezTo>
                  <a:pt x="938" y="371"/>
                  <a:pt x="1330" y="371"/>
                  <a:pt x="1542" y="363"/>
                </a:cubicBezTo>
                <a:cubicBezTo>
                  <a:pt x="1754" y="355"/>
                  <a:pt x="1875" y="377"/>
                  <a:pt x="1996" y="317"/>
                </a:cubicBezTo>
                <a:cubicBezTo>
                  <a:pt x="2117" y="257"/>
                  <a:pt x="2245" y="37"/>
                  <a:pt x="2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60720" y="314172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916360" y="328608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234936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2349360"/>
            <a:ext cx="865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13440" y="234936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53440" y="234936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97440" y="328608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709720"/>
            <a:ext cx="7921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92360" y="242244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FrutigerNext LT Regular"/>
              </a:rPr>
              <a:t>Client Laye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9080" y="3860640"/>
            <a:ext cx="1584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45080" y="3860640"/>
            <a:ext cx="1584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9440" y="3860640"/>
            <a:ext cx="86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05440" y="386064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2720" y="5011560"/>
            <a:ext cx="649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96360" y="5011560"/>
            <a:ext cx="649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65440" y="5011560"/>
            <a:ext cx="1295280" cy="15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5011560"/>
            <a:ext cx="1297080" cy="15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81440" y="5946840"/>
            <a:ext cx="1295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5154480"/>
            <a:ext cx="503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69080" y="5154480"/>
            <a:ext cx="503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13080" y="608796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97080" y="5227560"/>
            <a:ext cx="4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9080" y="52992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29080" y="5299200"/>
            <a:ext cx="360036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61080" y="52992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35280" y="5295960"/>
            <a:ext cx="144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29080" y="5421240"/>
            <a:ext cx="3600360" cy="669960"/>
          </a:xfrm>
          <a:custGeom>
            <a:avLst/>
            <a:gdLst/>
            <a:ahLst/>
            <a:rect l="l" t="t" r="r" b="b"/>
            <a:pathLst>
              <a:path w="2268" h="377">
                <a:moveTo>
                  <a:pt x="0" y="0"/>
                </a:moveTo>
                <a:cubicBezTo>
                  <a:pt x="75" y="128"/>
                  <a:pt x="151" y="257"/>
                  <a:pt x="272" y="317"/>
                </a:cubicBezTo>
                <a:cubicBezTo>
                  <a:pt x="393" y="377"/>
                  <a:pt x="514" y="355"/>
                  <a:pt x="726" y="363"/>
                </a:cubicBezTo>
                <a:cubicBezTo>
                  <a:pt x="938" y="371"/>
                  <a:pt x="1330" y="371"/>
                  <a:pt x="1542" y="363"/>
                </a:cubicBezTo>
                <a:cubicBezTo>
                  <a:pt x="1754" y="355"/>
                  <a:pt x="1875" y="377"/>
                  <a:pt x="1996" y="317"/>
                </a:cubicBezTo>
                <a:cubicBezTo>
                  <a:pt x="2117" y="257"/>
                  <a:pt x="2245" y="37"/>
                  <a:pt x="2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60720" y="551484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916360" y="565956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4722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81080" y="4722840"/>
            <a:ext cx="865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13440" y="4722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53440" y="4722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97440" y="565956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8360" y="5083200"/>
            <a:ext cx="7921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2360" y="479592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FrutigerNext LT Regular"/>
              </a:rPr>
              <a:t>ODU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29080" y="6234120"/>
            <a:ext cx="1584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45080" y="6234120"/>
            <a:ext cx="1584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89440" y="6234120"/>
            <a:ext cx="86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623412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227560"/>
            <a:ext cx="4316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0360" y="350208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6000" y="3357720"/>
            <a:ext cx="1657080" cy="57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Multi-choi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ODU1 / 0DU2 / 0D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40360" y="587844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6000" y="5734080"/>
            <a:ext cx="165708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Multi-choi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ODU1 / 0DU2 / 0D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8360" y="2060640"/>
            <a:ext cx="39592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FrutigerNext LT Regular"/>
              </a:rPr>
              <a:t>Case1: Multi-Reg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6560" y="4437000"/>
            <a:ext cx="5185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FrutigerNext LT Regular"/>
              </a:rPr>
              <a:t>Case2: Multi-Layer Network in same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112392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ven when there is only one SC in server layer, there may be still multiple choices of server layer switching granularities for FA-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ing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4003560"/>
            <a:ext cx="649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738920" y="4003560"/>
            <a:ext cx="649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08000" y="400356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38920" y="4003560"/>
            <a:ext cx="1297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24360" y="4938840"/>
            <a:ext cx="129528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146480"/>
            <a:ext cx="503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12000" y="4146480"/>
            <a:ext cx="503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4146480"/>
            <a:ext cx="4316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70560" y="41464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56000" y="507996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340000" y="508176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70560" y="508176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32000" y="42908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71640" y="4290840"/>
            <a:ext cx="36007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04000" y="42908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56000" y="4435560"/>
            <a:ext cx="0" cy="647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88000" y="4435560"/>
            <a:ext cx="0" cy="647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778200" y="4287960"/>
            <a:ext cx="144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PSC 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71640" y="4413240"/>
            <a:ext cx="3600720" cy="669960"/>
          </a:xfrm>
          <a:custGeom>
            <a:avLst/>
            <a:gdLst/>
            <a:ahLst/>
            <a:rect l="l" t="t" r="r" b="b"/>
            <a:pathLst>
              <a:path w="2268" h="377">
                <a:moveTo>
                  <a:pt x="0" y="0"/>
                </a:moveTo>
                <a:cubicBezTo>
                  <a:pt x="75" y="128"/>
                  <a:pt x="151" y="257"/>
                  <a:pt x="272" y="317"/>
                </a:cubicBezTo>
                <a:cubicBezTo>
                  <a:pt x="393" y="377"/>
                  <a:pt x="514" y="355"/>
                  <a:pt x="726" y="363"/>
                </a:cubicBezTo>
                <a:cubicBezTo>
                  <a:pt x="938" y="371"/>
                  <a:pt x="1330" y="371"/>
                  <a:pt x="1542" y="363"/>
                </a:cubicBezTo>
                <a:cubicBezTo>
                  <a:pt x="1754" y="355"/>
                  <a:pt x="1875" y="377"/>
                  <a:pt x="1996" y="317"/>
                </a:cubicBezTo>
                <a:cubicBezTo>
                  <a:pt x="2117" y="257"/>
                  <a:pt x="2245" y="37"/>
                  <a:pt x="2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03640" y="4506840"/>
            <a:ext cx="934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FA-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059280" y="465120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1280" y="3714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3714840"/>
            <a:ext cx="865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6360" y="3714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96360" y="371484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40360" y="4651200"/>
            <a:ext cx="865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No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4075200"/>
            <a:ext cx="7921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3787920"/>
            <a:ext cx="1584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FrutigerNext LT Regular"/>
              </a:rPr>
              <a:t>Client Laye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1640" y="5226120"/>
            <a:ext cx="1584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788000" y="5226120"/>
            <a:ext cx="1584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03640" y="522612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19640" y="522612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TU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414828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5928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6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93080" y="414828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16000" y="457992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89440" y="551664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932360" y="551664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64360" y="457992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1476360" y="4437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276720" y="537192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292720" y="537192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7380000" y="436356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57440" y="595008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49800" y="595008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91240" y="595008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29440" y="595008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F_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98880" y="5950080"/>
            <a:ext cx="647640" cy="431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38880" y="5950080"/>
            <a:ext cx="647640" cy="431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93800" y="6022800"/>
            <a:ext cx="863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ERO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3357720"/>
            <a:ext cx="4103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PATH: </a:t>
            </a: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FrutigerNext LT Regular"/>
              </a:rPr>
              <a:t>server SC = TDM, granularity =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19700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f the source node of the client layer LSP performs the full inter-layer path computation, the client layer PATH message needs to indicate the edge node the path information of the server layer FA-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xtension: Added a new </a:t>
            </a:r>
            <a:r>
              <a:rPr b="0" lang="en-US" sz="2000" spc="-1" strike="noStrike">
                <a:solidFill>
                  <a:srgbClr val="0000ff"/>
                </a:solidFill>
                <a:latin typeface="FrutigerNext LT Regular"/>
              </a:rPr>
              <a:t>Server_Layer_Info sub-object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in 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buClr>
                <a:srgbClr val="000000"/>
              </a:buClr>
              <a:buFont typeface="FrutigerNext LT Regular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Indicate the </a:t>
            </a:r>
            <a:r>
              <a:rPr b="0" lang="en-US" sz="20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server layer SC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FrutigerNext LT Regular"/>
                <a:ea typeface="ＭＳ Ｐゴシック"/>
              </a:rPr>
              <a:t>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-Objec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26920" y="1933560"/>
            <a:ext cx="7272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L|    Type     |     Length    |M|         Reserved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LSP Enc. Type |Switching Type |           Reserved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Traffic Parameters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                                                               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3320" y="4148280"/>
            <a:ext cx="794232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LSP Encoding Type &amp; Switching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dicate the selected server laye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switch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Traffic Parame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dicate the selected server laye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switching granularity (e.g., VC3/VC4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 bi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dicate such selection is mandatory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339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format of Server_Layer_Info sub-object in E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777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fine it according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from the meeting or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 Zhang</cp:lastModifiedBy>
  <dcterms:modified xsi:type="dcterms:W3CDTF">2010-07-23T21:34:48Z</dcterms:modified>
  <cp:revision>3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246964</vt:lpwstr>
  </property>
</Properties>
</file>