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81A-03D2-4781-99B8-A2ABAC46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7FC-24C5-4E2C-883F-11CF48F7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764-1079-46CC-A566-5B9ECCF6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C17-60D5-4BCF-8D7B-0BE54581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DA1-4AD5-4674-BB12-F56823E0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A68-2283-4F6C-94D9-F66C7331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23F-20B1-427A-8D97-9F7209F9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D70-A35A-4ACA-B214-4EF384F6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04F-71D0-4170-A399-88DC1FA2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BE9-EA76-4A93-A5FB-00141E4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715-D692-481F-8D17-319E8599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B35-050D-4029-98D9-B88FAA9D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B9AA-3A16-40CE-BFA9-12B7F5EEAB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716360" y="6477120"/>
            <a:ext cx="43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ETF 78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astricht, Netherlands, July 25-30, 201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6320" y="6477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- </a:t>
            </a:r>
            <a:fld id="{26E7039E-8A6F-4DD7-A3DD-64B442048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fuxh-ccamp-multi-stage-multiplex-config-rsvp-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tf.org/proceedings/76/slides/ccamp-28/ccamp-28.htm" TargetMode="External"/><Relationship Id="rId2" Type="http://schemas.openxmlformats.org/officeDocument/2006/relationships/hyperlink" Target="http://www.ietf.org/proceedings/76/slides/ccamp-28/ccamp-28.htm" TargetMode="External"/><Relationship Id="rId3" Type="http://schemas.openxmlformats.org/officeDocument/2006/relationships/hyperlink" Target="http://www.ietf.org/proceedings/77/slides/pce-13/pce-13_files/v3_document.htm" TargetMode="External"/><Relationship Id="rId4" Type="http://schemas.openxmlformats.org/officeDocument/2006/relationships/hyperlink" Target="http://www.ietf.org/proceedings/77/slides/pce-13/pce-13_files/v3_document.htm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SVP-TE Extension for Multi Stages Multiplexing Configuration in G.709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684360" y="234936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  <a:hlinkClick r:id="rId1"/>
              </a:rPr>
              <a:t>draft-fuxh-ccamp-multi-stage-multiplex-config-rsvp-01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09480" y="3871800"/>
            <a:ext cx="800100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Xihua Fu, Malcolm Betts,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iquan Jin, Xiaoli Huo,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ina Telecom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unbin Xu,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T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480" y="183960"/>
            <a:ext cx="88678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5080" y="1052640"/>
            <a:ext cx="846612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document according the feedback of meeting and mailing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1547640" y="3533760"/>
            <a:ext cx="5904000" cy="3025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208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nodes at a limited number of places in the network support different multiple MSM hierarchies for ODUi being mapped into ODUk (k&gt;i) (e.g., ODU0-ODU1-ODU3 and ODU0-ODU2-ODU3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path computation entity select the ODU0-ODU2-ODU3 in Node B and C for e2e ODU0 service from A to Z, there has to be an ODU2 tunnel between B and 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DU0-ODU2-ODU3 multiplexing hierarchy has to be carried in signaling message. Node B will triggered a creation of an ODU2 FA-LSP.  Node B and C must configure this kind of MSM hierarchy (i.e., ODU0-ODU2-ODU3) to its data plane who can know how ODU0 signal can be mapped and demapp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0" y="7740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RSVP-TE Extension Requirement for Multi Stages Multiplexing (MSM) Configu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6"/>
          <p:cNvSpPr/>
          <p:nvPr/>
        </p:nvSpPr>
        <p:spPr>
          <a:xfrm>
            <a:off x="4211640" y="3943440"/>
            <a:ext cx="1511280" cy="217440"/>
          </a:xfrm>
          <a:prstGeom prst="ellipse">
            <a:avLst/>
          </a:prstGeom>
          <a:solidFill>
            <a:srgbClr val="c0504d">
              <a:alpha val="19000"/>
            </a:srgbClr>
          </a:solidFill>
          <a:ln w="2844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271680" y="5786280"/>
            <a:ext cx="1511280" cy="217800"/>
          </a:xfrm>
          <a:prstGeom prst="ellipse">
            <a:avLst/>
          </a:prstGeom>
          <a:solidFill>
            <a:srgbClr val="c0504d">
              <a:alpha val="19000"/>
            </a:srgbClr>
          </a:solidFill>
          <a:ln w="2844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798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900" spc="-1" strike="noStrike">
                <a:solidFill>
                  <a:srgbClr val="ff3300"/>
                </a:solidFill>
                <a:latin typeface="Calibri"/>
              </a:rPr>
              <a:t>ERBO (Explicit Route Boundary Object)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in PATH message, was defined 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draft-fuxh-ccamp-boundary-explicit-control-ext-0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as ever been presented in 76th and 77th meeting in CCAMP and P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ietf.org/proceedings/76/slides/ccamp-28/ccamp-28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://www.ietf.org/proceedings/77/slides/pce-13/pce-13_files/v3_document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t is used for the explicitly control hierarchy LSP creation. ERBO has the same format as the ER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plicit Route Boundary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32000" y="2855880"/>
          <a:ext cx="69850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855880"/>
                    <a:ext cx="6985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0600" y="69228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ocument introduce a new sub-object (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HOP_ATTRIBU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y the attributes of the associated hop specified in the ERB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allows the specification and reporting of attributes relevant to a particular hop of the signaled LS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follows an  IPv4 or IPv6 prefix or unnumbered Interface ID sub-object in ERB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st of  attribute TLV can be inserted into ERBO. These attributes may represents the following information. It can be further extended to carry other specific requirement in the fu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 Layer (e.g., PSC, L2SC, TDM, LSC, FSC) or Sub-Layer (e.g., VC4, VC11, VC4-4c, VC4-16c, VC4-64c, ODU1, ODU2, ODU3, ODU4) used for boundary node to trigger one specific corresponding server layer or sub-layer FA-LSP cre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xing hierarchy (e.g., ODU0-ODU1-ODU3-ODU4) used for boundary node to configure it to the data plane and trigger one specific corresponding tunnel cre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P_ATTRIBUT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085840"/>
            <a:ext cx="8569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0600" y="76500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Layer Attribute T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ndicates boundary node should trigger one corresponding server layer or sub-layer FA-LSP creation which is defined in the attribute TL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Layer: Indicates which corresponding server layer should be triggered by the boundary node. The value of server layer is the same as the switching capability [RFC347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 Layer: If there are several sub-layers within one server layer, it can further indicates which sub layer should be triggered by the boundary n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H/SONET: VC4, VC11, VC12, VC4-4c, VC4-16c, VC4-64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DUk: ODU1, ODU2, ODU3, ODU2e, ODU4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tching or nesting flags should be set in terms of [RFC515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tribute TLV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6560" y="4653000"/>
            <a:ext cx="820908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8160" y="691920"/>
            <a:ext cx="88362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ltiplexing Hierarchy Attribute T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following figure, the server layer and sub-layer information is not enough for data plane to know ODU0 is mapped into ODU3 tunnel by ODU0-ODU1-ODU3 then ODU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ndicates the multiplexing hierarchies (e.g., ODU0-ODU1-ODU3-ODU4) used for boundary node to configure it to the data plane and trigger one specific corresponding tunnel cre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tribute TLV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63" name="文本占位符 2"/>
          <p:cNvGraphicFramePr/>
          <p:nvPr/>
        </p:nvGraphicFramePr>
        <p:xfrm>
          <a:off x="828720" y="2044800"/>
          <a:ext cx="78469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44800"/>
                    <a:ext cx="78469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90680" y="4462560"/>
            <a:ext cx="64087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8000" y="692280"/>
            <a:ext cx="9036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: 0 (Inclusive Multiplexing Hierarchies), 1 (Exclusive Multiplexing Hierarchies)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:total nunmbers of multiplexing hierarchies which are supported by one interface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MH 1, MSMH2, ... , MSMH M (4 bits): Indicates the numbers of Multi Stages Multiplexing Hierarchies (MSMH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MH = 1: It indicates ODUi is mapped into ODUk (k &gt; i) by single stage multiplexing (e.g., ODU0-ODU3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MH &gt; 1: It indicates ODUi is mapped into ODUk (k &gt; i) by multi stages multiplexing (e.g., ODU0-ODU1-ODU3, MSMH = 2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MC 1, MSMC 2, ... ,MSMC M: Indicates the detailed information of multi stages multiplexing hierarchy. The length of MSMC is (MSMH+1) * 4. Each ODUk (k=1, 2, 3, 4, 2e, flex) is indicated by 4 bits.  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    ODU0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1    ODU1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0    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1    ODU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0    ODU4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    ODU2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    ODUflex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-15    Reserved (for future use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tribute TLV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856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P_ATTRIBUTE follows the unnumber interface ID and includes one Lower Layer attribute TLV and one Multiplexing Hierarchy attribute TL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8920" y="77400"/>
            <a:ext cx="90201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ample: ERBO, HOP-AT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520" y="2382840"/>
            <a:ext cx="88930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8560" y="142560"/>
            <a:ext cx="89470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ample: Signalling procedure for Multi Stages Multiplexing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-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-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"/>
          <p:cNvSpPr/>
          <p:nvPr/>
        </p:nvSpPr>
        <p:spPr>
          <a:xfrm>
            <a:off x="0" y="-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71280" y="1139760"/>
          <a:ext cx="896436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1280" y="1139760"/>
                    <a:ext cx="89643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hua Fu</cp:lastModifiedBy>
  <dcterms:modified xsi:type="dcterms:W3CDTF">2010-07-27T08:36:49Z</dcterms:modified>
  <cp:revision>550</cp:revision>
  <dc:subject/>
  <dc:title>Requirements For Path Ownership Transfer Between Management Plane And Control Plane In A MPLS-TP Network</dc:title>
</cp:coreProperties>
</file>