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8C2-386F-4F83-82A8-934B47F8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FF9-7B45-498A-ADE8-9AADBFF4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0AC-361D-42BF-BCB4-0C23E804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C98-2E7D-4121-BDF5-C8216E97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B07-1A2D-41F3-9A72-5FE815EC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476-1CB3-4827-BFCF-12AF976A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389-E958-454E-8AD9-0B79695A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2A5-C00D-4F39-85B4-373C5B0E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0E0-3791-4754-B5B4-08CC1FE7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3F7-F3FD-42FF-98B7-14020E88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73F-5C64-4829-9FB1-9ADFFACA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6F1-5407-4F6D-90DE-6338400A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77FD-8FA0-461A-9299-7430E60842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716360" y="6477120"/>
            <a:ext cx="43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ETF 77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astricht, Netherlands, July 25-30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77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- </a:t>
            </a:r>
            <a:fld id="{2675B202-34D1-4B6C-8AB6-B9F9B03F7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xie-ccamp-elec-opt-network-info-ext-req-0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formation Modele Electro-Optical Multi-Layer G.709 net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395280" y="23493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draft-xie-ccamp-multi-elec-opt-network-ext-req-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871800"/>
            <a:ext cx="800100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Gand Xie, Xihua Fu,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64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requirement for path computation in electro-optical multi-layer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four paths for LSP which from A to 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B-C-D, A-B-C-F-D, A-E-F-D, A-E-F-C-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ion type of interf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f-2 and If-8 is DPS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-11 is DQPSK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node C, some internal link is DPSK, others is DQP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E-F-D is not use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B-C-F-D and A-E-F-C-D are not sure to be use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文本占位符 2"/>
          <p:cNvGraphicFramePr/>
          <p:nvPr/>
        </p:nvGraphicFramePr>
        <p:xfrm>
          <a:off x="1116000" y="3627360"/>
          <a:ext cx="676908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627360"/>
                    <a:ext cx="676908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720" y="102960"/>
            <a:ext cx="90709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requirement for path computation in electro-optical multi-layer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3970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SON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nectivity matrix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source Pool for wavelength converter or regenera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 electro-optical constraint information for add port and drop por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文本占位符 2"/>
          <p:cNvGraphicFramePr/>
          <p:nvPr/>
        </p:nvGraphicFramePr>
        <p:xfrm>
          <a:off x="3247920" y="2044800"/>
          <a:ext cx="590400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7920" y="2044800"/>
                    <a:ext cx="590400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208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ey devices of electro-optical conversion: optical transmitter and optical receiv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haracteristic of optical transmitt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ab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ing rang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ing ti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dulation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EC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ignal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haracteristic of optical receiv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ab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ing rang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ing ti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dulation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EC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ignal typ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very characteristic is option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8560" y="77400"/>
            <a:ext cx="89470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Model for Multi-Layer G.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885600"/>
            <a:ext cx="345744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 Model: scenario 1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formation of Link end with optical transmitter and optical receiv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Link Info&gt;::=&lt;ISCD&gt;&lt;Wavelength tunable capability&gt;&lt;Signal process capabilit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8000" y="3500280"/>
          <a:ext cx="5256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500280"/>
                    <a:ext cx="5256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00080" y="5078520"/>
          <a:ext cx="512928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80" y="5078520"/>
                    <a:ext cx="5129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文本占位符 2"/>
          <p:cNvGraphicFramePr/>
          <p:nvPr/>
        </p:nvGraphicFramePr>
        <p:xfrm>
          <a:off x="6156360" y="3305160"/>
          <a:ext cx="1927080" cy="305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文本占位符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3305160"/>
                    <a:ext cx="192708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51280" y="907920"/>
            <a:ext cx="4681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 Model: scenario 2: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nal link is a unique identifier of add port, drop port, optical transmitter and optical rece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Node Info&gt;::=&lt;Internal link li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Internal link&gt;::=&lt;Link ID&gt;&lt;Wavelength tunable capability&gt;&lt;Signal processing capabil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Model for Multi-Layer G.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 Model for hybrid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nal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nal link 31: drop 21, add 23, optical receiver 1, optical transmitter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nal link 32: drop 22, add 24, optical receiver 2, optical transmitter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Node Info&gt;::=&lt;Internal link 31&gt;&lt;Internal link 32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Internal link 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gt;::=&lt;Link ID(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&gt;&lt;Wavelength tunable capability&gt;&lt;Signal processing capability(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DPSK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Internal link 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3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gt;::=&lt;Link ID(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3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&gt;&lt;Wavelength tunable capability&gt;&lt; Signal processing capability(</a:t>
            </a:r>
            <a:r>
              <a:rPr b="0" i="1" lang="en-US" sz="1800" spc="-1" strike="noStrike">
                <a:solidFill>
                  <a:srgbClr val="ff3300"/>
                </a:solidFill>
                <a:latin typeface="Calibri"/>
              </a:rPr>
              <a:t>DQPSK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文本占位符 2"/>
          <p:cNvGraphicFramePr/>
          <p:nvPr/>
        </p:nvGraphicFramePr>
        <p:xfrm>
          <a:off x="4140360" y="1263600"/>
          <a:ext cx="483552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263600"/>
                    <a:ext cx="483552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Model for Multi-Layer G.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Model for Multi-Layer G.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7643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xtension for single-switching-type-no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tical transmitter and optical receiver at If-2, if-8 and if-1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formation exten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&lt;Link info(if-2)&gt;::=&lt;ISCD(LSC)&gt;&lt;Wavelength tunable capability&gt;&lt;Signal processing capability(DPSK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&lt;Link info(if-8)&gt;::=&lt;ISCD(LSC)&gt;&lt;Wavelength tunable capability&gt;&lt; Signal processing capability(DPSK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&lt;Link info(if-11)&gt;::=&lt;ISCD(LSC)&gt;&lt;Wavelength tunable capability&gt;&lt; Signal processing capability(DQPSK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Usable path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th1: A.1-B.2-B.3-C.4(-</a:t>
            </a:r>
            <a:r>
              <a:rPr b="0" i="1" lang="en-US" sz="2000" spc="-1" strike="noStrike">
                <a:solidFill>
                  <a:srgbClr val="ff3300"/>
                </a:solidFill>
                <a:latin typeface="Calibri"/>
              </a:rPr>
              <a:t>C.31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-C.5-D.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th2: A.1-B.2-B.3-C.4(-</a:t>
            </a:r>
            <a:r>
              <a:rPr b="0" i="1" lang="en-US" sz="2000" spc="-1" strike="noStrike">
                <a:solidFill>
                  <a:srgbClr val="ff3300"/>
                </a:solidFill>
                <a:latin typeface="Calibri"/>
              </a:rPr>
              <a:t>C.31-C.32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-C.13-F.14-F.11-D.6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th3: A.7-E.8-E.9-F.10-F.14-C.13(-</a:t>
            </a:r>
            <a:r>
              <a:rPr b="0" i="1" lang="en-US" sz="2000" spc="-1" strike="noStrike">
                <a:solidFill>
                  <a:srgbClr val="ff3300"/>
                </a:solidFill>
                <a:latin typeface="Calibri"/>
              </a:rPr>
              <a:t>C.31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-C.5-D.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960" y="104760"/>
            <a:ext cx="9109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tocol Extension Requiement for Mult-Layer in OT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7882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tending Requirement 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SPF or ISIS need be extende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nal protocol need be extend to inform the internal link when LSP is crea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CEP  protocol need be extended to inform the internal link when PCE is used for path computa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480" y="183960"/>
            <a:ext cx="886788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5080" y="1052640"/>
            <a:ext cx="846612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document according the feedback of meeting and mailing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hua Fu</cp:lastModifiedBy>
  <dcterms:modified xsi:type="dcterms:W3CDTF">2010-07-27T12:34:19Z</dcterms:modified>
  <cp:revision>376</cp:revision>
  <dc:subject/>
  <dc:title>Requirements For Path Ownership Transfer Between Management Plane And Control Plane In A MPLS-TP Network</dc:title>
</cp:coreProperties>
</file>