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87A-0232-4FEB-92C7-6CE8BE7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204-042E-4E4D-9DF5-DAF0674C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FB9-90CC-4A4C-A960-4BF66EFB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A8F-73FA-4D35-B3B1-C70A8DFC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5AD-B9D9-4B18-B67B-5BCB05E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5DF-2688-46BE-96BB-8C515BB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4EE-FE21-43A1-A567-81052482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B84-13CE-44F8-9888-2F47F41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A36-94A4-436F-AF22-E6216EB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A4B-1274-4F43-BBD6-B571039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A0B-5434-48F4-AA3E-1B1B1AE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7BE-B06E-422D-BAD2-85924B9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65D-02EE-4A95-9DD3-E8BADDF2C1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7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EEB8643D-6DD0-4D04-BFCB-8819F0C2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xie-ccamp-elec-opt-network-info-ext-req-0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formation Modele Electro-Optical Multi-Layer G.709 net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395280" y="23493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draft-xie-ccamp-multi-elec-opt-network-ext-req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and Xie, Xihua Fu,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6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requirement for path computation in electro-optical multi-lay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four paths for LSP which from A to 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B-C-D, A-B-C-F-D, A-E-F-D, A-E-F-C-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type of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f-2 and If-8 is DPS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-11 is DQPSK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node C, some internal link is DPSK, others is DQP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E-F-D is not use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B-C-F-D and A-E-F-C-D are not sure to be use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文本占位符 2"/>
          <p:cNvGraphicFramePr/>
          <p:nvPr/>
        </p:nvGraphicFramePr>
        <p:xfrm>
          <a:off x="1116000" y="3627360"/>
          <a:ext cx="67690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627360"/>
                    <a:ext cx="67690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720" y="102960"/>
            <a:ext cx="90709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requirement for path computation in electro-optical multi-lay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3970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SON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nectivity matrix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source Pool for wavelength converter or regenera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 electro-optical constraint information for add port and drop por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文本占位符 2"/>
          <p:cNvGraphicFramePr/>
          <p:nvPr/>
        </p:nvGraphicFramePr>
        <p:xfrm>
          <a:off x="3247920" y="2044800"/>
          <a:ext cx="590400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7920" y="2044800"/>
                    <a:ext cx="59040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08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ey devices of electro-optical conversion: optical transmitter and optical receiv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aracteristic of optical transmitt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rang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ti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dulation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EC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gnal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aracteristic of optical receiv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rang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ti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dulation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EC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gnal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ry characteristic is optio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8560" y="77400"/>
            <a:ext cx="8947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885600"/>
            <a:ext cx="345744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 Model: scenario 1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formation of Link end with optical transmitter and optical receiv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Link Info&gt;::=&lt;ISCD&gt;&lt;Wavelength tunable capability&gt;&lt;Signal process capabilit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3500280"/>
          <a:ext cx="5256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500280"/>
                    <a:ext cx="5256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00080" y="5078520"/>
          <a:ext cx="512928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5078520"/>
                    <a:ext cx="5129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文本占位符 2"/>
          <p:cNvGraphicFramePr/>
          <p:nvPr/>
        </p:nvGraphicFramePr>
        <p:xfrm>
          <a:off x="6156360" y="3305160"/>
          <a:ext cx="1927080" cy="305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文本占位符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3305160"/>
                    <a:ext cx="192708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51280" y="907920"/>
            <a:ext cx="4681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 Model: scenario 2: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is a unique identifier of add port, drop port, optical transmitter and optical rece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Node Info&gt;::=&lt;Internal link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&gt;::=&lt;Link ID&gt;&lt;Wavelength tunable capability&gt;&lt;Signal processing capabil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 Model for hybrid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31: drop 21, add 23, optical receiver 1, optical transmitter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32: drop 22, add 24, optical receiver 2, optical transmitter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Node Info&gt;::=&lt;Internal link 31&gt;&lt;Internal link 32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 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gt;::=&lt;Link ID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&lt;Wavelength tunable capability&gt;&lt;Signal processing capability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DPSK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 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gt;::=&lt;Link ID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&lt;Wavelength tunable capability&gt;&lt; Signal processing capability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DQPSK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文本占位符 2"/>
          <p:cNvGraphicFramePr/>
          <p:nvPr/>
        </p:nvGraphicFramePr>
        <p:xfrm>
          <a:off x="4140360" y="1263600"/>
          <a:ext cx="483552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3600"/>
                    <a:ext cx="48355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xtension for single-switching-type-n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tical transmitter and optical receiver at If-2, if-8 and if-1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formation exten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2)&gt;::=&lt;ISCD(LSC)&gt;&lt;Wavelength tunable capability&gt;&lt;Signal processing capability(D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8)&gt;::=&lt;ISCD(LSC)&gt;&lt;Wavelength tunable capability&gt;&lt; Signal processing capability(D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11)&gt;::=&lt;ISCD(LSC)&gt;&lt;Wavelength tunable capability&gt;&lt; Signal processing capability(DQ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sable path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1: A.1-B.2-B.3-C.4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5-D.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2: A.1-B.2-B.3-C.4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-C.32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13-F.14-F.11-D.6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3: A.7-E.8-E.9-F.10-F.14-C.13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5-D.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60" y="104760"/>
            <a:ext cx="9109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ocol Extension Requiement for Mult-Layer in OT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7882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tending Requirement 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SPF or ISIS need be extende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nal protocol need be extend to inform the internal link when LSP is crea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CEP  protocol need be extended to inform the internal link when PCE is used for path computa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12:34:19Z</dcterms:modified>
  <cp:revision>376</cp:revision>
  <dc:subject/>
  <dc:title>Requirements For Path Ownership Transfer Between Management Plane And Control Plane In A MPLS-TP Network</dc:title>
</cp:coreProperties>
</file>