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516E-A429-4F56-8AD0-836E6039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905C-7590-4EFE-A8CB-08A44597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85EE-C120-4D1B-98E0-D690582A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B83A-514D-4BA5-AAFF-8374156C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7DDF-3B6A-40D1-83F9-7959C504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5334-9D44-4A18-9125-5A76E960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105C-1B5A-4C90-9F9D-2C358DD8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E10F-1E1C-421C-BBBE-C1D9CFC7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F4D9-681F-4D15-B2B2-C249C1BC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DE78-86B0-4DAB-92BB-D6C1B065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392E-40F4-4300-B60F-7E6FA568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40FF-0AFF-409F-A3F0-DB1B3914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93C8-954A-4F0F-BD51-FCD6DBD9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9B2C-2A14-49FE-98F7-2A331A1F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FCC1-8995-4161-95DA-08F0AC6A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FF5A-9DA1-4319-A370-725C70F5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883C-BAFB-4019-B61A-445EFF45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316D-E402-4168-BF7C-D1CA6425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8965-72D5-4496-B808-F16C6E5F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9139-389A-4D0F-9FE8-41095CA6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5604-6F40-4733-B558-25B38003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6143-C517-4177-B359-BE307B5E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C38B-3E96-47AC-B359-9F0D46F5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634F-C7D9-4DF9-B7A1-4FE06699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3163-4610-48A9-B7CC-8443D88E1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600200"/>
            <a:ext cx="739152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4EC3-CACC-445A-BD0E-1F96603EA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320" y="914400"/>
            <a:ext cx="8991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LSP Attributes Related Routing Backus-Naur Form 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draft-berger-ccamp-attribute-bnf-00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43000" y="4800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ditor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ou Berger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&lt;lberger@labn.ne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eorge Swallow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&lt;swallow@cisco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CAMP - 78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0627-C82B-46DC-BAB2-3B991141CF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ompatibilit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supporting nodes will interpret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2L  ATTRIBUTE object as applying to the L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current P2MP implementations only have per LSP reporting is same as to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day’s implementations that need reporting per destination, limit one destination per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draft-ietf-mpls-rsvp-te-no-php-oob-ma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harm, but also no val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AMP - 78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D9AF-5F08-487C-8B60-0FF8878AF2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Next step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uge general inter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ress com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AMP - 78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9BBE-A98E-429F-A4B1-ADCEF81809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Draft Motiv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usage of RFC5420’s LSP_ATTRIBUTES and LSP_REQUIRED_ATTRIBUTE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th and Resv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NF not included in RFC542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ative leaves room for interpret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 impact to P2MP LSPs (RFC487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have proposed using RRO as a solution,  or constructing P2MP SL2s to avoid the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ft-ietf-mpls-rsvp-te-no-php-oob-ma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ft-ietf-ccamp-oam-configuration-fwk-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AMP - 78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90FD-6B97-44AE-AFA7-08730F8C46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RFC5420 Object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SP_ATTRIBUTES class = 197, C-Type =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                      Attributes TLVs                       /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SP_REQUIRED_ATTRIBUTES class = 67, C-Type =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                     Attributes TLVs                        /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AMP - 78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72E4-5955-46DD-86C3-F8C7011375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RFC5420 Path Message Narrativ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Y be carried in Path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is not significant (as is typical 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allow for any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HOULD be after the SESSION_ATTRIBUTE object or, when not present, after the LABEL_REQUEST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SP_REQUIRED_ATTRIBUTES object should come before LSP_ATTRIBUTES obje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bject per class is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instances SHOULD be ignored and MUST be forwarded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AMP - 78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5A70-A4BB-45E8-9330-F3A178B838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roposed Matching BNF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Path Message&gt; ::=     &lt;Common Header&gt; [ &lt;INTEGRITY&gt;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[&lt;MESSAGE_ID_ACK&gt; | &lt;MESSAGE_ID_NACK&gt;] ...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&lt;MESSAGE_ID&gt;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SESSION&gt; &lt;RSVP_HO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IME_VALUES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&lt;EXPLICIT_ROUTE&gt;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LABEL_REQUE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&lt;PROTECTION&gt;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&lt;LABEL_SET&gt; ...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&lt;SESSION_ATTRIBUTE&gt;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 &lt;LSP_REQUIRED_ATTRIBUTES&gt; ...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 &lt;LSP_ATTRIBUTES&gt; ...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&lt;NOTIFY_REQUEST&gt;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&lt;ADMIN_STATUS&gt;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&lt;POLICY_DATA&gt; ...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sender descriptor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&lt;S2L sub-LSP descriptor list&gt;] 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/* from RFC4875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AMP - 78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B99A-C627-49D5-BF64-D511847873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RFC5420 Resv Message Narrativ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 Objects MAY be carried in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is not significant within a flow descrip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allow for any order, subject to the follo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are part of the flow descriptor, i.e., MUST follow a FILTER_SPE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 SHOULD follow immediately after the LABEL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bject is significant per flow descrip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instances SHOULD be ignored and MUST be forwarded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: reporting is per LSP not per P2MP SL2/des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AMP - 78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693A-84F4-40AC-9E05-09BDD0A000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roposed Matching BNF – Per LSP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F flow descriptor list&gt; ::= &lt;FF flow descripto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&lt;FF flow descriptor list&gt; 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F flow descriptor&gt;      ::= [ &lt;FLOWSPEC&gt; ] &lt;FILTER_SPEC&gt; &lt;LABE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[ &lt;LSP_ATTRIBUTES&gt; ... 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&lt;RECORD_ROUTE&gt; 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&lt;S2L sub-LSP flow descriptor list&gt; 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 flow descriptor&gt;      ::= &lt;FLOWSPEC&gt; &lt;SE filter spec lis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 filter spec list&gt;     ::= &lt;SE filter spec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&lt;SE filter spec list&gt; 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 filter spec&gt;          ::= &lt;FILTER_SPEC&gt; &lt;LABEL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[ &lt;LSP_ATTRIBUTES&gt; ... 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&lt;RECORD_ROUTE&gt; 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&lt;S2L sub-LSP flow descriptor list&gt; 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AMP - 78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1997-0029-4421-979F-D38348CDA4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2MP Per Destination Attribut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about reporting per P2MP destination (S2L) ATTRIBUTE object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5420 allows reporting when all destinations have the same object values, what about when they don’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olution – Nar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report attributes per destination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P_ATTRIBUTES objects MUST follow a S2L_SUB_LSP ob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is significant per S2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 instances SHOULD be ignored and MUST be forwarded unchang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AMP - 78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A34E-D9AF-4EB5-A985-B8585D37D0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roposed Matching BNF – Per S2L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FF flow descriptor&gt; ::= [ &lt;FLOWSPEC&gt; ] &lt;FILTER_SPEC&gt; &lt;LABEL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&lt;RECORD_ROUTE&gt;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&lt;S2L sub-LSP flow descriptor list&gt;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SE filter spec&gt;     ::= &lt;FILTER_SPEC&gt; &lt;LABEL&gt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&lt;RECORD_ROUTE&gt;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&lt;S2L sub-LSP flow descriptor list&gt;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S2L sub-LSP flow descriptor list&gt; ::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S2L sub-LSP flow descriptor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&lt;S2L sub-LSP flow descriptor list&gt;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S2L sub-LSP flow descriptor&gt;      ::= &lt;S2L_SUB_LS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 &lt;LSP_ATTRIBUTES&gt; ...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&lt;P2MP_SECONDARY_RECORD_ROUTE&gt;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AMP - 78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FA43-6DAC-4D60-90A1-1C3B5D4F7D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0:54:37Z</dcterms:created>
  <dc:creator>Lou Berger</dc:creator>
  <dc:description/>
  <dc:language>en-US</dc:language>
  <cp:lastModifiedBy>Lou Berger</cp:lastModifiedBy>
  <dcterms:modified xsi:type="dcterms:W3CDTF">2010-07-25T01:37:45Z</dcterms:modified>
  <cp:revision>164</cp:revision>
  <dc:subject/>
  <dc:title>Attribute BNF</dc:title>
</cp:coreProperties>
</file>