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E6A-756A-4028-BD6B-CB23B20C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3D2-4897-4C9D-9E06-55CD8C5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C72-37EA-4319-9AD3-D7DD49E5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4AB-4961-4383-995A-5E96903B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C153-C92A-44BC-A20F-17827D5B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4C64-0F5D-4FAC-A900-5193C1D2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A8A9-EA3D-4F93-8282-8458BDC1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939-733A-4203-9E24-8C6D1E38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8295-8DE7-4E85-843A-085C7C46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4DF-10BC-4445-B291-5999F815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E40C-AA04-4B20-952B-C48BA05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7E7-3540-40EB-87E9-5405A30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8610-D9DF-4711-9474-BBCB76B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FB0B-C367-418C-860F-C00C4198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2CF8-F5ED-4AE2-8918-B7F1F269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1F06-DA7D-4470-BFAF-8A246A4E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B7B6-B4E9-4B3C-83EA-DB1FD1BE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976-1965-416D-AA0D-5DC7C3CA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7EC-968D-42D9-BAD8-DBD544A5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4FE-68C1-4FC7-B769-7817CBB3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316-0C30-4F24-988B-5522419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582-D5E6-47F4-82A5-0ADF9A9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149-FABF-4F26-86F2-5171CD0C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E76-E500-45EA-A032-8B29C20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6B9-B13B-4596-97B1-767158CE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3CF4-74F1-4436-84B5-FDDC8EC3B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914400"/>
            <a:ext cx="8991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SP Attributes Related Routing Backus-Naur Form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raft-berger-ccamp-attribute-bnf-0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di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u Berg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&lt;lberger@labn.ne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orge Swallow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&lt;swallow@cisco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5105-C14B-4EFD-AAF1-3116F7F320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mpatibil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upporting nodes will interpret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2L  ATTRIBUTE object as applying to the L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current P2MP implementations only have per LSP reporting is same as to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’s implementations that need reporting per destination, limit one destination per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draft-ietf-mpls-rsvp-te-no-php-oob-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harm, but also no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43B-4C2A-4ED9-807F-7F7C7E7D49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uge general inte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948-0E75-4BEE-8AAD-D8F87DAF2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raft Moti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usage of RFC5420’s LSP_ATTRIBUTES and LSP_REQUIRED_ATTRIBUTE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th and Resv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NF not included in RFC54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ative leaves room for interpret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impact to P2MP LSPs (RFC487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have proposed using RRO as a solution,  or constructing P2MP SL2s to avoid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-ietf-mpls-rsvp-te-no-php-oob-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-ietf-ccamp-oam-configuration-fwk-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8FA-98EB-4D09-ADA9-00FF76D100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FC5420 Objec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SP_ATTRIBUTES class = 197, C-Type =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 Attributes TLVs                       /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SP_REQUIRED_ATTRIBUTES class = 67, C-Type =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                 Attributes TLVs                        /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588-11FD-4B64-BA83-E0938B5598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FC5420 Path Message Narrativ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Y be carried in Path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is not significant (as is typical 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llow for any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HOULD be after the SESSION_ATTRIBUTE object or, when not present, after the LABEL_REQUEST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SP_REQUIRED_ATTRIBUTES object should come before LSP_ATTRIBUTES obje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 per class is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instances SHOULD be ignored and MUST be forwarded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388-2394-40A4-B471-574AAF681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posed Matching BN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ath Message&gt; ::=     &lt;Common Header&gt; [ &lt;INTEGRITY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[&lt;MESSAGE_ID_ACK&gt; | &lt;MESSAGE_ID_NACK&gt;] ...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MESSAGE_ID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SSION&gt; &lt;RSVP_HO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IME_VALUE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EXPLICIT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LABEL_REQUE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PROTECTION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LABEL_SET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ESSION_ATTRIB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 &lt;LSP_REQUIRED_ATTRIBUTES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NOTIFY_REQUE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ADMIN_STATUS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POLICY_DATA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nder descripto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&lt;S2L sub-LSP descriptor list&gt;]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/* from RFC4875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18D-AC42-4AFB-96CE-6528EF078D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FC5420 Resv Message Narrativ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Objects MAY be carried in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is not significant within a flow descrip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llow for any order, subject to the follo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are part of the flow descriptor, i.e., MUST follow a FILTER_SP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SHOULD follow immediately after the LABEL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 is significant per flow descrip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instances SHOULD be ignored and MUST be forwarded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reporting is per LSP not per P2MP SL2/des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8FA-399C-4262-9BF6-54E6E171B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posed Matching BNF – Per LS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F flow descriptor list&gt; ::= &lt;FF flow descripto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FF flow descriptor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F flow descriptor&gt;      ::= [ &lt;FLOWSPEC&gt; ] &lt;FILTER_SPEC&gt; &lt;LABE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 flow descriptor&gt;      ::= &lt;FLOWSPEC&gt; &lt;SE filter spec lis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 filter spec list&gt;     ::= &lt;SE filter spec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SE filter spec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 filter spec&gt;          ::= &lt;FILTER_SPEC&gt; &lt;LABEL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087-5502-4292-AB98-63D904F4B1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2MP Per Destination Attribu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bout reporting per P2MP destination (S2L) ATTRIBUTE objec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5420 allows reporting when all destinations have the same object values, what about when they don’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olution – Nar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port attributes per destina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P_ATTRIBUTES objects MUST follow a S2L_SUB_LSP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is significant per S2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instances SHOULD be ignored and MUST be forwarded unchang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CC5-4C02-4455-999E-BD25C6B8AA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posed Matching BNF – Per S2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F flow descriptor&gt; ::= [ &lt;FLOWSPEC&gt; ] &lt;FILTER_SPEC&gt; &lt;LABE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 filter spec&gt;     ::= &lt;FILTER_SPEC&gt; &lt;LABEL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RECORD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2L sub-LSP flow descriptor list&gt; ::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2L sub-LSP flow descripto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S2L sub-LSP flow descriptor list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2L sub-LSP flow descriptor&gt;      ::= &lt;S2L_SUB_LS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 &lt;LSP_ATTRIBUTES&gt; ...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&lt;P2MP_SECONDARY_RECORD_ROUTE&gt;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AMP - 78th IE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316-7C26-4F80-81C7-DC9B70C776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Lou Berger</dc:creator>
  <dc:description/>
  <dc:language>en-US</dc:language>
  <cp:lastModifiedBy>Lou Berger</cp:lastModifiedBy>
  <dcterms:modified xsi:type="dcterms:W3CDTF">2010-07-25T01:37:45Z</dcterms:modified>
  <cp:revision>164</cp:revision>
  <dc:subject/>
  <dc:title>Attribute BNF</dc:title>
</cp:coreProperties>
</file>